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5DB-B57E-4F61-A1E0-CB2B4246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3B5-0182-4F48-87CC-3CE80E3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5CB-390D-4FE4-9946-6B11D596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A2B-4E70-4BCF-959A-CFFC1303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70A-F456-42A9-9113-4CDED446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76F-C4D5-4A96-8201-1A1597F4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87F-1C81-4F59-915A-D96D580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D2B-71B4-40E7-B8BB-B4473658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2CF-9995-45BA-8D4C-077BFE7A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E1A-6E31-4A14-93C2-66CE8FF1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7F4-AB01-40B8-B2C1-8BF0E7B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C9C-F282-44C8-A5A4-0482572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49A-7B7F-4723-A321-EF6BFD823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7621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58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5273&amp;psrc=W&amp;tar=/content/dailyphoto/internal_data/dAtA20000806/photo1-20000806.wbz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9766&amp;psrc=W&amp;tar=/content/dailyphoto/internal_data/dAtA20000121/photo1-20000121.wbz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9615&amp;psrc=W&amp;tar=/content/dailyphoto/internal_data/dAtA20000130/photo0-20000130.wbz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6609&amp;psrc=W&amp;tar=/content/dailyphoto/internal_data/dAtA19991215/photo0-19991215.wbz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6615&amp;psrc=W&amp;tar=/content/dailyphoto/internal_data/dAtA19990923/photo1-19990923.wbz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2784&amp;psrc=W&amp;tar=/content/dailyphoto/internal_data/dAtA20000418/photo1-20000418.wbz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0974&amp;psrc=W&amp;tar=/content/dailyphoto/internal_data/dAtA20000228/photo1-20000228.wbz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0869&amp;psrc=W&amp;tar=/content/dailyphoto/internal_data/dAtA20000128/photo1-20000128.wbz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3410&amp;psrc=W&amp;tar=/content/dailyphoto/internal_data/dAtA19990410/photo1-19990410.wbz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daily.webshots.com/scripts/photo.fcgi?pid=6388&amp;psrc=W&amp;tar=/content/dailyphoto/internal_data/dAtA19991206/photo1-19991206.wbz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0399&amp;psrc=W&amp;tar=/content/dailyphoto/internal_data/dAtA20010506/photo0-20010506.wbz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2942&amp;psrc=W&amp;tar=/content/dailyphoto/internal_data/dAtA20000414/photo1-20000414.wbz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aily.webshots.com/content/dailyphoto/archives/19990510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0409&amp;psrc=W&amp;tar=/content/dailyphoto/internal_data/dAtA20010425/photo0-20010425.wbz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4120&amp;psrc=W&amp;tar=/content/dailyphoto/internal_data/dAtA19990910/photo0-19990910.wbz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5656&amp;psrc=W&amp;tar=/content/dailyphoto/internal_data/dAtA19990811/photo0-19990811.wbz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3407&amp;psrc=W&amp;tar=/content/dailyphoto/internal_data/dAtA19990804/photo0-19990804.wbz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3971&amp;psrc=W&amp;tar=/content/dailyphoto/internal_data/dAtA19991004/photo0-19991004.wbz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526&amp;psrc=W&amp;tar=/content/dailyphoto/internal_data/dAtA19990105/photo0-19990105.wbz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8820&amp;psrc=W&amp;tar=/content/dailyphoto/internal_data/dAtA19991214/photo0-19991214.wbz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7095&amp;psrc=W&amp;tar=/content/dailyphoto/internal_data/dAtA20000506/photo0-20000506.wbz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4313&amp;psrc=W&amp;tar=/content/dailyphoto/internal_data/dAtA20010801/photo0-20010801.wbz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2564&amp;psrc=W&amp;tar=/content/dailyphoto/internal_data/dAtA20000403/photo1-20000403.wbz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6560" y="19843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alah dengan teliti, ini sangat pen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887-mid" descr=""/>
          <p:cNvPicPr/>
          <p:nvPr/>
        </p:nvPicPr>
        <p:blipFill>
          <a:blip r:embed="rId1"/>
          <a:stretch/>
        </p:blipFill>
        <p:spPr>
          <a:xfrm>
            <a:off x="5524560" y="28670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71800"/>
            <a:ext cx="9144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tuk mengakhiri: ”Keindahan persahabatan adalah bahwa kamu tahu kep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apa kamu dapat mempercayakan rahasia.” (Alessandro Manzo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6280" y="186048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280" y="1616040"/>
            <a:ext cx="647244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berapa baris untuk direnungka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ka kau menerima pesan ini, ketahuilah bahw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 orang yang bermaksud baik pada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bahwa dari dirimu ada juga orang yang kau kasi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ka kau terlalu sibuk untuk menyisihkan beberapa menit untuk meneruskan ini kepada orang lain dan berpiki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ya akan melakukannya beberapa hari yang akan datang", lupakan sa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rena mungkin kau tidak akan pernah melakukann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ntra ini datang dari bagian Utara In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2680" y="170352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805120"/>
            <a:ext cx="380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718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ah kau percaya tahyul atau tidak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ihkanlah beberapa menit untuk membaca ini. Ada beberapa pes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baik untuk jiwa kit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2960" y="1795320"/>
            <a:ext cx="171468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5892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ilah kepada orang lebih dari yang mereka harapk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 lakukan secara bijaks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546360"/>
            <a:ext cx="21636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3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kinlah pada dirimu ketika berkata: ”Aku mencintaimu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6880" y="3087720"/>
            <a:ext cx="2887560" cy="2136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320" y="2049480"/>
            <a:ext cx="49982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ka kau berkata: “Aku menyesal,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taplah mata lawan bicara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84920" y="3672000"/>
            <a:ext cx="17143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7440" y="3392640"/>
            <a:ext cx="72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ngan permainkan harapan orang la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ngkin kau bisa tersinggu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tapi itulah satu-satunya cara untuk menjalani hidup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720" y="1719360"/>
            <a:ext cx="214164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629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gan adili orang lain, tetapi adili dirimu secara k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2800" y="3573360"/>
            <a:ext cx="2124000" cy="1571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76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caralah pelan, tetapi cepat dalam berpik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85880"/>
            <a:ext cx="1714680" cy="126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hoto1-preview" descr="Photo 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6840" y="395604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910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ika kau ditanya sesuatu yang tak ingin kau jawab, senyumla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tanya: ”Mengapa kamu mau tahu?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94480" y="1843200"/>
            <a:ext cx="201456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881-mid" descr=""/>
          <p:cNvPicPr/>
          <p:nvPr/>
        </p:nvPicPr>
        <p:blipFill>
          <a:blip r:embed="rId1"/>
          <a:stretch/>
        </p:blipFill>
        <p:spPr>
          <a:xfrm>
            <a:off x="3238560" y="8492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982960"/>
            <a:ext cx="9144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nah ada anak lelaki dengan watak buruk. Ayahnya memberi dia sekan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uh paku, dan menyuruh memaku satu batang paku di pagar pekarangan seti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li dia kehilangan kesabarannya atau berselisih paham dengan orang l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754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atlah bahwa kasih yang paling indah dan sukses yang terbes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andung banyak risik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09520" y="1874880"/>
            <a:ext cx="2328840" cy="1722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2805120"/>
            <a:ext cx="434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7320" y="3662280"/>
            <a:ext cx="7810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ka kau kala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gan lupakan pelajaran dibalik kekalahan 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2996-smal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873080"/>
            <a:ext cx="2263680" cy="17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16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gai diri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gai orang l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rtanggung jawablah atas tindakan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20920" y="3213000"/>
            <a:ext cx="2683080" cy="19861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42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ngan biarkan selisih paham merusak indahnya persahabat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43400" y="3290760"/>
            <a:ext cx="2546280" cy="188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96960" y="2786040"/>
            <a:ext cx="638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senyumlah ketika menjawab tilp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ng yang menilpon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kan mendengarnya dari suara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080" y="2963880"/>
            <a:ext cx="17143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2805120"/>
            <a:ext cx="37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6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a yang tersir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2680" y="1717560"/>
            <a:ext cx="171468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280512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668760"/>
            <a:ext cx="60199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a kau tidak mendapatkan apa yang kau inginka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ngkin saja itu keberuntungan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50760" y="1639800"/>
            <a:ext cx="2460600" cy="1820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760" y="31654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EM TANTRA ini harus dikirim dalam 96 j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rimlah beberapa copy dan lihat apa yang terjadi pada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lam beberapa hari mendata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 benar, walaupun kau tidak percaya tahyu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13400" y="1666800"/>
            <a:ext cx="216396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840" y="2738520"/>
            <a:ext cx="8966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sekarang sisanya... Kirim pesan ini kepada paling kurang 5 or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hidupmu akan menjadi lebih bai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- 4 orang: hidup akan menjadi lebih ba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- 9 orang: hidup menjadi lebih baik dan harapanmu akan terpenu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 - 14 orang: kau akan mendapatkan 5 kejutan dalam 3 minggu mendat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orang atau lebih: hidupmu menjadi lebih baik, dan apa yang pernah kau impikan, mulai menjadi kenyata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2040" y="1197000"/>
            <a:ext cx="1982880" cy="14670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05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ika kau tiba pada akhir berita ini, proficia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hoto1-preview" descr="Photo 2"/>
          <p:cNvPicPr/>
          <p:nvPr/>
        </p:nvPicPr>
        <p:blipFill>
          <a:blip r:embed="rId1"/>
          <a:stretch/>
        </p:blipFill>
        <p:spPr>
          <a:xfrm>
            <a:off x="5272200" y="2995560"/>
            <a:ext cx="3012840" cy="2228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24120" y="28843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6920" y="3002040"/>
            <a:ext cx="68770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i pertama dia memaku 37 batang di pag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da minggu-minggu berikutnya dia belajar untuk menahan diri, dan jumlah paku yang dipakainya berkurang dari hari ke har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 mendapatkan bahwa lebih gampang menahan di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ripada memaku di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hoto0-preview" descr="Photo 1"/>
          <p:cNvPicPr/>
          <p:nvPr/>
        </p:nvPicPr>
        <p:blipFill>
          <a:blip r:embed="rId1"/>
          <a:stretch/>
        </p:blipFill>
        <p:spPr>
          <a:xfrm>
            <a:off x="442800" y="168588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55800" y="2319480"/>
            <a:ext cx="42166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 note of ap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Courier New"/>
              </a:rPr>
              <a:t>Mr. Desnoyers, Mr. Bogaerts, and Ms. Simoneau, I’m very sorry for replacing your message to Bahasa Indonesia without your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Courier New"/>
              </a:rPr>
              <a:t>Actually, my father send me the original file (Nagels.pps) with his translation in a separate text. The best way I can catch the message is to combine both of them. And I think many of my fellow Indonesians agre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Courier New"/>
              </a:rPr>
              <a:t>Father, after ‘</a:t>
            </a:r>
            <a:r>
              <a:rPr b="0" lang="fr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Lees tussen de lijnen ’, I tried to make the Bahasa version sounds better. You are the bes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Thank you for sending me the messag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A son.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10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Courier New"/>
              </a:rPr>
              <a:t>Origineel bericht van ANDRÉ DESNO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17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op  Power Point gezet door SYLVIE SIMONEA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ertaald uit het Frans door GUSTAAF BOGA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1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khirnya tiba hari ketika dia tidak perlu lagi memaku sebatang paku p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dengan gembira disampaikannya hal itu kepada ayahn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hoto1-preview" descr="Photo 2"/>
          <p:cNvPicPr/>
          <p:nvPr/>
        </p:nvPicPr>
        <p:blipFill>
          <a:blip r:embed="rId1"/>
          <a:stretch/>
        </p:blipFill>
        <p:spPr>
          <a:xfrm>
            <a:off x="1422360" y="173196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89240"/>
            <a:ext cx="9144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yahnya kemudian menyuruhnya mencabut sebatang paku dari pagar setiap h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a dia berhasil menahan diri/bersab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i-hari berlalu dan akhirnya tiba harinya dia bisa menyampaikan kepada ayahny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hwa semua paku sudah tercabut dari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hoto1-preview" descr="Photo 2"/>
          <p:cNvPicPr/>
          <p:nvPr/>
        </p:nvPicPr>
        <p:blipFill>
          <a:blip r:embed="rId1"/>
          <a:stretch/>
        </p:blipFill>
        <p:spPr>
          <a:xfrm>
            <a:off x="3614760" y="173340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9440" y="3327480"/>
            <a:ext cx="75945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g ayah membawa anaknya ke pagar dan berka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kku, kamu sudah berlaku bai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tapi coba lihat betapa banyak lubang yang ada di paga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240" y="173196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11464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ar ini tidak akan kembali seperti semu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lau kamu berselisih paham atau bertengkar dengan orang la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l itu selalu meninggalkan luka seperti pad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hoto1-preview" descr="Photo 2"/>
          <p:cNvPicPr/>
          <p:nvPr/>
        </p:nvPicPr>
        <p:blipFill>
          <a:blip r:embed="rId1"/>
          <a:stretch/>
        </p:blipFill>
        <p:spPr>
          <a:xfrm>
            <a:off x="6453360" y="379872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800" y="1800360"/>
            <a:ext cx="878220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u bisa menusukkan pisau di punggung orang dan mencabutnya kembal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tapi akan meninggalkan luk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 peduli berapa kali kau meminta maaf/menyesal, lukanya tingg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ka melalui ucapan sama perihnya seperti luka fisi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wan-kawan adalah perhiasan yang langk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eka membuatmu tertawa dan memberimu semang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eka bersedia mendengarkan jika itu kau perluk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eka menunjang dan membuka hati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njukkanlah kepada teman-teman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apa kau menyukai mere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4600" y="3925800"/>
            <a:ext cx="171468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5764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rim surat ini kepada mereka yang kau anggap tem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aupun berarti kau mengembalikannya kepada yang mengirimnya kepada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a pesan ini kembali padamu, itu berarti bahwa kau mempunyai lingkaran tem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65400" y="170172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8:06:55Z</dcterms:created>
  <dc:creator>Isabelle GUERRY</dc:creator>
  <dc:description/>
  <dc:language>en-US</dc:language>
  <cp:lastModifiedBy>besoet</cp:lastModifiedBy>
  <dcterms:modified xsi:type="dcterms:W3CDTF">2002-01-11T04:19:13Z</dcterms:modified>
  <cp:revision>80</cp:revision>
  <dc:subject/>
  <dc:title>PowerPoint Presentation</dc:title>
</cp:coreProperties>
</file>