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B69-6736-46EF-ABB3-6CC0C64E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A4D-692B-4B7E-AFEC-8D691884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60C-6F3D-409A-8A7E-DF792ECC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963-7883-4DA0-95FF-D66567EF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413-3BDC-4D71-A5BE-0020FEDF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4C4-53C6-457F-B844-B682EDA0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70B-4F1A-4222-9290-E8B2F29E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13D-5C8E-4ABA-A434-84FD3684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1D3-C9BF-47AE-BE40-20017912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CDA-CF67-4137-B9D5-ED4A40F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633-3CE7-4740-A46D-8BD0AFB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807-DFFD-4FE4-B8AE-4BCB340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41D2-C0D4-40DE-8086-E09F8AAE54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2520" y="2023920"/>
            <a:ext cx="8167320" cy="2061000"/>
            <a:chOff x="452520" y="2023920"/>
            <a:chExt cx="8167320" cy="2061000"/>
          </a:xfrm>
        </p:grpSpPr>
        <p:cxnSp>
          <p:nvCxnSpPr>
            <p:cNvPr id="42" name="_s6190"/>
            <p:cNvCxnSpPr>
              <a:stCxn id="43" idx="0"/>
              <a:endCxn id="44" idx="2"/>
            </p:cNvCxnSpPr>
            <p:nvPr/>
          </p:nvCxnSpPr>
          <p:spPr>
            <a:xfrm flipV="1" rot="16200000">
              <a:off x="7052760" y="2623680"/>
              <a:ext cx="228960" cy="1315080"/>
            </a:xfrm>
            <a:prstGeom prst="bentConnector5">
              <a:avLst>
                <a:gd name="adj1" fmla="val 101259"/>
                <a:gd name="adj2" fmla="val -60514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6188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6394680" y="3280680"/>
              <a:ext cx="228960" cy="1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6186"/>
            <p:cNvCxnSpPr>
              <a:stCxn id="48" idx="0"/>
              <a:endCxn id="44" idx="2"/>
            </p:cNvCxnSpPr>
            <p:nvPr/>
          </p:nvCxnSpPr>
          <p:spPr>
            <a:xfrm flipH="1" flipV="1" rot="5400000">
              <a:off x="5736960" y="2623320"/>
              <a:ext cx="228960" cy="1316160"/>
            </a:xfrm>
            <a:prstGeom prst="bentConnector5">
              <a:avLst>
                <a:gd name="adj1" fmla="val 101259"/>
                <a:gd name="adj2" fmla="val -60437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6184"/>
            <p:cNvCxnSpPr>
              <a:stCxn id="44" idx="0"/>
              <a:endCxn id="50" idx="2"/>
            </p:cNvCxnSpPr>
            <p:nvPr/>
          </p:nvCxnSpPr>
          <p:spPr>
            <a:xfrm flipV="1" rot="16200000">
              <a:off x="5408640" y="1608480"/>
              <a:ext cx="228960" cy="1973520"/>
            </a:xfrm>
            <a:prstGeom prst="bentConnector5">
              <a:avLst>
                <a:gd name="adj1" fmla="val 101259"/>
                <a:gd name="adj2" fmla="val 52545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6182"/>
            <p:cNvCxnSpPr>
              <a:stCxn id="52" idx="0"/>
              <a:endCxn id="53" idx="2"/>
            </p:cNvCxnSpPr>
            <p:nvPr/>
          </p:nvCxnSpPr>
          <p:spPr>
            <a:xfrm flipV="1" rot="16200000">
              <a:off x="3106800" y="2623680"/>
              <a:ext cx="228960" cy="1315080"/>
            </a:xfrm>
            <a:prstGeom prst="bentConnector5">
              <a:avLst>
                <a:gd name="adj1" fmla="val 101259"/>
                <a:gd name="adj2" fmla="val -60487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6180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448720" y="3280680"/>
              <a:ext cx="228960" cy="1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6178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1791000" y="2623320"/>
              <a:ext cx="228960" cy="1316160"/>
            </a:xfrm>
            <a:prstGeom prst="bentConnector5">
              <a:avLst>
                <a:gd name="adj1" fmla="val 101259"/>
                <a:gd name="adj2" fmla="val -60437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6154"/>
            <p:cNvCxnSpPr>
              <a:stCxn id="53" idx="0"/>
              <a:endCxn id="50" idx="2"/>
            </p:cNvCxnSpPr>
            <p:nvPr/>
          </p:nvCxnSpPr>
          <p:spPr>
            <a:xfrm flipH="1" flipV="1" rot="5400000">
              <a:off x="3435480" y="1608840"/>
              <a:ext cx="228960" cy="1973160"/>
            </a:xfrm>
            <a:prstGeom prst="bentConnector5">
              <a:avLst>
                <a:gd name="adj1" fmla="val 101259"/>
                <a:gd name="adj2" fmla="val 52554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6156"/>
            <p:cNvSpPr/>
            <p:nvPr/>
          </p:nvSpPr>
          <p:spPr>
            <a:xfrm>
              <a:off x="3955320" y="2023920"/>
              <a:ext cx="11624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Times New Roman"/>
                </a:rPr>
                <a:t>Rocas y Miner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6158"/>
            <p:cNvSpPr/>
            <p:nvPr/>
          </p:nvSpPr>
          <p:spPr>
            <a:xfrm>
              <a:off x="1882080" y="2709720"/>
              <a:ext cx="13633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Times New Roman"/>
                </a:rPr>
                <a:t>Diferencias entre ell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6177"/>
            <p:cNvSpPr/>
            <p:nvPr/>
          </p:nvSpPr>
          <p:spPr>
            <a:xfrm>
              <a:off x="68436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Composi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6179"/>
            <p:cNvSpPr/>
            <p:nvPr/>
          </p:nvSpPr>
          <p:spPr>
            <a:xfrm>
              <a:off x="199944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Tamaño de los miner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6181"/>
            <p:cNvSpPr/>
            <p:nvPr/>
          </p:nvSpPr>
          <p:spPr>
            <a:xfrm>
              <a:off x="331488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Durez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_s6183"/>
            <p:cNvSpPr/>
            <p:nvPr/>
          </p:nvSpPr>
          <p:spPr>
            <a:xfrm>
              <a:off x="5828040" y="2709720"/>
              <a:ext cx="13633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Capas de la Geosf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6185"/>
            <p:cNvSpPr/>
            <p:nvPr/>
          </p:nvSpPr>
          <p:spPr>
            <a:xfrm>
              <a:off x="463032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Cortez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6187"/>
            <p:cNvSpPr/>
            <p:nvPr/>
          </p:nvSpPr>
          <p:spPr>
            <a:xfrm>
              <a:off x="594540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Ma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_s6189"/>
            <p:cNvSpPr/>
            <p:nvPr/>
          </p:nvSpPr>
          <p:spPr>
            <a:xfrm>
              <a:off x="726084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Núcle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rosión, transporte y sedim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39880" y="2200320"/>
            <a:ext cx="56628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r qué el relieve es cada vez más lla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 las etapas de erosión, transporte y sedimentación. Puedes ayudarte de un dib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se forman las rocas sedimentar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774080" y="1523520"/>
            <a:ext cx="5595120" cy="1813320"/>
            <a:chOff x="1774080" y="1523520"/>
            <a:chExt cx="5595120" cy="1813320"/>
          </a:xfrm>
        </p:grpSpPr>
        <p:cxnSp>
          <p:nvCxnSpPr>
            <p:cNvPr id="88" name="_s23579"/>
            <p:cNvCxnSpPr>
              <a:stCxn id="89" idx="0"/>
              <a:endCxn id="90" idx="2"/>
            </p:cNvCxnSpPr>
            <p:nvPr/>
          </p:nvCxnSpPr>
          <p:spPr>
            <a:xfrm flipH="1" flipV="1" rot="5400000">
              <a:off x="6322320" y="2764440"/>
              <a:ext cx="229680" cy="1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3577"/>
            <p:cNvCxnSpPr>
              <a:stCxn id="92" idx="1"/>
              <a:endCxn id="93" idx="2"/>
            </p:cNvCxnSpPr>
            <p:nvPr/>
          </p:nvCxnSpPr>
          <p:spPr>
            <a:xfrm rot="10800000">
              <a:off x="2706480" y="2650320"/>
              <a:ext cx="310680" cy="45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3558"/>
            <p:cNvCxnSpPr>
              <a:stCxn id="90" idx="0"/>
              <a:endCxn id="95" idx="2"/>
            </p:cNvCxnSpPr>
            <p:nvPr/>
          </p:nvCxnSpPr>
          <p:spPr>
            <a:xfrm flipV="1" rot="16200000">
              <a:off x="5389560" y="1145880"/>
              <a:ext cx="230760" cy="1865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3560"/>
            <p:cNvCxnSpPr>
              <a:stCxn id="93" idx="0"/>
              <a:endCxn id="95" idx="2"/>
            </p:cNvCxnSpPr>
            <p:nvPr/>
          </p:nvCxnSpPr>
          <p:spPr>
            <a:xfrm flipH="1" flipV="1" rot="5400000">
              <a:off x="3524760" y="1145160"/>
              <a:ext cx="230760" cy="186660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23562"/>
            <p:cNvSpPr/>
            <p:nvPr/>
          </p:nvSpPr>
          <p:spPr>
            <a:xfrm>
              <a:off x="3755880" y="1523520"/>
              <a:ext cx="163368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Rocas e interior de la tier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3563"/>
            <p:cNvSpPr/>
            <p:nvPr/>
          </p:nvSpPr>
          <p:spPr>
            <a:xfrm>
              <a:off x="177408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Volca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3566"/>
            <p:cNvSpPr/>
            <p:nvPr/>
          </p:nvSpPr>
          <p:spPr>
            <a:xfrm>
              <a:off x="550476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Terremo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3576"/>
            <p:cNvSpPr/>
            <p:nvPr/>
          </p:nvSpPr>
          <p:spPr>
            <a:xfrm>
              <a:off x="301716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Rocas magmát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3578"/>
            <p:cNvSpPr/>
            <p:nvPr/>
          </p:nvSpPr>
          <p:spPr>
            <a:xfrm>
              <a:off x="5504760" y="2880000"/>
              <a:ext cx="186336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Capas tectón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lc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rocas fundidas del interior de la tierra o MAGMA, salen por grietas formadas en la corteza terrestre o VOLC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magma que sale baja por la ladera del volcán y ahora se llama LAVA. Cuando se enfría forma rocas como el BASAL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alen cenizas y gases en la erupción volcá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el magma se enfría dentro del volcán forma rocas como el GRAN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rocas que se originan de volcanes se llaman MAGM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erremo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alor del interior de la tierra da lugar a movimientos de masas de r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ndo las placas tectónicas se mueven, las rocas se rompen y originan tembl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os temblores son los terremo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por un casual pasaran dentro del agua serían maremo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ambios de relie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c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lava y la ceniza cubren todo el terr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forman rocas magmáticas y el cono volc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erremo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hunden los terrenos, se elevan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crean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íos desvían su cur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plica cómo se originan el granito y el basalto a partir de un volc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es un terremot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cambian el relieve los volcan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cambian el relieve los terremo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493640" y="1523880"/>
            <a:ext cx="6467040" cy="1083240"/>
            <a:chOff x="1493640" y="1523880"/>
            <a:chExt cx="6467040" cy="1083240"/>
          </a:xfrm>
        </p:grpSpPr>
        <p:cxnSp>
          <p:nvCxnSpPr>
            <p:cNvPr id="106" name="_s15415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750640" y="933840"/>
              <a:ext cx="217800" cy="226224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5400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4619160" y="2064240"/>
              <a:ext cx="217800" cy="216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5372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3487680" y="932400"/>
              <a:ext cx="217800" cy="226548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5374"/>
            <p:cNvSpPr/>
            <p:nvPr/>
          </p:nvSpPr>
          <p:spPr>
            <a:xfrm>
              <a:off x="3759120" y="1523880"/>
              <a:ext cx="193860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Utilidad de rocas y mine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5"/>
            <p:cNvSpPr/>
            <p:nvPr/>
          </p:nvSpPr>
          <p:spPr>
            <a:xfrm>
              <a:off x="1493640" y="2174040"/>
              <a:ext cx="194004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Utilizamos rocas y mine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15399"/>
            <p:cNvSpPr/>
            <p:nvPr/>
          </p:nvSpPr>
          <p:spPr>
            <a:xfrm>
              <a:off x="3756960" y="2174040"/>
              <a:ext cx="19404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Extraemos rocas y mine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15414"/>
            <p:cNvSpPr/>
            <p:nvPr/>
          </p:nvSpPr>
          <p:spPr>
            <a:xfrm>
              <a:off x="6020640" y="2174040"/>
              <a:ext cx="194004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Influencia en las person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tilizamos rocas y mi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38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teriales de construcción: muros, ladrillos, tej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teriales de decoración: mármol, diamantes, rubí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tener materiales: materia prima que nos permite fabricar instrumentos. Ejemplo: hie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0000"/>
                </a:solidFill>
                <a:latin typeface="Times New Roman"/>
              </a:rPr>
              <a:t>Extracción de rocas y mineral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xtraen de yacimientos. Para extraer los materiales de allí hay dos f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teras o minas a cielo abierto: agujeros o cortes en el terreno que se usan para sacar rocas o minerales d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as: pozos, túneles y galerías para extraer rocas y minerales del interior de la corteza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Y FAMOSAS EN ASTUR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rocas y los mi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987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rocas son materiales que forman la corteza y el manto de la geosfera. Están formadas por mine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Influencia de la extracción de rocas en la vida cotidian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63844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truye el paisaje, vegetación y fau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era ruidos y polvo que pueden ser dañ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los extraemos “con cabeza” al final se ga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dos cosas bue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 trabajo a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tenemos materia prima para construir cos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me tres utilidades que tienen las rocas que se extraen de la corteza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ca en tu casa 3 objetos que estén hechos con rocas o minerales y dime a partir de qué material están hec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diferencia hay entre una cantera y una mina subterránea? ¿En qué se parec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efectos, tanto buenos como malos, tiene la extracción de rocas de la corteza terrest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ocas y los mi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846520"/>
            <a:ext cx="78469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edad de minerales que las comp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de los minerales que las comp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u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rtes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25636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19200"/>
            <a:ext cx="7773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¿En qué se diferencia una roca de un mine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¿Cuáles son las tres características que nos permiten diferenciar entre unas rocas y otr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¿Cuáles son las 3 capas que forman la tier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00000" y="2086560"/>
            <a:ext cx="7416720" cy="1127520"/>
            <a:chOff x="900000" y="2086560"/>
            <a:chExt cx="7416720" cy="1127520"/>
          </a:xfrm>
        </p:grpSpPr>
        <p:cxnSp>
          <p:nvCxnSpPr>
            <p:cNvPr id="68" name="_s11343"/>
            <p:cNvCxnSpPr>
              <a:stCxn id="69" idx="0"/>
              <a:endCxn id="70" idx="2"/>
            </p:cNvCxnSpPr>
            <p:nvPr/>
          </p:nvCxnSpPr>
          <p:spPr>
            <a:xfrm flipV="1" rot="16200000">
              <a:off x="5936040" y="1199160"/>
              <a:ext cx="228960" cy="28839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1288"/>
            <p:cNvCxnSpPr>
              <a:stCxn id="72" idx="0"/>
              <a:endCxn id="70" idx="2"/>
            </p:cNvCxnSpPr>
            <p:nvPr/>
          </p:nvCxnSpPr>
          <p:spPr>
            <a:xfrm flipV="1" rot="16200000">
              <a:off x="4975200" y="2160000"/>
              <a:ext cx="228960" cy="961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1275"/>
            <p:cNvCxnSpPr>
              <a:stCxn id="74" idx="0"/>
              <a:endCxn id="70" idx="2"/>
            </p:cNvCxnSpPr>
            <p:nvPr/>
          </p:nvCxnSpPr>
          <p:spPr>
            <a:xfrm flipH="1" flipV="1" rot="5400000">
              <a:off x="3052080" y="1198800"/>
              <a:ext cx="228960" cy="28850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1276"/>
            <p:cNvCxnSpPr>
              <a:stCxn id="76" idx="0"/>
              <a:endCxn id="70" idx="2"/>
            </p:cNvCxnSpPr>
            <p:nvPr/>
          </p:nvCxnSpPr>
          <p:spPr>
            <a:xfrm flipH="1" flipV="1" rot="5400000">
              <a:off x="4012920" y="2159640"/>
              <a:ext cx="228960" cy="963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0" name="_s11277"/>
            <p:cNvSpPr/>
            <p:nvPr/>
          </p:nvSpPr>
          <p:spPr>
            <a:xfrm>
              <a:off x="3905280" y="2086560"/>
              <a:ext cx="140580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Las rocas y la superfic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terres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1278"/>
            <p:cNvSpPr/>
            <p:nvPr/>
          </p:nvSpPr>
          <p:spPr>
            <a:xfrm>
              <a:off x="900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Las rocas camb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1279"/>
            <p:cNvSpPr/>
            <p:nvPr/>
          </p:nvSpPr>
          <p:spPr>
            <a:xfrm>
              <a:off x="282312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Desgas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1287"/>
            <p:cNvSpPr/>
            <p:nvPr/>
          </p:nvSpPr>
          <p:spPr>
            <a:xfrm>
              <a:off x="474588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ros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342"/>
            <p:cNvSpPr/>
            <p:nvPr/>
          </p:nvSpPr>
          <p:spPr>
            <a:xfrm>
              <a:off x="6669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Sediment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te parezca mentira, las rocas cambian su forma, composición, posi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pasa es que es un proceso muuuuuuuuy l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ocas camb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iclo de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gastan por varias causas: lluvia, frío… Este proceso se llama ERO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transportan los pedacitos de rocas de un lugar a otro: aire, agua… Este proceso se llama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os pedacitos se depositan en un lugar determinado, formando SEDIMEN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edimentos se transforman en rocas sedimentarias (por ejemplo, la arcil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Formación de rocas Sediment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edimentos se van depositando en un determinado l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vez hay más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o hay muchos, los de abajo, gracias al peso de los de arriba, empiezan a apretarse tanto tanto que se juntan 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n una bonita roca sediment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a MD25</cp:lastModifiedBy>
  <dcterms:modified xsi:type="dcterms:W3CDTF">2012-02-05T10:27:47Z</dcterms:modified>
  <cp:revision>9</cp:revision>
  <dc:subject/>
  <dc:title>PowerPoint Presentation</dc:title>
</cp:coreProperties>
</file>