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408-21EC-4B13-A0AF-90B526F9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18A-8F7F-4E50-AD2A-C378B8E6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471-7496-40BE-88CB-0D678089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767-FD4B-44BD-8CE0-96FC0083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DAA-2035-4ED9-9E4F-17B466FA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9FC-01D8-4524-9749-A0C48D3C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CFC-F829-429E-ACA8-EB7988F4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EA7-3FDA-4034-B8B0-F1605797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46B-A3BA-46CE-BE12-2447071C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28A-8BEA-4BDC-9F69-AEA7D09F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8FE-E155-4320-96E6-21E35EF4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778-A4EE-4340-A8F4-54144F27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69FB-CF8B-4511-A75A-790D9DFB6FF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2520" y="2023920"/>
            <a:ext cx="8167320" cy="2061000"/>
            <a:chOff x="452520" y="2023920"/>
            <a:chExt cx="8167320" cy="2061000"/>
          </a:xfrm>
        </p:grpSpPr>
        <p:cxnSp>
          <p:nvCxnSpPr>
            <p:cNvPr id="42" name="_s6190"/>
            <p:cNvCxnSpPr>
              <a:stCxn id="43" idx="0"/>
              <a:endCxn id="44" idx="2"/>
            </p:cNvCxnSpPr>
            <p:nvPr/>
          </p:nvCxnSpPr>
          <p:spPr>
            <a:xfrm flipV="1" rot="16200000">
              <a:off x="7052760" y="2623680"/>
              <a:ext cx="228960" cy="1315080"/>
            </a:xfrm>
            <a:prstGeom prst="bentConnector5">
              <a:avLst>
                <a:gd name="adj1" fmla="val 101259"/>
                <a:gd name="adj2" fmla="val -60514"/>
                <a:gd name="adj3" fmla="val -3015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6188"/>
            <p:cNvCxnSpPr>
              <a:stCxn id="46" idx="0"/>
              <a:endCxn id="44" idx="2"/>
            </p:cNvCxnSpPr>
            <p:nvPr/>
          </p:nvCxnSpPr>
          <p:spPr>
            <a:xfrm flipH="1" flipV="1" rot="5400000">
              <a:off x="6394680" y="3280680"/>
              <a:ext cx="228960" cy="10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6186"/>
            <p:cNvCxnSpPr>
              <a:stCxn id="48" idx="0"/>
              <a:endCxn id="44" idx="2"/>
            </p:cNvCxnSpPr>
            <p:nvPr/>
          </p:nvCxnSpPr>
          <p:spPr>
            <a:xfrm flipH="1" flipV="1" rot="5400000">
              <a:off x="5736960" y="2623320"/>
              <a:ext cx="228960" cy="1316160"/>
            </a:xfrm>
            <a:prstGeom prst="bentConnector5">
              <a:avLst>
                <a:gd name="adj1" fmla="val 101259"/>
                <a:gd name="adj2" fmla="val -60437"/>
                <a:gd name="adj3" fmla="val -3015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6184"/>
            <p:cNvCxnSpPr>
              <a:stCxn id="44" idx="0"/>
              <a:endCxn id="50" idx="2"/>
            </p:cNvCxnSpPr>
            <p:nvPr/>
          </p:nvCxnSpPr>
          <p:spPr>
            <a:xfrm flipV="1" rot="16200000">
              <a:off x="5408640" y="1608480"/>
              <a:ext cx="228960" cy="1973520"/>
            </a:xfrm>
            <a:prstGeom prst="bentConnector5">
              <a:avLst>
                <a:gd name="adj1" fmla="val 101259"/>
                <a:gd name="adj2" fmla="val 52545"/>
                <a:gd name="adj3" fmla="val -1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6182"/>
            <p:cNvCxnSpPr>
              <a:stCxn id="52" idx="0"/>
              <a:endCxn id="53" idx="2"/>
            </p:cNvCxnSpPr>
            <p:nvPr/>
          </p:nvCxnSpPr>
          <p:spPr>
            <a:xfrm flipV="1" rot="16200000">
              <a:off x="3106800" y="2623680"/>
              <a:ext cx="228960" cy="1315080"/>
            </a:xfrm>
            <a:prstGeom prst="bentConnector5">
              <a:avLst>
                <a:gd name="adj1" fmla="val 101259"/>
                <a:gd name="adj2" fmla="val -60487"/>
                <a:gd name="adj3" fmla="val -3015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6180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2448720" y="3280680"/>
              <a:ext cx="228960" cy="10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6178"/>
            <p:cNvCxnSpPr>
              <a:stCxn id="57" idx="0"/>
              <a:endCxn id="53" idx="2"/>
            </p:cNvCxnSpPr>
            <p:nvPr/>
          </p:nvCxnSpPr>
          <p:spPr>
            <a:xfrm flipH="1" flipV="1" rot="5400000">
              <a:off x="1791000" y="2623320"/>
              <a:ext cx="228960" cy="1316160"/>
            </a:xfrm>
            <a:prstGeom prst="bentConnector5">
              <a:avLst>
                <a:gd name="adj1" fmla="val 101259"/>
                <a:gd name="adj2" fmla="val -60437"/>
                <a:gd name="adj3" fmla="val -3015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6154"/>
            <p:cNvCxnSpPr>
              <a:stCxn id="53" idx="0"/>
              <a:endCxn id="50" idx="2"/>
            </p:cNvCxnSpPr>
            <p:nvPr/>
          </p:nvCxnSpPr>
          <p:spPr>
            <a:xfrm flipH="1" flipV="1" rot="5400000">
              <a:off x="3435480" y="1608840"/>
              <a:ext cx="228960" cy="1973160"/>
            </a:xfrm>
            <a:prstGeom prst="bentConnector5">
              <a:avLst>
                <a:gd name="adj1" fmla="val 101259"/>
                <a:gd name="adj2" fmla="val 52554"/>
                <a:gd name="adj3" fmla="val -1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" name="_s6156"/>
            <p:cNvSpPr/>
            <p:nvPr/>
          </p:nvSpPr>
          <p:spPr>
            <a:xfrm>
              <a:off x="3955320" y="2023920"/>
              <a:ext cx="116244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Times New Roman"/>
                </a:rPr>
                <a:t>Rocas y Miner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_s6158"/>
            <p:cNvSpPr/>
            <p:nvPr/>
          </p:nvSpPr>
          <p:spPr>
            <a:xfrm>
              <a:off x="1882080" y="2709720"/>
              <a:ext cx="136332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Times New Roman"/>
                </a:rPr>
                <a:t>Diferencias entre ella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6177"/>
            <p:cNvSpPr/>
            <p:nvPr/>
          </p:nvSpPr>
          <p:spPr>
            <a:xfrm>
              <a:off x="684360" y="3395520"/>
              <a:ext cx="11271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imes New Roman"/>
                </a:rPr>
                <a:t>Composició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6179"/>
            <p:cNvSpPr/>
            <p:nvPr/>
          </p:nvSpPr>
          <p:spPr>
            <a:xfrm>
              <a:off x="1999440" y="3395520"/>
              <a:ext cx="11271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imes New Roman"/>
                </a:rPr>
                <a:t>Tamaño de los miner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6181"/>
            <p:cNvSpPr/>
            <p:nvPr/>
          </p:nvSpPr>
          <p:spPr>
            <a:xfrm>
              <a:off x="3314880" y="3395520"/>
              <a:ext cx="11271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imes New Roman"/>
                </a:rPr>
                <a:t>Durez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_s6183"/>
            <p:cNvSpPr/>
            <p:nvPr/>
          </p:nvSpPr>
          <p:spPr>
            <a:xfrm>
              <a:off x="5828040" y="2709720"/>
              <a:ext cx="136332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imes New Roman"/>
                </a:rPr>
                <a:t>Capas de la Geosf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_s6185"/>
            <p:cNvSpPr/>
            <p:nvPr/>
          </p:nvSpPr>
          <p:spPr>
            <a:xfrm>
              <a:off x="4630320" y="3395520"/>
              <a:ext cx="11271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imes New Roman"/>
                </a:rPr>
                <a:t>Cortez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_s6187"/>
            <p:cNvSpPr/>
            <p:nvPr/>
          </p:nvSpPr>
          <p:spPr>
            <a:xfrm>
              <a:off x="5945400" y="3395520"/>
              <a:ext cx="11271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imes New Roman"/>
                </a:rPr>
                <a:t>Man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_s6189"/>
            <p:cNvSpPr/>
            <p:nvPr/>
          </p:nvSpPr>
          <p:spPr>
            <a:xfrm>
              <a:off x="7260840" y="3395520"/>
              <a:ext cx="11271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imes New Roman"/>
                </a:rPr>
                <a:t>Núcle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rosión, transporte y sedim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39880" y="2200320"/>
            <a:ext cx="56628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Por qué el relieve es cada vez más llan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lica las etapas de erosión, transporte y sedimentación. Puedes ayudarte de un dib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se forman las rocas sedimentari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774080" y="1523520"/>
            <a:ext cx="5595120" cy="1813320"/>
            <a:chOff x="1774080" y="1523520"/>
            <a:chExt cx="5595120" cy="1813320"/>
          </a:xfrm>
        </p:grpSpPr>
        <p:cxnSp>
          <p:nvCxnSpPr>
            <p:cNvPr id="88" name="_s23579"/>
            <p:cNvCxnSpPr>
              <a:stCxn id="89" idx="0"/>
              <a:endCxn id="90" idx="2"/>
            </p:cNvCxnSpPr>
            <p:nvPr/>
          </p:nvCxnSpPr>
          <p:spPr>
            <a:xfrm flipH="1" flipV="1" rot="5400000">
              <a:off x="6322320" y="2764440"/>
              <a:ext cx="229680" cy="18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3577"/>
            <p:cNvCxnSpPr>
              <a:stCxn id="92" idx="1"/>
              <a:endCxn id="93" idx="2"/>
            </p:cNvCxnSpPr>
            <p:nvPr/>
          </p:nvCxnSpPr>
          <p:spPr>
            <a:xfrm rot="10800000">
              <a:off x="2706480" y="2650320"/>
              <a:ext cx="310680" cy="45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3558"/>
            <p:cNvCxnSpPr>
              <a:stCxn id="90" idx="0"/>
              <a:endCxn id="95" idx="2"/>
            </p:cNvCxnSpPr>
            <p:nvPr/>
          </p:nvCxnSpPr>
          <p:spPr>
            <a:xfrm flipV="1" rot="16200000">
              <a:off x="5389560" y="1145880"/>
              <a:ext cx="230760" cy="186516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3560"/>
            <p:cNvCxnSpPr>
              <a:stCxn id="93" idx="0"/>
              <a:endCxn id="95" idx="2"/>
            </p:cNvCxnSpPr>
            <p:nvPr/>
          </p:nvCxnSpPr>
          <p:spPr>
            <a:xfrm flipH="1" flipV="1" rot="5400000">
              <a:off x="3524760" y="1145160"/>
              <a:ext cx="230760" cy="186660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5" name="_s23562"/>
            <p:cNvSpPr/>
            <p:nvPr/>
          </p:nvSpPr>
          <p:spPr>
            <a:xfrm>
              <a:off x="3755880" y="1523520"/>
              <a:ext cx="1633680" cy="440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Rocas e interior de la tier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3563"/>
            <p:cNvSpPr/>
            <p:nvPr/>
          </p:nvSpPr>
          <p:spPr>
            <a:xfrm>
              <a:off x="1774080" y="2192760"/>
              <a:ext cx="186444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Volca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3566"/>
            <p:cNvSpPr/>
            <p:nvPr/>
          </p:nvSpPr>
          <p:spPr>
            <a:xfrm>
              <a:off x="5504760" y="2192760"/>
              <a:ext cx="186444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Terremo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3576"/>
            <p:cNvSpPr/>
            <p:nvPr/>
          </p:nvSpPr>
          <p:spPr>
            <a:xfrm>
              <a:off x="3017160" y="2880000"/>
              <a:ext cx="1864440" cy="456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Rocas magmát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3578"/>
            <p:cNvSpPr/>
            <p:nvPr/>
          </p:nvSpPr>
          <p:spPr>
            <a:xfrm>
              <a:off x="5504760" y="2880000"/>
              <a:ext cx="1863360" cy="456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Capas tectón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lca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rocas fundidas del interior de la tierra o MAGMA, salen por grietas formadas en la corteza terrestre o VOLC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magma que sale baja por la ladera del volcán y ahora se llama LAVA. Cuando se enfría forma rocas como el BASAL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salen cenizas y gases en la erupción volcán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el magma se enfría dentro del volcán forma rocas como el GRAN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rocas que se originan de volcanes se llaman MAGMÁ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erremot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3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calor del interior de la tierra da lugar a movimientos de masas de ro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ando las placas tectónicas se mueven, las rocas se rompen y originan tembl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os temblores son los terremo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por un casual pasaran dentro del agua serían maremo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ambios de relie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3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olc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lava y la ceniza cubren todo el terre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forman rocas magmáticas y el cono volcá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erremo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hunden los terrenos, se elevan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crean ro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ríos desvían su cur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re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3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xplica cómo se originan el granito y el basalto a partir de un volcá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Qué es un terremot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Cómo cambian el relieve los volcan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Cómo cambian el relieve los terremo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493640" y="1523880"/>
            <a:ext cx="6467040" cy="1083240"/>
            <a:chOff x="1493640" y="1523880"/>
            <a:chExt cx="6467040" cy="1083240"/>
          </a:xfrm>
        </p:grpSpPr>
        <p:cxnSp>
          <p:nvCxnSpPr>
            <p:cNvPr id="106" name="_s15415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750640" y="933840"/>
              <a:ext cx="217800" cy="2262240"/>
            </a:xfrm>
            <a:prstGeom prst="bentConnector3">
              <a:avLst>
                <a:gd name="adj1" fmla="val 495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5400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4619160" y="2064240"/>
              <a:ext cx="217800" cy="2160"/>
            </a:xfrm>
            <a:prstGeom prst="bentConnector3">
              <a:avLst>
                <a:gd name="adj1" fmla="val 495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5372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3487680" y="932400"/>
              <a:ext cx="217800" cy="2265480"/>
            </a:xfrm>
            <a:prstGeom prst="bentConnector3">
              <a:avLst>
                <a:gd name="adj1" fmla="val 495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5374"/>
            <p:cNvSpPr/>
            <p:nvPr/>
          </p:nvSpPr>
          <p:spPr>
            <a:xfrm>
              <a:off x="3759120" y="1523880"/>
              <a:ext cx="1938600" cy="432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Utilidad de rocas y miner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15375"/>
            <p:cNvSpPr/>
            <p:nvPr/>
          </p:nvSpPr>
          <p:spPr>
            <a:xfrm>
              <a:off x="1493640" y="2174040"/>
              <a:ext cx="1940040" cy="433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Utilizamos rocas y miner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15399"/>
            <p:cNvSpPr/>
            <p:nvPr/>
          </p:nvSpPr>
          <p:spPr>
            <a:xfrm>
              <a:off x="3756960" y="2174040"/>
              <a:ext cx="1940400" cy="433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Extraemos rocas y miner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15414"/>
            <p:cNvSpPr/>
            <p:nvPr/>
          </p:nvSpPr>
          <p:spPr>
            <a:xfrm>
              <a:off x="6020640" y="2174040"/>
              <a:ext cx="1940040" cy="433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imes New Roman"/>
                </a:rPr>
                <a:t>Influencia en las person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tilizamos rocas y mi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38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ateriales de construcción: muros, ladrillos, teja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ateriales de decoración: mármol, diamantes, rubíe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btener materiales: materia prima que nos permite fabricar instrumentos. Ejemplo: hier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0000"/>
                </a:solidFill>
                <a:latin typeface="Times New Roman"/>
              </a:rPr>
              <a:t>Extracción de rocas y minerale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8497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xtraen de yacimientos. Para extraer los materiales de allí hay dos form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nteras o minas a cielo abierto: agujeros o cortes en el terreno que se usan para sacar rocas o minerales de la superf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as: pozos, túneles y galerías para extraer rocas y minerales del interior de la corteza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Y FAMOSAS EN ASTURI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s rocas y los mi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298764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rocas son materiales que forman la corteza y el manto de la geosfera. Están formadas por miner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Times New Roman"/>
              </a:rPr>
              <a:t>Influencia de la extracción de rocas en la vida cotidian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2638440"/>
            <a:ext cx="8497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truye el paisaje, vegetación y fau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enera ruidos y polvo que pueden ser dañ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no los extraemos “con cabeza” al final se gas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dos cosas buen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a trabajo a las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tenemos materia prima para construir cos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Times New Roman"/>
              </a:rPr>
              <a:t>Tarea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497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me tres utilidades que tienen las rocas que se extraen de la corteza terrest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usca en tu casa 3 objetos que estén hechos con rocas o minerales y dime a partir de qué material están hec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diferencia hay entre una cantera y una mina subterránea? ¿En qué se parec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efectos, tanto buenos como malos, tiene la extracción de rocas de la corteza terrest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rocas y los mi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2846520"/>
            <a:ext cx="7846920" cy="23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riedad de minerales que las comp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de los minerales que las comp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u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artes de 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25636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19200"/>
            <a:ext cx="77738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¿En qué se diferencia una roca de un miner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 ¿Cuáles son las tres características que nos permiten diferenciar entre unas rocas y otr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 ¿Cuáles son las 3 capas que forman la tier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900000" y="2086560"/>
            <a:ext cx="7416720" cy="1127520"/>
            <a:chOff x="900000" y="2086560"/>
            <a:chExt cx="7416720" cy="1127520"/>
          </a:xfrm>
        </p:grpSpPr>
        <p:cxnSp>
          <p:nvCxnSpPr>
            <p:cNvPr id="68" name="_s11343"/>
            <p:cNvCxnSpPr>
              <a:stCxn id="69" idx="0"/>
              <a:endCxn id="70" idx="2"/>
            </p:cNvCxnSpPr>
            <p:nvPr/>
          </p:nvCxnSpPr>
          <p:spPr>
            <a:xfrm flipV="1" rot="16200000">
              <a:off x="5936040" y="1199160"/>
              <a:ext cx="228960" cy="28839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1288"/>
            <p:cNvCxnSpPr>
              <a:stCxn id="72" idx="0"/>
              <a:endCxn id="70" idx="2"/>
            </p:cNvCxnSpPr>
            <p:nvPr/>
          </p:nvCxnSpPr>
          <p:spPr>
            <a:xfrm flipV="1" rot="16200000">
              <a:off x="4975200" y="2160000"/>
              <a:ext cx="228960" cy="9619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1275"/>
            <p:cNvCxnSpPr>
              <a:stCxn id="74" idx="0"/>
              <a:endCxn id="70" idx="2"/>
            </p:cNvCxnSpPr>
            <p:nvPr/>
          </p:nvCxnSpPr>
          <p:spPr>
            <a:xfrm flipH="1" flipV="1" rot="5400000">
              <a:off x="3052080" y="1198800"/>
              <a:ext cx="228960" cy="28850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1276"/>
            <p:cNvCxnSpPr>
              <a:stCxn id="76" idx="0"/>
              <a:endCxn id="70" idx="2"/>
            </p:cNvCxnSpPr>
            <p:nvPr/>
          </p:nvCxnSpPr>
          <p:spPr>
            <a:xfrm flipH="1" flipV="1" rot="5400000">
              <a:off x="4012920" y="2159640"/>
              <a:ext cx="228960" cy="9633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0" name="_s11277"/>
            <p:cNvSpPr/>
            <p:nvPr/>
          </p:nvSpPr>
          <p:spPr>
            <a:xfrm>
              <a:off x="3905280" y="2086560"/>
              <a:ext cx="1405800" cy="440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Las rocas y la superfic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terrest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1278"/>
            <p:cNvSpPr/>
            <p:nvPr/>
          </p:nvSpPr>
          <p:spPr>
            <a:xfrm>
              <a:off x="900000" y="2756160"/>
              <a:ext cx="164772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Las rocas cambi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1279"/>
            <p:cNvSpPr/>
            <p:nvPr/>
          </p:nvSpPr>
          <p:spPr>
            <a:xfrm>
              <a:off x="2823120" y="2756160"/>
              <a:ext cx="164772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Desgas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11287"/>
            <p:cNvSpPr/>
            <p:nvPr/>
          </p:nvSpPr>
          <p:spPr>
            <a:xfrm>
              <a:off x="4745880" y="2756160"/>
              <a:ext cx="164772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Eros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_s11342"/>
            <p:cNvSpPr/>
            <p:nvPr/>
          </p:nvSpPr>
          <p:spPr>
            <a:xfrm>
              <a:off x="6669000" y="2756160"/>
              <a:ext cx="1647720" cy="457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Sediment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nque te parezca mentira, las rocas cambian su forma, composición, posició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 que pasa es que es un proceso muuuuuuuuy l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rocas camb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iclo de las ro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3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desgastan por varias causas: lluvia, frío… Este proceso se llama ERO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transportan los pedacitos de rocas de un lugar a otro: aire, agua… Este proceso se llama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os pedacitos se depositan en un lugar determinado, formando SEDIMEN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edimentos se transforman en rocas sedimentarias (por ejemplo, la arcil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Formación de rocas Sedimentar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3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edimentos se van depositando en un determinado lug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da vez hay más sedi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mo hay muchos, los de abajo, gracias al peso de los de arriba, empiezan a apretarse tanto tanto que se juntan 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orman una bonita roca sedimenta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fa MD25</cp:lastModifiedBy>
  <dcterms:modified xsi:type="dcterms:W3CDTF">2012-02-05T10:27:47Z</dcterms:modified>
  <cp:revision>9</cp:revision>
  <dc:subject/>
  <dc:title>PowerPoint Presentation</dc:title>
</cp:coreProperties>
</file>