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0B5-C130-4C19-B030-78FB769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DF1-783A-42C4-AD88-4BC1DEF2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3FF-10C6-4323-B754-3C317F35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DEF-B44B-4E84-A16A-CDBACE0B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2EC-59A7-4F54-998F-F8804B6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2F4-6A7D-4403-8FAB-CF0EF715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978-D326-4413-AE75-191F1C9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B88-59F3-42DF-A583-A42C6BF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EC1-43D6-432B-868F-00296E9F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267-7F31-413E-8B0A-783C210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C23-6660-4177-8B81-2931D45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929-0DC5-4BD6-B9ED-6FBA16C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C8A-81D4-4882-BF88-D783A40D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EL COSTO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DE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SER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BO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800px-MasterCard_Logo.svg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590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ros   $25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Tattoo      $1500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Implantes de senos $25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n3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2485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Maquilaje 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n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4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5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516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imes New Roman"/>
              </a:rPr>
              <a:t>Pero olvidar  esconder las bolas... No tiene precio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5:54:08Z</dcterms:created>
  <dc:creator>El enfermo del Powerpoint</dc:creator>
  <dc:description/>
  <dc:language>en-US</dc:language>
  <cp:lastModifiedBy>cmusetti</cp:lastModifiedBy>
  <dcterms:modified xsi:type="dcterms:W3CDTF">2009-07-14T16:03:50Z</dcterms:modified>
  <cp:revision>2</cp:revision>
  <dc:subject/>
  <dc:title>El costo de ser bon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norberP</vt:lpwstr>
  </property>
</Properties>
</file>