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A24-17D4-4008-9EE0-B3A8257E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272-06B2-4923-9F9A-25C1EC4A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5F1-4DC8-49F9-9A08-0FF21E25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9C2-6DCF-4EE4-A027-60B7562A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C3E-E963-4DA3-A519-F43CDBD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020-61D8-45EC-872F-9527C416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06E-CA76-4E01-82BD-1D6C08E3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68E-B5E3-4844-9A23-8B764E03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DA5-50D9-415B-896B-3594A52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6DD-0A41-4AE1-96D1-2B37A31F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0D7-E807-4AA6-B16D-4DC3A1C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833-348B-4A8A-B894-92EC17BE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98DB-F415-4608-B067-41E08EE1B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EL COSTO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DE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SER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BON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800px-MasterCard_Logo.svg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2590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ros   $25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1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Tattoo      $1500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Times New Roman"/>
              </a:rPr>
              <a:t>Implantes de senos $25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n3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2485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Times New Roman"/>
              </a:rPr>
              <a:t>Maquilaje 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n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4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5" descr=""/>
          <p:cNvPicPr/>
          <p:nvPr/>
        </p:nvPicPr>
        <p:blipFill>
          <a:blip r:embed="rId1"/>
          <a:stretch/>
        </p:blipFill>
        <p:spPr>
          <a:xfrm>
            <a:off x="2209680" y="0"/>
            <a:ext cx="474516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imes New Roman"/>
              </a:rPr>
              <a:t>Pero olvidar  esconder las bolas... No tiene precio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5:54:08Z</dcterms:created>
  <dc:creator>El enfermo del Powerpoint</dc:creator>
  <dc:description/>
  <dc:language>en-US</dc:language>
  <cp:lastModifiedBy>cmusetti</cp:lastModifiedBy>
  <dcterms:modified xsi:type="dcterms:W3CDTF">2009-07-14T16:03:50Z</dcterms:modified>
  <cp:revision>2</cp:revision>
  <dc:subject/>
  <dc:title>El costo de ser boni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sunto">
    <vt:lpwstr>norberP</vt:lpwstr>
  </property>
</Properties>
</file>