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6DC0-EC2B-4683-91DA-F617EFC54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0428-1BC3-41ED-A1B2-6A19A1CF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CC3A-58E9-44A1-895B-F067E899E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CF09-F1C4-4383-9689-6C0686DD3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B6B4-1FB1-483B-86CF-B595FB82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4D4A-C7FD-4373-B3DC-59B7174E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49DE-E0CF-4943-AA57-58C6D35B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E82B-D83E-45AA-862D-C4513FE5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8F71-52A1-48CD-9791-75B4D8AB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9D46-03B0-4F53-8C99-20839A80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44E2-4DD8-4040-B5F4-B70EEE0D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D3BA-9A89-4671-B7E4-666D0A6E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38396A-E3BD-4DB0-B51D-A713E7DA36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56A16F-BEA7-4323-AAA4-FD5EC799AE9E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17:47:13Z</dcterms:created>
  <dc:creator>최봉수</dc:creator>
  <dc:description/>
  <dc:language>en-US</dc:language>
  <cp:lastModifiedBy>군만두 맛있다</cp:lastModifiedBy>
  <dcterms:modified xsi:type="dcterms:W3CDTF">2023-07-12T04:05:01Z</dcterms:modified>
  <cp:revision>2</cp:revision>
  <dc:subject/>
  <dc:title>슬라이드 1</dc:title>
</cp:coreProperties>
</file>