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C7D-C94D-4772-8EE2-9D160D60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ACD-FE2E-4525-9242-E38520C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2BB-A8BC-40F7-A5E4-8AAA49DC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EEB-C5C8-4E29-B16E-A258D401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091-8728-4605-AD02-AE456C74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73E-C761-492F-85CA-FD60EA9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87B-2302-4BE6-8F16-6CE47F14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E68-6F30-439D-BC55-6B3F410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182-8DC7-45C0-B9D0-BA5808B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0F6-4BBE-488F-BA9B-1526518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B1C-9B59-4516-83F9-A4EB9F3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ABE-BEED-466D-A460-500B5230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EE2D4-91E4-49AA-89AD-1E0D75A03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84C88-27B9-405F-9E6F-CC5EA372C5A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7:47:13Z</dcterms:created>
  <dc:creator>최봉수</dc:creator>
  <dc:description/>
  <dc:language>en-US</dc:language>
  <cp:lastModifiedBy>군만두 맛있다</cp:lastModifiedBy>
  <dcterms:modified xsi:type="dcterms:W3CDTF">2023-07-12T04:05:01Z</dcterms:modified>
  <cp:revision>2</cp:revision>
  <dc:subject/>
  <dc:title>슬라이드 1</dc:title>
</cp:coreProperties>
</file>