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34B-AEBD-49C4-A072-44F3D81C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0EC-0771-4CA1-9E6A-D4802111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9E5-1F01-4CF2-AF15-286408E1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79B-2F52-4917-A7FA-8745DA78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578-A1FB-4BE4-8586-DEFFCE61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794D-A5D5-4C7E-81B6-1526C72C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4A59-459A-4B45-BA38-FEB92D4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DCA8-2ED1-44E3-9287-2B913D3E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DFE5-7ABA-42B8-A72A-E6C1A33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DBD-A884-4BB3-BED8-27DD1B8C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0ADC-A412-4284-8543-4F7000E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7B4-AE03-4928-A656-16D6B867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4570-6F95-4E16-AAAE-8337FA1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21E2-2248-4F3D-B9D4-9EBACE7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777B-D87D-46DB-9A70-6D3193F2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452-A420-4A23-A858-9EC548B3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67F1-04E2-40BF-8802-B9AC0EC0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560-134C-4D05-BBCD-2C77734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F08-FA96-420F-AA25-73E4C97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F27-AE66-4742-9B91-948FD2EC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A54-36DC-4D10-B478-3234371B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224-E870-45E7-9D31-75496CB8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8A9-563D-4964-822E-8BE7955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9A5-6C80-4F14-B088-0A26576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77E0-C6AF-489F-AC09-22974B19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A85A-F247-4CD0-A24A-65CD430A0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bpk150gif"/>
          <p:cNvPicPr/>
          <p:nvPr/>
        </p:nvPicPr>
        <p:blipFill>
          <a:blip r:embed="rId1"/>
          <a:stretch/>
        </p:blipFill>
        <p:spPr>
          <a:xfrm>
            <a:off x="7924680" y="5715000"/>
            <a:ext cx="990720" cy="939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2"/>
          <p:cNvSpPr/>
          <p:nvPr/>
        </p:nvSpPr>
        <p:spPr>
          <a:xfrm>
            <a:off x="4492800" y="624852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Arial"/>
              </a:rPr>
              <a:t>Bahagian Pembangunan Kurik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121932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UNJANG KOMUNIKASI BAHASA MALAY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9"/>
          <p:cNvSpPr/>
          <p:nvPr/>
        </p:nvSpPr>
        <p:spPr>
          <a:xfrm>
            <a:off x="1143000" y="1523880"/>
            <a:ext cx="69343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tikan beberapa perubahan dalam kurikulum transformasi iaitu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Komponen kepada tunj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Kandungan kepada Standard  kandu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Hasil Pembelajaran (HP) kepada Standa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mbelajaran (S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Standard Pembelajaran telah disediakan untuk murid-  murid berumur 4+ dan 5+ tahu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0" descr="Ballspy2"/>
          <p:cNvPicPr/>
          <p:nvPr/>
        </p:nvPicPr>
        <p:blipFill>
          <a:blip r:embed="rId2"/>
          <a:stretch/>
        </p:blipFill>
        <p:spPr>
          <a:xfrm>
            <a:off x="380880" y="1143000"/>
            <a:ext cx="285768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1" descr="Ballspy2"/>
          <p:cNvPicPr/>
          <p:nvPr/>
        </p:nvPicPr>
        <p:blipFill>
          <a:blip r:embed="rId3"/>
          <a:stretch/>
        </p:blipFill>
        <p:spPr>
          <a:xfrm>
            <a:off x="5562720" y="1143000"/>
            <a:ext cx="28573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3200400" y="2133720"/>
            <a:ext cx="2438280" cy="16002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NJA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MUNIKAS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HASA MALAY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324480" y="2362320"/>
            <a:ext cx="2667240" cy="5331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mahiran Bertu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00400" y="4419720"/>
            <a:ext cx="2743200" cy="5331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mahiran Memb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28600" y="2286000"/>
            <a:ext cx="2514600" cy="533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mahiran Menu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2590920" y="152280"/>
            <a:ext cx="3276360" cy="533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mahiran Menden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5638680" y="26668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4191120" y="37339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2895480" y="25909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114800" y="1523880"/>
            <a:ext cx="457200" cy="533520"/>
          </a:xfrm>
          <a:prstGeom prst="up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7" descr="bpk150gif"/>
          <p:cNvPicPr/>
          <p:nvPr/>
        </p:nvPicPr>
        <p:blipFill>
          <a:blip r:embed="rId1"/>
          <a:stretch/>
        </p:blipFill>
        <p:spPr>
          <a:xfrm>
            <a:off x="7924680" y="5638680"/>
            <a:ext cx="990720" cy="939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2"/>
          <p:cNvSpPr/>
          <p:nvPr/>
        </p:nvSpPr>
        <p:spPr>
          <a:xfrm>
            <a:off x="4492800" y="59436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Arial"/>
              </a:rPr>
              <a:t>Bahagian Pembangunan Kurik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9" descr="bd00146_"/>
          <p:cNvPicPr/>
          <p:nvPr/>
        </p:nvPicPr>
        <p:blipFill>
          <a:blip r:embed="rId2"/>
          <a:stretch/>
        </p:blipFill>
        <p:spPr>
          <a:xfrm>
            <a:off x="533520" y="2895480"/>
            <a:ext cx="1827000" cy="18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A_Plus"/>
          <p:cNvPicPr/>
          <p:nvPr/>
        </p:nvPicPr>
        <p:blipFill>
          <a:blip r:embed="rId3"/>
          <a:stretch/>
        </p:blipFill>
        <p:spPr>
          <a:xfrm>
            <a:off x="2895480" y="5029200"/>
            <a:ext cx="1571760" cy="1371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2" descr="http://aba.insightcommerce.net/content/00/01/04/89/64/userdirectory0.content/154515.vmg"/>
          <p:cNvPicPr/>
          <p:nvPr/>
        </p:nvPicPr>
        <p:blipFill>
          <a:blip r:embed="rId4"/>
          <a:stretch/>
        </p:blipFill>
        <p:spPr>
          <a:xfrm>
            <a:off x="4648320" y="7621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4" descr=""/>
          <p:cNvPicPr/>
          <p:nvPr/>
        </p:nvPicPr>
        <p:blipFill>
          <a:blip r:embed="rId5"/>
          <a:stretch/>
        </p:blipFill>
        <p:spPr>
          <a:xfrm>
            <a:off x="7086600" y="2971800"/>
            <a:ext cx="15238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bpk150gif"/>
          <p:cNvPicPr/>
          <p:nvPr/>
        </p:nvPicPr>
        <p:blipFill>
          <a:blip r:embed="rId1"/>
          <a:stretch/>
        </p:blipFill>
        <p:spPr>
          <a:xfrm>
            <a:off x="7924680" y="5715000"/>
            <a:ext cx="990720" cy="93996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6"/>
          <p:cNvSpPr/>
          <p:nvPr/>
        </p:nvSpPr>
        <p:spPr>
          <a:xfrm>
            <a:off x="990720" y="1066680"/>
            <a:ext cx="6858000" cy="37339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492800" y="624852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Arial"/>
              </a:rPr>
              <a:t>Bahagian Pembangunan Kurik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286000" y="1828800"/>
            <a:ext cx="5334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enyemak Dokumen Standard Prasekolah Tunjang Komunikasi Bahasa Malay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…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muka surat 31 - 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9" descr="Ballspy2"/>
          <p:cNvPicPr/>
          <p:nvPr/>
        </p:nvPicPr>
        <p:blipFill>
          <a:blip r:embed="rId2"/>
          <a:stretch/>
        </p:blipFill>
        <p:spPr>
          <a:xfrm>
            <a:off x="914400" y="457200"/>
            <a:ext cx="285768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Ballspy2"/>
          <p:cNvPicPr/>
          <p:nvPr/>
        </p:nvPicPr>
        <p:blipFill>
          <a:blip r:embed="rId3"/>
          <a:stretch/>
        </p:blipFill>
        <p:spPr>
          <a:xfrm>
            <a:off x="5562720" y="457200"/>
            <a:ext cx="285732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Ballspy2"/>
          <p:cNvPicPr/>
          <p:nvPr/>
        </p:nvPicPr>
        <p:blipFill>
          <a:blip r:embed="rId4"/>
          <a:stretch/>
        </p:blipFill>
        <p:spPr>
          <a:xfrm>
            <a:off x="685800" y="5257800"/>
            <a:ext cx="285768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Ballspy2"/>
          <p:cNvPicPr/>
          <p:nvPr/>
        </p:nvPicPr>
        <p:blipFill>
          <a:blip r:embed="rId5"/>
          <a:stretch/>
        </p:blipFill>
        <p:spPr>
          <a:xfrm>
            <a:off x="5562720" y="5257800"/>
            <a:ext cx="28573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3276720" y="2209680"/>
            <a:ext cx="2361960" cy="137160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NJA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OMUNIKAS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HASA MALAY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6553080" y="1447920"/>
            <a:ext cx="2362320" cy="2743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DAHNYA MEMBA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uku kata KV            (b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uku kata VKV          (ib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uku kata KVKV       (buk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uku kata KVKVKV  (kelab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uku kata KVK          (ke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uku kata,perkataan,fras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yat muda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14600" y="4267080"/>
            <a:ext cx="3962520" cy="19814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ALAHLAH LA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engenal tanda baca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embaca mengikut intonasi yang bet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emahami bahan baca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emupuk minat memba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yat/teks bacaan/buku cerita/keratan akhbar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ajal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152280" y="1371600"/>
            <a:ext cx="2362320" cy="2666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ONOKNYA MEMBA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Suku kat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d600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VKVK                     (aya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d600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KVKVKVK             (kaka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d600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KVVK                     (kui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d600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VKKV                     (int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Suku kata, perkataan, fras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Ayat muda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2971800" y="228600"/>
            <a:ext cx="3276720" cy="1371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GEMBIRA DENGAN HURU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ecara raw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engikut uru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uruf bes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uruf vok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5791320" y="27432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4267080" y="36576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2666880" y="25909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4267080" y="1676520"/>
            <a:ext cx="457200" cy="533160"/>
          </a:xfrm>
          <a:prstGeom prst="up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11" descr="bpk150gif"/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9396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2"/>
          <p:cNvSpPr/>
          <p:nvPr/>
        </p:nvSpPr>
        <p:spPr>
          <a:xfrm>
            <a:off x="4516560" y="61722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Arial"/>
              </a:rPr>
              <a:t>Bahagian Pembangunan Kurik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6" descr="F:\09\DSCF4032.JPG"/>
          <p:cNvPicPr/>
          <p:nvPr/>
        </p:nvPicPr>
        <p:blipFill>
          <a:blip r:embed="rId2"/>
          <a:srcRect l="8574" t="3701" r="5722" b="7401"/>
          <a:stretch/>
        </p:blipFill>
        <p:spPr>
          <a:xfrm>
            <a:off x="380880" y="3809880"/>
            <a:ext cx="1752840" cy="11923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52" name="Picture 7" descr="F:\09\DSCF4024.JPG"/>
          <p:cNvPicPr/>
          <p:nvPr/>
        </p:nvPicPr>
        <p:blipFill>
          <a:blip r:embed="rId3"/>
          <a:srcRect l="0" t="6903" r="18513" b="6903"/>
          <a:stretch/>
        </p:blipFill>
        <p:spPr>
          <a:xfrm>
            <a:off x="5791320" y="152280"/>
            <a:ext cx="1828800" cy="1108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bpk150gif"/>
          <p:cNvPicPr/>
          <p:nvPr/>
        </p:nvPicPr>
        <p:blipFill>
          <a:blip r:embed="rId1"/>
          <a:stretch/>
        </p:blipFill>
        <p:spPr>
          <a:xfrm>
            <a:off x="7924680" y="5715000"/>
            <a:ext cx="990720" cy="939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2"/>
          <p:cNvSpPr/>
          <p:nvPr/>
        </p:nvSpPr>
        <p:spPr>
          <a:xfrm>
            <a:off x="4492800" y="624852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Arial"/>
              </a:rPr>
              <a:t>Bahagian Pembangunan Kurik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80880" y="15228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h Rancangan Pengajaran Harian mengikut Modul Teras Asas, Tunjang Komunikasi Bahasa Malays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ujuk Modul Teras Asas Jilid 3, muka surat 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609480" y="1295280"/>
            <a:ext cx="7467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a: 30 mi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jang : Bahasa 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Pembelajara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1.3  Menyebut huruf secara raw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.4  Menulis huruf kecil dengan cara yang bet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iviti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aitkan huruf ‘c’ dengan bentuk teling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aitkan bentuk huruf ‘c’ dengan objek di persekitar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id menyentuh huruf ‘c’ pada kertas pasir mengikut arah yang bet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han: Model huruf C, kertas pasir dan carta gambar mu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kepala c"/>
          <p:cNvPicPr/>
          <p:nvPr/>
        </p:nvPicPr>
        <p:blipFill>
          <a:blip r:embed="rId2"/>
          <a:stretch/>
        </p:blipFill>
        <p:spPr>
          <a:xfrm>
            <a:off x="6172200" y="1066680"/>
            <a:ext cx="191448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bpk150gif"/>
          <p:cNvPicPr/>
          <p:nvPr/>
        </p:nvPicPr>
        <p:blipFill>
          <a:blip r:embed="rId1"/>
          <a:stretch/>
        </p:blipFill>
        <p:spPr>
          <a:xfrm>
            <a:off x="7924680" y="5715000"/>
            <a:ext cx="990720" cy="93996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3"/>
          <p:cNvSpPr/>
          <p:nvPr/>
        </p:nvSpPr>
        <p:spPr>
          <a:xfrm>
            <a:off x="1523880" y="1523880"/>
            <a:ext cx="6553440" cy="27432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4492800" y="624852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Arial"/>
              </a:rPr>
              <a:t>Bahagian Pembangunan Kurik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666880" y="2590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si Soal Jaw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Ballspy2"/>
          <p:cNvPicPr/>
          <p:nvPr/>
        </p:nvPicPr>
        <p:blipFill>
          <a:blip r:embed="rId2"/>
          <a:stretch/>
        </p:blipFill>
        <p:spPr>
          <a:xfrm rot="16200000">
            <a:off x="-666720" y="1504800"/>
            <a:ext cx="285768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Ballspy2"/>
          <p:cNvPicPr/>
          <p:nvPr/>
        </p:nvPicPr>
        <p:blipFill>
          <a:blip r:embed="rId3"/>
          <a:stretch/>
        </p:blipFill>
        <p:spPr>
          <a:xfrm rot="16200000">
            <a:off x="-590400" y="4857480"/>
            <a:ext cx="285768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Black_moth"/>
          <p:cNvPicPr/>
          <p:nvPr/>
        </p:nvPicPr>
        <p:blipFill>
          <a:blip r:embed="rId4"/>
          <a:stretch/>
        </p:blipFill>
        <p:spPr>
          <a:xfrm>
            <a:off x="3276720" y="441972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Black_moth"/>
          <p:cNvPicPr/>
          <p:nvPr/>
        </p:nvPicPr>
        <p:blipFill>
          <a:blip r:embed="rId5"/>
          <a:stretch/>
        </p:blipFill>
        <p:spPr>
          <a:xfrm>
            <a:off x="6324480" y="4343400"/>
            <a:ext cx="1400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bpk150gif"/>
          <p:cNvPicPr/>
          <p:nvPr/>
        </p:nvPicPr>
        <p:blipFill>
          <a:blip r:embed="rId1"/>
          <a:stretch/>
        </p:blipFill>
        <p:spPr>
          <a:xfrm>
            <a:off x="7924680" y="5715000"/>
            <a:ext cx="990720" cy="93996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/>
          <p:cNvSpPr/>
          <p:nvPr/>
        </p:nvSpPr>
        <p:spPr>
          <a:xfrm>
            <a:off x="457200" y="0"/>
            <a:ext cx="8229600" cy="27432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492800" y="624852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Arial"/>
              </a:rPr>
              <a:t>Bahagian Pembangunan Kurik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219320" y="685800"/>
            <a:ext cx="58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GAS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CANGAN PENGAJARAN HARIAN SL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HASA MALAY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143000" y="2971800"/>
            <a:ext cx="65530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diak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cangan Pengajaran Harian (RPH)  yang mengandungi dua atau tiga kemahiran dalam masa 30 min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cangan Pengajaran Harian (RPH)  yang mengandungi  tiga atau empat kemahiran dalam masa 60 min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bpk150gif"/>
          <p:cNvPicPr/>
          <p:nvPr/>
        </p:nvPicPr>
        <p:blipFill>
          <a:blip r:embed="rId1"/>
          <a:stretch/>
        </p:blipFill>
        <p:spPr>
          <a:xfrm>
            <a:off x="7924680" y="5715000"/>
            <a:ext cx="990720" cy="93996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3"/>
          <p:cNvSpPr/>
          <p:nvPr/>
        </p:nvSpPr>
        <p:spPr>
          <a:xfrm>
            <a:off x="685800" y="1828800"/>
            <a:ext cx="6553080" cy="27432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492800" y="624852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Arial"/>
              </a:rPr>
              <a:t>Bahagian Pembangunan Kurik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828800" y="2895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kian, terima kasi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6" descr="Fan_spins"/>
          <p:cNvPicPr/>
          <p:nvPr/>
        </p:nvPicPr>
        <p:blipFill>
          <a:blip r:embed="rId2"/>
          <a:stretch/>
        </p:blipFill>
        <p:spPr>
          <a:xfrm>
            <a:off x="7010280" y="2209680"/>
            <a:ext cx="1600200" cy="3048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Black_moth"/>
          <p:cNvPicPr/>
          <p:nvPr/>
        </p:nvPicPr>
        <p:blipFill>
          <a:blip r:embed="rId3"/>
          <a:stretch/>
        </p:blipFill>
        <p:spPr>
          <a:xfrm>
            <a:off x="838080" y="685800"/>
            <a:ext cx="1400400" cy="1143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Black_moth"/>
          <p:cNvPicPr/>
          <p:nvPr/>
        </p:nvPicPr>
        <p:blipFill>
          <a:blip r:embed="rId4"/>
          <a:stretch/>
        </p:blipFill>
        <p:spPr>
          <a:xfrm>
            <a:off x="3200400" y="487692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Black_moth"/>
          <p:cNvPicPr/>
          <p:nvPr/>
        </p:nvPicPr>
        <p:blipFill>
          <a:blip r:embed="rId5"/>
          <a:stretch/>
        </p:blipFill>
        <p:spPr>
          <a:xfrm>
            <a:off x="6400800" y="457200"/>
            <a:ext cx="14000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1:24:06Z</dcterms:created>
  <dc:creator>IBM</dc:creator>
  <dc:description/>
  <dc:language>en-US</dc:language>
  <cp:lastModifiedBy>User</cp:lastModifiedBy>
  <dcterms:modified xsi:type="dcterms:W3CDTF">2009-10-27T10:29:11Z</dcterms:modified>
  <cp:revision>22</cp:revision>
  <dc:subject/>
  <dc:title>Slide 1</dc:title>
</cp:coreProperties>
</file>