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4CDA-FA7D-4F10-BC18-C2CEBF1E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3346-409C-4868-98A6-486903AE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2F16-BD33-485C-B0E4-80645A1A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6046-FF41-476D-BF43-438EEFBB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C551-AFC1-4EEC-A01C-4F0E565C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EF65-6999-490A-9731-ED653A35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34E-3B6D-4AC4-BA77-05D6A3DD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8BEE-60B0-4AD9-844E-03F7F3C5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1B9F-5713-426A-ABA1-4433A9CD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2BCE-70BA-4EFE-88B7-639F9E0D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6B4D-263A-4746-8062-D9DA35D9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C1ED-EB44-41C5-B550-0B530CE6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777E-D077-4CA5-AA57-390CDA3BF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5040" y="2158920"/>
            <a:ext cx="3733920" cy="2540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586560"/>
            <a:ext cx="2700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PS BY CARL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11280" y="1900080"/>
            <a:ext cx="4248360" cy="311148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40000" y="1998720"/>
            <a:ext cx="4392720" cy="290808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56000" y="1928880"/>
            <a:ext cx="4176720" cy="290016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56000" y="1968480"/>
            <a:ext cx="4103640" cy="287028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92360" y="2389320"/>
            <a:ext cx="5759280" cy="2079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05092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05000" y="2158920"/>
            <a:ext cx="2934000" cy="254016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4560" y="2165400"/>
            <a:ext cx="3314880" cy="252720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11280" y="2239920"/>
            <a:ext cx="4321440" cy="237636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01960" y="2158920"/>
            <a:ext cx="3340080" cy="254016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16360" y="1995480"/>
            <a:ext cx="3311280" cy="286704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00360" y="2031840"/>
            <a:ext cx="3743280" cy="279432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698920" y="2158920"/>
            <a:ext cx="3746160" cy="254016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43280" y="1987560"/>
            <a:ext cx="3457440" cy="288288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22:41:31Z</dcterms:created>
  <dc:creator>CARLO</dc:creator>
  <dc:description>www.funny.lu</dc:description>
  <dc:language>en-US</dc:language>
  <cp:lastModifiedBy>Smets</cp:lastModifiedBy>
  <dcterms:modified xsi:type="dcterms:W3CDTF">2008-11-03T18:06:05Z</dcterms:modified>
  <cp:revision>1</cp:revision>
  <dc:subject/>
  <dc:title>augen</dc:title>
</cp:coreProperties>
</file>