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A5A-A522-4DE8-8AB3-F7EA792F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287-1EF8-4C05-ACEB-2F05E34B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58C-61FF-4A1C-8849-0EEA6091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0C2-0385-459D-BDBE-2DFA6734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ED4-A15D-4EB6-BB11-829BFEB9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E30-5041-4C49-80AD-1409587A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A0C-6EE2-42CE-81FF-EC953477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543-29F9-4EEA-AB8E-67A72DDF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1CD-1EBA-4817-BB8D-AEC604ED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0AB-F304-4EAA-B124-0A16F046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CEE-8170-482B-8142-2E5E61F4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37A-4758-4ED2-823E-B592F57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43CF-E764-465B-B982-5A3BD38B0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5040" y="2158920"/>
            <a:ext cx="3733920" cy="2540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586560"/>
            <a:ext cx="270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PS BY CARL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11280" y="1900080"/>
            <a:ext cx="4248360" cy="31114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1998720"/>
            <a:ext cx="4392720" cy="29080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28880"/>
            <a:ext cx="4176720" cy="2900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56000" y="1968480"/>
            <a:ext cx="4103640" cy="28702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92360" y="2389320"/>
            <a:ext cx="5759280" cy="207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05000" y="2158920"/>
            <a:ext cx="2934000" cy="2540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4560" y="2165400"/>
            <a:ext cx="3314880" cy="25272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2239920"/>
            <a:ext cx="4321440" cy="23763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01960" y="2158920"/>
            <a:ext cx="3340080" cy="2540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16360" y="1995480"/>
            <a:ext cx="3311280" cy="286704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360" y="2031840"/>
            <a:ext cx="3743280" cy="279432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98920" y="2158920"/>
            <a:ext cx="3746160" cy="2540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3457440" cy="28828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22:41:31Z</dcterms:created>
  <dc:creator>CARLO</dc:creator>
  <dc:description>www.funny.lu</dc:description>
  <dc:language>en-US</dc:language>
  <cp:lastModifiedBy>Smets</cp:lastModifiedBy>
  <dcterms:modified xsi:type="dcterms:W3CDTF">2008-11-03T18:06:05Z</dcterms:modified>
  <cp:revision>1</cp:revision>
  <dc:subject/>
  <dc:title>augen</dc:title>
</cp:coreProperties>
</file>