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948-6DF6-4B3A-8BC9-11AB15E1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718-E626-45DC-9E7B-600F953C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FEC-65DD-4BBF-BC2F-37F306FF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5B5-E390-4763-B1BC-73E8328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636-F5C9-490A-9D2A-396CF664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99B-AD05-4B49-8961-D0EE459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16B-BD65-485E-A320-E031CA8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A24-2BB4-4C9B-B052-C32A3815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5DD-CEF8-4969-AF5F-5DCE37A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E98-BD7C-4030-BC24-4A99CF6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3AD-F38F-4F6A-B62B-42EAC60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496-6FAD-47D6-9B4A-F682E08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1FF16-53D7-4151-A088-26802D8E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4EDF1-45AB-4684-B68F-4EBFF5BF1AF7}" type="slidenum"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51:13Z</dcterms:created>
  <dc:creator>최봉수</dc:creator>
  <dc:description/>
  <dc:language>en-US</dc:language>
  <cp:lastModifiedBy>군만두 맛있다</cp:lastModifiedBy>
  <dcterms:modified xsi:type="dcterms:W3CDTF">2023-07-12T06:10:20Z</dcterms:modified>
  <cp:revision>2</cp:revision>
  <dc:subject/>
  <dc:title>슬라이드 1</dc:title>
</cp:coreProperties>
</file>