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ECD-77D4-4D23-A644-520FECF3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182E-6180-4F56-9410-6FC9EF22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F6B9-78DF-4C64-9411-0C11B825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949-1723-4EEE-A52A-042847EA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A723-EB2E-465D-9C4E-2F45AD91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2A0F-A378-4F40-B8A0-43F7FDBE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F6B0-8B43-4C15-9884-2DD99F12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D3C-E54E-4C0E-9603-264CA792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2F0-7A75-4E03-AB11-42240321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FB67-6666-4910-BC57-BB97F221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DA66-41DA-4803-B67D-468B5801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805F-D0DC-4125-BE31-FABFBD7E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24805-E6B1-4AE1-9754-9B5D5E268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F0EC3-68DB-45FA-8C67-92D9E91AE928}" type="slidenum">
              <a:rPr b="1" lang="en-US" sz="2000" spc="-1" strike="noStrike">
                <a:solidFill>
                  <a:srgbClr val="ffff00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맑은 고딕"/>
              </a:rPr>
              <a:t>/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6:51:13Z</dcterms:created>
  <dc:creator>최봉수</dc:creator>
  <dc:description/>
  <dc:language>en-US</dc:language>
  <cp:lastModifiedBy>군만두 맛있다</cp:lastModifiedBy>
  <dcterms:modified xsi:type="dcterms:W3CDTF">2023-07-12T06:10:20Z</dcterms:modified>
  <cp:revision>2</cp:revision>
  <dc:subject/>
  <dc:title>슬라이드 1</dc:title>
</cp:coreProperties>
</file>