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993B-A8FA-4E8D-8161-E08F3F32D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EAFA-3BD4-4FCF-BC47-34BDB9690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5183-30BC-402A-ABEE-0F253133A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3977-FB4C-42C9-9DB2-C88439F7C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4C6C-61D7-4E24-8667-2C24DBAF8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84DD-FE78-4D6D-AB99-C348729EA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C5DD-03A3-4F0A-9637-5EDDB70BA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5783-46E3-42F5-936A-0242871F7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4034-55B2-4429-80DD-74B3E2A55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4E91-1C88-44EB-96DC-4B716FA17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851B-F977-4BFC-9BB1-DCB920360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7688-9388-4F73-80F5-1B315177A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5C5790-AC40-422B-85F7-4B370B5B329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DDC5CC-0686-49B7-AE28-27A9574064B7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image" Target="../media/image3.png"/><Relationship Id="rId6" Type="http://schemas.openxmlformats.org/officeDocument/2006/relationships/slide" Target="slide5.xml"/><Relationship Id="rId7" Type="http://schemas.openxmlformats.org/officeDocument/2006/relationships/slide" Target="slide3.xml"/><Relationship Id="rId8" Type="http://schemas.openxmlformats.org/officeDocument/2006/relationships/image" Target="../media/image3.png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1.xml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2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3">
              <a:hlinkClick r:id="rId9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5" descr=""/>
            <p:cNvPicPr/>
            <p:nvPr/>
          </p:nvPicPr>
          <p:blipFill>
            <a:blip r:embed="rId10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6">
              <a:hlinkClick r:id="rId11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2" descr=""/>
            <p:cNvPicPr/>
            <p:nvPr/>
          </p:nvPicPr>
          <p:blipFill>
            <a:blip r:embed="rId5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3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5" descr=""/>
            <p:cNvPicPr/>
            <p:nvPr/>
          </p:nvPicPr>
          <p:blipFill>
            <a:blip r:embed="rId6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8T19:08:21Z</dcterms:created>
  <dc:creator>최봉수</dc:creator>
  <dc:description/>
  <dc:language>en-US</dc:language>
  <cp:lastModifiedBy>맛있다 군만두</cp:lastModifiedBy>
  <dcterms:modified xsi:type="dcterms:W3CDTF">2024-10-01T02:42:07Z</dcterms:modified>
  <cp:revision>3</cp:revision>
  <dc:subject/>
  <dc:title>슬라이드 1</dc:title>
</cp:coreProperties>
</file>