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D1D-C591-4F37-AE39-CF61866F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68D-3A43-4524-A262-F46CB4AE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8F8-5038-480F-9232-D3193517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73A-5FCE-40DF-8819-7ACBFCBD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E2C-209E-4C66-9249-6D3B80B4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E08-6F80-4C1B-A91F-E00D2A4E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4AA-DA52-42E6-B858-FF1806B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C9E-7B4A-4F0E-AB1C-34EE74E7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169-F2DE-417D-9751-0FDAF21B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6B4-1650-4FC5-B369-88B2A7E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7D0-843D-40AC-9BFF-5D37F323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094-9D51-4F04-A623-78A0CD7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F057B-6240-476F-81B1-1395CDFBAF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CBAEA-012E-488B-B7C7-FD4F7A384589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9:08:21Z</dcterms:created>
  <dc:creator>최봉수</dc:creator>
  <dc:description/>
  <dc:language>en-US</dc:language>
  <cp:lastModifiedBy>맛있다 군만두</cp:lastModifiedBy>
  <dcterms:modified xsi:type="dcterms:W3CDTF">2024-10-01T02:42:07Z</dcterms:modified>
  <cp:revision>3</cp:revision>
  <dc:subject/>
  <dc:title>슬라이드 1</dc:title>
</cp:coreProperties>
</file>