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4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B9A-A4D7-4B5F-9FDA-47883D60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FE7-6C1E-4CD8-BD25-B65EE1F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BD4-C1AD-4EEF-A73C-DEAAD384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D77-BDB8-45D0-968D-88C1C493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253-0E48-4050-9BC1-FF2F8AA5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346-A2AC-400B-A8A8-576ACE23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72B4-8036-4947-97A8-9AEEEDB3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CF6-A72C-4D94-A261-B9E69BA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DB05-C3FE-4464-8671-470301A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1C8-7C45-4A67-B884-D5F994F2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1D79-3150-463F-8A6E-0EAE522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93A-464F-4136-B567-17E9967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8210-2E58-4FCE-8CB1-A9F7138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BF5-84E7-42F3-AD75-F43B51E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F47A-A506-4C8C-B78E-C75109E6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6827-E592-4A9C-963B-EDAE9286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5579-155A-4B6F-8A34-29A4AC8C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03A-23D9-4181-B7D1-2AE0416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067-FBDD-438D-9DF0-D40218B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D95-925D-497C-934B-481B5488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F35-1CA1-449A-86C1-EAB9160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ED9-99CF-4348-A0DA-233E1E7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2AD-CB09-4265-A3EB-783C971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8C8-24E6-420B-96E2-9FD1BCE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0AB2-717F-4EBA-AE44-DEE93F878D3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6C2-4898-4CA8-B4B0-47E796F062E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URSING AS A CAREER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12880" y="3276720"/>
            <a:ext cx="48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Puan Suzita Is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Market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Programmes Offer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12960" y="3552840"/>
            <a:ext cx="69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LOMA IN NU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DEPARTMEN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PROGRAMME (O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9440" y="235116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GRAMM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65240" y="2346480"/>
            <a:ext cx="6950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years (full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and Ju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Require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/ Si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8 and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M (credit in BM, BI, Math and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589120"/>
            <a:ext cx="695016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years train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seme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1 – Semester 1 &amp;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2 – Semester 3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3 – Semester 5 &amp;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aching/ Learn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209680"/>
            <a:ext cx="4419720" cy="36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y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and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– 16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–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209680"/>
            <a:ext cx="4495680" cy="36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practice at KP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(under super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urse Instr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– 10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Support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41560" y="2057400"/>
            <a:ext cx="695016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y”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”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Lectur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ma/ Moral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ysian Studies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s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Awar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3048120"/>
            <a:ext cx="5486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ma in Nursing (from PN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ration Nursing Certificate (from the Malaysian Nursing Boar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juimeng" descr=""/>
          <p:cNvPicPr/>
          <p:nvPr/>
        </p:nvPicPr>
        <p:blipFill>
          <a:blip r:embed="rId3"/>
          <a:stretch/>
        </p:blipFill>
        <p:spPr>
          <a:xfrm>
            <a:off x="152280" y="2468520"/>
            <a:ext cx="3200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RACTICE PROGRAMME (ODP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20968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winning programme between Puteri Nursing College and the Liverpool John Moores University, United King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students to acquire academic and professional credibility as a healthcare practitioner in the Operating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32600" y="2228760"/>
            <a:ext cx="498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750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s of Operating Depar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tio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3429000"/>
            <a:ext cx="51818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/ Scrub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ting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esthetic Ass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Room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SU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T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3276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5240" y="2346480"/>
            <a:ext cx="695016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ears (full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Require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/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between 18 to 4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M (preferably credit in 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score IELTS  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2589120"/>
            <a:ext cx="6950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ears train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eme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1 – Semester 1 &amp;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2 – Semester 3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-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08040" y="1901880"/>
            <a:ext cx="73310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fessional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to individual, famil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actice discip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87000" y="44136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HY NUR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28920" y="152280"/>
            <a:ext cx="7564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/ Learn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2362320"/>
            <a:ext cx="4419720" cy="32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r, coursework,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,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–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362320"/>
            <a:ext cx="4495680" cy="32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heat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J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2286000"/>
            <a:ext cx="56386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1576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ificate of Higher Education in operating Department Practice Level 1 (from Liverpool John Moores University, UK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1576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ificate of national Vocational Qualification (Level 3) in Operating Department (from City &amp; Guilds and Pitman Examination Institute London, UK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1576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ificate of Competence in operating Department Technique (from PN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odp-grad" descr=""/>
          <p:cNvPicPr/>
          <p:nvPr/>
        </p:nvPicPr>
        <p:blipFill>
          <a:blip r:embed="rId3"/>
          <a:stretch/>
        </p:blipFill>
        <p:spPr>
          <a:xfrm>
            <a:off x="152280" y="2063880"/>
            <a:ext cx="28530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earning 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1828800"/>
            <a:ext cx="3825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cture halls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rooms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 ro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ills La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 La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udi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243" name="skill%20lab2" descr=""/>
          <p:cNvPicPr/>
          <p:nvPr/>
        </p:nvPicPr>
        <p:blipFill>
          <a:blip r:embed="rId4"/>
          <a:stretch/>
        </p:blipFill>
        <p:spPr>
          <a:xfrm>
            <a:off x="76320" y="5181480"/>
            <a:ext cx="259056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2971800" y="518148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library2" descr=""/>
          <p:cNvPicPr/>
          <p:nvPr/>
        </p:nvPicPr>
        <p:blipFill>
          <a:blip r:embed="rId6"/>
          <a:stretch/>
        </p:blipFill>
        <p:spPr>
          <a:xfrm>
            <a:off x="5791320" y="44956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Support Facil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198108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e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eational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landscape" descr=""/>
          <p:cNvPicPr/>
          <p:nvPr/>
        </p:nvPicPr>
        <p:blipFill>
          <a:blip r:embed="rId3"/>
          <a:stretch/>
        </p:blipFill>
        <p:spPr>
          <a:xfrm>
            <a:off x="1676520" y="457200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250" name="hostel" descr=""/>
          <p:cNvPicPr/>
          <p:nvPr/>
        </p:nvPicPr>
        <p:blipFill>
          <a:blip r:embed="rId4"/>
          <a:stretch/>
        </p:blipFill>
        <p:spPr>
          <a:xfrm>
            <a:off x="5715000" y="2057400"/>
            <a:ext cx="3200400" cy="2306520"/>
          </a:xfrm>
          <a:prstGeom prst="rect">
            <a:avLst/>
          </a:prstGeom>
          <a:ln w="0">
            <a:noFill/>
          </a:ln>
        </p:spPr>
      </p:pic>
      <p:pic>
        <p:nvPicPr>
          <p:cNvPr id="251" name="jumbo%20sale" descr=""/>
          <p:cNvPicPr/>
          <p:nvPr/>
        </p:nvPicPr>
        <p:blipFill>
          <a:blip r:embed="rId5"/>
          <a:stretch/>
        </p:blipFill>
        <p:spPr>
          <a:xfrm>
            <a:off x="5715000" y="4572000"/>
            <a:ext cx="3200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Co Curricular Activ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1924200"/>
            <a:ext cx="3825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r/ D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es’ Da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aerobic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256" name="netball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nurseday" descr=""/>
          <p:cNvPicPr/>
          <p:nvPr/>
        </p:nvPicPr>
        <p:blipFill>
          <a:blip r:embed="rId5"/>
          <a:stretch/>
        </p:blipFill>
        <p:spPr>
          <a:xfrm>
            <a:off x="6324480" y="457200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258" name="choir1" descr=""/>
          <p:cNvPicPr/>
          <p:nvPr/>
        </p:nvPicPr>
        <p:blipFill>
          <a:blip r:embed="rId6"/>
          <a:stretch/>
        </p:blipFill>
        <p:spPr>
          <a:xfrm>
            <a:off x="5029200" y="1984320"/>
            <a:ext cx="39625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89760" y="2046240"/>
            <a:ext cx="3892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onation c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olleg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athon/ Joga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261" name="Pix-Old%20folk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328932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Pix-std%20children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2755800" cy="2133720"/>
          </a:xfrm>
          <a:prstGeom prst="rect">
            <a:avLst/>
          </a:prstGeom>
          <a:ln w="0">
            <a:noFill/>
          </a:ln>
        </p:spPr>
      </p:pic>
      <p:pic>
        <p:nvPicPr>
          <p:cNvPr id="263" name="heartday" descr=""/>
          <p:cNvPicPr/>
          <p:nvPr/>
        </p:nvPicPr>
        <p:blipFill>
          <a:blip r:embed="rId5"/>
          <a:stretch/>
        </p:blipFill>
        <p:spPr>
          <a:xfrm>
            <a:off x="3276720" y="4505400"/>
            <a:ext cx="2819160" cy="2047680"/>
          </a:xfrm>
          <a:prstGeom prst="rect">
            <a:avLst/>
          </a:prstGeom>
          <a:ln w="0">
            <a:noFill/>
          </a:ln>
        </p:spPr>
      </p:pic>
      <p:pic>
        <p:nvPicPr>
          <p:cNvPr id="264" name="blood%20donate" descr=""/>
          <p:cNvPicPr/>
          <p:nvPr/>
        </p:nvPicPr>
        <p:blipFill>
          <a:blip r:embed="rId6"/>
          <a:stretch/>
        </p:blipFill>
        <p:spPr>
          <a:xfrm>
            <a:off x="152280" y="4495680"/>
            <a:ext cx="2895840" cy="2210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Co Curricular Activ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3464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LL SPONSO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by KPJ Hospit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987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1337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rve 6 years upon comple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psh2" descr=""/>
          <p:cNvPicPr/>
          <p:nvPr/>
        </p:nvPicPr>
        <p:blipFill>
          <a:blip r:embed="rId3"/>
          <a:stretch/>
        </p:blipFill>
        <p:spPr>
          <a:xfrm>
            <a:off x="76320" y="1981080"/>
            <a:ext cx="188424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dsh" descr=""/>
          <p:cNvPicPr/>
          <p:nvPr/>
        </p:nvPicPr>
        <p:blipFill>
          <a:blip r:embed="rId4"/>
          <a:stretch/>
        </p:blipFill>
        <p:spPr>
          <a:xfrm>
            <a:off x="7315200" y="205740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273" name="jsh" descr=""/>
          <p:cNvPicPr/>
          <p:nvPr/>
        </p:nvPicPr>
        <p:blipFill>
          <a:blip r:embed="rId5"/>
          <a:stretch/>
        </p:blipFill>
        <p:spPr>
          <a:xfrm>
            <a:off x="4956120" y="3767040"/>
            <a:ext cx="1901880" cy="1262160"/>
          </a:xfrm>
          <a:prstGeom prst="rect">
            <a:avLst/>
          </a:prstGeom>
          <a:ln w="0">
            <a:noFill/>
          </a:ln>
        </p:spPr>
      </p:pic>
      <p:pic>
        <p:nvPicPr>
          <p:cNvPr id="274" name="ppt" descr=""/>
          <p:cNvPicPr/>
          <p:nvPr/>
        </p:nvPicPr>
        <p:blipFill>
          <a:blip r:embed="rId6"/>
          <a:stretch/>
        </p:blipFill>
        <p:spPr>
          <a:xfrm>
            <a:off x="2362320" y="3733920"/>
            <a:ext cx="2133360" cy="1295280"/>
          </a:xfrm>
          <a:prstGeom prst="rect">
            <a:avLst/>
          </a:prstGeom>
          <a:ln w="0">
            <a:noFill/>
          </a:ln>
        </p:spPr>
      </p:pic>
      <p:pic>
        <p:nvPicPr>
          <p:cNvPr id="275" name="isc" descr=""/>
          <p:cNvPicPr/>
          <p:nvPr/>
        </p:nvPicPr>
        <p:blipFill>
          <a:blip r:embed="rId7"/>
          <a:stretch/>
        </p:blipFill>
        <p:spPr>
          <a:xfrm>
            <a:off x="7169040" y="3657600"/>
            <a:ext cx="1898640" cy="1295280"/>
          </a:xfrm>
          <a:prstGeom prst="rect">
            <a:avLst/>
          </a:prstGeom>
          <a:ln w="0">
            <a:noFill/>
          </a:ln>
        </p:spPr>
      </p:pic>
      <p:pic>
        <p:nvPicPr>
          <p:cNvPr id="276" name="ksh" descr=""/>
          <p:cNvPicPr/>
          <p:nvPr/>
        </p:nvPicPr>
        <p:blipFill>
          <a:blip r:embed="rId8"/>
          <a:stretch/>
        </p:blipFill>
        <p:spPr>
          <a:xfrm>
            <a:off x="76320" y="36576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kmc" descr=""/>
          <p:cNvPicPr/>
          <p:nvPr/>
        </p:nvPicPr>
        <p:blipFill>
          <a:blip r:embed="rId9"/>
          <a:stretch/>
        </p:blipFill>
        <p:spPr>
          <a:xfrm>
            <a:off x="4952880" y="5307120"/>
            <a:ext cx="1884600" cy="1322280"/>
          </a:xfrm>
          <a:prstGeom prst="rect">
            <a:avLst/>
          </a:prstGeom>
          <a:ln w="0">
            <a:noFill/>
          </a:ln>
        </p:spPr>
      </p:pic>
      <p:pic>
        <p:nvPicPr>
          <p:cNvPr id="278" name="psh" descr=""/>
          <p:cNvPicPr/>
          <p:nvPr/>
        </p:nvPicPr>
        <p:blipFill>
          <a:blip r:embed="rId10"/>
          <a:stretch/>
        </p:blipFill>
        <p:spPr>
          <a:xfrm>
            <a:off x="2362320" y="5334120"/>
            <a:ext cx="2133360" cy="1295280"/>
          </a:xfrm>
          <a:prstGeom prst="rect">
            <a:avLst/>
          </a:prstGeom>
          <a:ln w="0">
            <a:noFill/>
          </a:ln>
        </p:spPr>
      </p:pic>
      <p:pic>
        <p:nvPicPr>
          <p:cNvPr id="279" name="penawar" descr=""/>
          <p:cNvPicPr/>
          <p:nvPr/>
        </p:nvPicPr>
        <p:blipFill>
          <a:blip r:embed="rId11"/>
          <a:stretch/>
        </p:blipFill>
        <p:spPr>
          <a:xfrm>
            <a:off x="7110360" y="5276880"/>
            <a:ext cx="195732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rss" descr=""/>
          <p:cNvPicPr/>
          <p:nvPr/>
        </p:nvPicPr>
        <p:blipFill>
          <a:blip r:embed="rId12"/>
          <a:stretch/>
        </p:blipFill>
        <p:spPr>
          <a:xfrm>
            <a:off x="76320" y="5257800"/>
            <a:ext cx="1904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IAL SPONSO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617920"/>
            <a:ext cx="7010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ition Fees - paid by KPJ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o pay own living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rve 3 years upon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Y MUST CHO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2008080"/>
            <a:ext cx="723888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established college – since 19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track record in the Nursing Board Final Ex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ate nursing college to collaborate with fore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st chain of private hospitals - clinical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3 in total (11 in Malaysia and 2 in Indone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teaching/ learning support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eg. English class, IT class,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, physical endurance activities, grooming se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nue to practice abroad especially middle east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70480" y="1143000"/>
            <a:ext cx="4673520" cy="4952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143000"/>
            <a:ext cx="4470480" cy="4952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2438280"/>
            <a:ext cx="2514600" cy="6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486240"/>
            <a:ext cx="2590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1840" y="76320"/>
            <a:ext cx="4978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EER PATHWAY IN KPJ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51160" y="6324480"/>
            <a:ext cx="2540160" cy="476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415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PLOMA IN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4560" y="5486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FF  N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1520" y="4419720"/>
            <a:ext cx="22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ST BA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GRAM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83760" y="5013360"/>
            <a:ext cx="304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 Midwifery (1y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  Critical Care Nursing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  Health Services Management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4.   Operating Department Practice (2 y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5.   Paediatric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6.   Renal Nursing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549600"/>
            <a:ext cx="20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CHELOR IN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1520" y="4457880"/>
            <a:ext cx="2235240" cy="5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336760" y="4971600"/>
            <a:ext cx="1828800" cy="514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7320" y="28954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828800" y="4057560"/>
            <a:ext cx="1320840" cy="36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715000" y="3257640"/>
            <a:ext cx="1295280" cy="552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9040" y="30052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828800" y="3429000"/>
            <a:ext cx="12952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2857680"/>
            <a:ext cx="114300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689080" y="2857320"/>
            <a:ext cx="1219320" cy="28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2438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40560" y="2190600"/>
            <a:ext cx="1269720" cy="3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36920" y="18972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828440" y="2286000"/>
            <a:ext cx="12193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18622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1600200"/>
            <a:ext cx="1957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1714680"/>
            <a:ext cx="134604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384880" y="1714680"/>
            <a:ext cx="154944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PORATE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1189080"/>
            <a:ext cx="32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SPITAL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9960" y="1189080"/>
            <a:ext cx="36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DUCATIONAL 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57913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4191120"/>
            <a:ext cx="381240" cy="1295280"/>
          </a:xfrm>
          <a:prstGeom prst="upArrow">
            <a:avLst>
              <a:gd name="adj1" fmla="val 50000"/>
              <a:gd name="adj2" fmla="val 849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1143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143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920" y="652320"/>
            <a:ext cx="54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-BASED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9880" y="32004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8560" y="32004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3720" y="320040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040" y="1905120"/>
            <a:ext cx="251460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905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905120"/>
            <a:ext cx="2666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APSH" descr=""/>
          <p:cNvPicPr/>
          <p:nvPr/>
        </p:nvPicPr>
        <p:blipFill>
          <a:blip r:embed="rId3"/>
          <a:stretch/>
        </p:blipFill>
        <p:spPr>
          <a:xfrm>
            <a:off x="76320" y="411480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PNC2" descr=""/>
          <p:cNvPicPr/>
          <p:nvPr/>
        </p:nvPicPr>
        <p:blipFill>
          <a:blip r:embed="rId4"/>
          <a:stretch/>
        </p:blipFill>
        <p:spPr>
          <a:xfrm>
            <a:off x="6019920" y="41148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x-Old%20folk2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642400" y="3321000"/>
            <a:ext cx="43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ignature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6920"/>
            <a:ext cx="7772400" cy="642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ER PATHWAY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9400" y="6461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PM/ S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9360" y="556272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ploma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4320" y="556272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ff N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Registe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6386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sic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88320" y="419112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pecialized Nu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idwifery, Paediatric, Renal Nurs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ritical Nursing, OT,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08400" y="32004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helor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7000" y="220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sters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4800" y="1219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D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59436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057040" y="59436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0200" y="387036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 – 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5943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65760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167652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267080"/>
            <a:ext cx="228600" cy="1295640"/>
          </a:xfrm>
          <a:prstGeom prst="upArrow">
            <a:avLst>
              <a:gd name="adj1" fmla="val 50000"/>
              <a:gd name="adj2" fmla="val 141693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514600"/>
            <a:ext cx="228600" cy="1295280"/>
          </a:xfrm>
          <a:prstGeom prst="upArrow">
            <a:avLst>
              <a:gd name="adj1" fmla="val 50000"/>
              <a:gd name="adj2" fmla="val 141654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574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 years &amp;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4495680"/>
            <a:ext cx="228600" cy="1067040"/>
          </a:xfrm>
          <a:prstGeom prst="upArrow">
            <a:avLst>
              <a:gd name="adj1" fmla="val 50000"/>
              <a:gd name="adj2" fmla="val 116693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3520" y="2895480"/>
            <a:ext cx="1973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rse Edu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alized N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3429000"/>
            <a:ext cx="10666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4114440"/>
            <a:ext cx="11430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8288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26668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029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3600" y="3200040"/>
            <a:ext cx="11430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52320" y="249876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rse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514600"/>
            <a:ext cx="11430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360" y="17524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rector of Nu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867280" y="2057400"/>
            <a:ext cx="99072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523880"/>
            <a:ext cx="106668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NURSING COURS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E OFFERED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1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45440" y="2097000"/>
            <a:ext cx="8867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SPITAL-BASED PROGRAM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ploma in Nursing (3 years trai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st Basic Courses (6 months to 1 year train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5 Post Basic Cour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wif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thopaedic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ia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edia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nal Nur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tensive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pe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nc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thorac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NURSING COURS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E OFF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89080" y="2097000"/>
            <a:ext cx="7003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- BASED PROGRAM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0520" y="3124080"/>
            <a:ext cx="504648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Mal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Kebangsaan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Sains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Pertanian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Sarawak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NURSING COURS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E OFF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6560" y="2097000"/>
            <a:ext cx="53121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VATE INSTIT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048120"/>
            <a:ext cx="462600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eri Nursing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nta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ai Medical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ang Jaya Medical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at Rawatan Is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neagles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038480"/>
            <a:ext cx="56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d in 1991 and launched by the then Minister of Health,YB Datuk Lee Kim Sai in September 19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33412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growing demands for trained nurses and increasing number of students per intake, PNC shifted to its new premise in Petaling Jaya in April 2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828800"/>
            <a:ext cx="556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y owned by the Kumpulan Perubatan Johor (KPJ), the Healthcare Division of the Johor Corpor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048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location was along Jalan Pahang, Kuala Lumpur – next to Tawakal Hospi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960" y="1793880"/>
            <a:ext cx="5461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2362320" cy="144756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629400" y="3505320"/>
            <a:ext cx="2362320" cy="15238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553080" y="5181480"/>
            <a:ext cx="2552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Track Record and Achiev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18480" y="194472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C has emerged 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ivate nursing colle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41560" y="2782800"/>
            <a:ext cx="679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ffer the Diploma in Nursing programme, recognized by the Ministry of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graduate nurses with 100%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duct Post Basic Specialization programmes affiliated with foreign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Operating Department Practice Programme (ODP) for OT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06240" y="2793960"/>
            <a:ext cx="53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2:16:00Z</dcterms:created>
  <dc:creator>Healthcare Technical Services</dc:creator>
  <dc:description/>
  <dc:language>en-US</dc:language>
  <cp:lastModifiedBy>z</cp:lastModifiedBy>
  <dcterms:modified xsi:type="dcterms:W3CDTF">2003-01-07T04:05:37Z</dcterms:modified>
  <cp:revision>47</cp:revision>
  <dc:subject/>
  <dc:title>NURSING  - A LIFETIME CAREER</dc:title>
</cp:coreProperties>
</file>