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C76E-9FBF-46D0-86F5-2FF96E54E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A3B4-EE2F-4A5B-A89D-2ABC424BE67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EE75-B65A-4557-B326-1A048B82D86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49C-209F-4270-A68F-AF4AEF8E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4F2-9DC3-44DC-B0B3-BBBD1C46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04B-884B-49E7-9512-3435129B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10A-6BD7-4802-B228-9273F103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528-32C4-4710-AD6B-F7A04E28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B1F-03B6-4D85-A1A2-33884246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79F-E4D5-4488-965C-C5F1A0EE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7E3-DFEE-4A52-96B5-D6AD509A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D74-8AFE-4F62-9CBF-4A8E8444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EA8-C04F-42EC-ABC1-ECC71EE4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05D-3B17-4900-8382-D67E78D2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766-D3FD-4EAA-99C7-703E2261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FFDA-186B-46ED-9908-02DB533E6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0" y="1440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2"/>
          <p:cNvSpPr/>
          <p:nvPr/>
        </p:nvSpPr>
        <p:spPr>
          <a:xfrm>
            <a:off x="2627280" y="4797360"/>
            <a:ext cx="63356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ON-MENDELIAN 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3056760" y="543384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ATYPICAL MENDELIAN INHERI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404640"/>
            <a:ext cx="4427640" cy="37306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46911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itochondrial Inheritan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39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uman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cell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typically contain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thousand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of copies of the double-stranded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mitochondrial DN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molecu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uring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zygo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mation, a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sperm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cell contributes its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nuclear genom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, but not its mitochondrial genome, to the egg ce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nsequently, the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mitochondrial genom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of the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zygot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is usually determined exclusively by that originally found in the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unfertilized eg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maternally inherited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Males do not transmit their mitochondri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to subsequent gener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896000" y="0"/>
            <a:ext cx="4248000" cy="173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4896000" y="1812960"/>
            <a:ext cx="4228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rcRect l="25721" t="44685" r="23737" b="45335"/>
          <a:stretch/>
        </p:blipFill>
        <p:spPr>
          <a:xfrm>
            <a:off x="1981080" y="152280"/>
            <a:ext cx="7159680" cy="609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rcRect l="26327" t="39286" r="49245" b="34129"/>
          <a:stretch/>
        </p:blipFill>
        <p:spPr>
          <a:xfrm>
            <a:off x="82440" y="914400"/>
            <a:ext cx="9058320" cy="5543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saicis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saicis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saicis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describes the occurrenc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more than one cell line in the body the bod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aicism is caused when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mutation arises early in development during mitosis (post-fertilization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resulting individual will be a mixture of cells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some with the mu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some without the mu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ow earl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development the mutation occurs will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etermine what tissue(s) and what percentage of cell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ill have the mut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aicism can be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germline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 (affecting only egg or sperm cells)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somatic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 (affecting cells other than egg or sperm cell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, or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combin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bot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matic mosaicis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91440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atic mosaicism occu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n the somatic cells of the body are of more than one genotyp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In the more common mosaics, different genotypes arise from a single fertilized egg cell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ue to mitotic errors at first or later cleava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imer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wo or more genotypes arise from the fusion of more than one fertilized zygo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in the early stages of embryonal 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ermline Mosaic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mosaic germline mutation is significant because it can b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passed to offspring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ypically, a person with </a:t>
            </a: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only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 germline mosaicism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ill not be affected with the disorder caused by the mutation because the mutation i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not in the other cells of the bod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  Genetic testing using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blood or tissue samples (other than germline tissue)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individuals who only have a germline mutation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will be negative for the mut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rmline mosaicism can be observed with any inheritance pattern, but it is most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commonly seen with autosomal dominant and X-linked disorder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st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individuals are unaware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y possess a germline mutation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until they have childre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ar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affecte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Because the mosaic germline mutation i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present in the egg or sperm cel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it will also b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present in all cells of the child developing from that germ cel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If it is an autosomal dominant mutation,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child will be affected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ith the disorder, and will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not be a mosaic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ike his or her par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recurrence risk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a parent with germline mosaicism for an AD disorder is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hard to predict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nce i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depends 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proportion of germline cells with the mu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can not be determined through testing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sord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ques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In most instance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re unaffected parents have a child with an autosomal dominant (AD) disorder, it is because of a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new mutatio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at occurred by chance i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only one egg or sperm cel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not in a proportio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f them. This is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called a 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sporadic mut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However, i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rare situation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unaffected parents can hav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more than one child with an AD disorde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This can be caused by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germline mosaicis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-360" y="0"/>
            <a:ext cx="6095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pedigre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llustrated here,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ather is unaffecte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A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dition and 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oes not have the gene mutation in his blood cell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It would b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xtremely rare for a new mutation to occur in 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both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 of his childr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 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most likely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use for two affected children is that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ather is a germline mosaic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the disord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rmline mosaicism has been observed in a number of conditions, includin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osteogenesis imperfect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uchenne muscular dystroph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A pedigree of germline mosaicism for an AD condition"/>
          <p:cNvPicPr/>
          <p:nvPr/>
        </p:nvPicPr>
        <p:blipFill>
          <a:blip r:embed="rId1"/>
          <a:stretch/>
        </p:blipFill>
        <p:spPr>
          <a:xfrm>
            <a:off x="6012000" y="2941560"/>
            <a:ext cx="3146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6:25:02Z</dcterms:created>
  <dc:creator>msabry</dc:creator>
  <dc:description/>
  <dc:language>en-US</dc:language>
  <cp:lastModifiedBy>hall</cp:lastModifiedBy>
  <dcterms:modified xsi:type="dcterms:W3CDTF">2013-12-09T10:17:19Z</dcterms:modified>
  <cp:revision>12</cp:revision>
  <dc:subject/>
  <dc:title>PowerPoint Presentation</dc:title>
</cp:coreProperties>
</file>