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565-34EF-4399-BDC4-B581D915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21E2-9E4F-4DAA-A412-453726EE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FCE8-B756-4B0D-9F84-AD5CABE4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E79E-E5E2-40D0-9883-424FDF26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0F1C-94D5-415C-B22B-153C1C9D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0720-730A-44A3-8AC8-0BB139E2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EB00-AC56-4E20-9243-CDA101BA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8346-654F-4493-9DDA-19B171E5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B789-5164-4B17-82FE-45B016E9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84C8-BAA0-40DA-A80F-B9819CBD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047A-9241-4A01-91C7-AC39756A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B562-0614-455C-9B04-132F07B3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E9AB-2D19-4B67-8EE5-43E50A40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C38E-59F4-4BCE-A72D-DAC70AE5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B20A-F7D0-4B2A-8CFB-693DCC94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6411-6002-424B-9ACB-444399A6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AA79-33BE-4BDC-8D3B-96198BDC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8899-5632-443D-8B48-8F1C03A1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BCA-2807-421C-8F52-F742138B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5CE-8F39-44A1-9991-43CC348C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C66F-2B5D-45F2-AD08-562408CC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30BE-63FA-4BE1-AEC9-52298ABF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266-7CD1-47AA-898F-9C2D4353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37D-03C0-4063-9DA9-71A22522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NI-Time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NI-Time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NI-Time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NI-Time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NI-Time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NI-Time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9FBD-285B-477D-805B-83FBA7A7F788}" type="slidenum">
              <a:rPr b="0" lang="en-US" sz="1400" spc="-1" strike="noStrike">
                <a:solidFill>
                  <a:srgbClr val="000000"/>
                </a:solidFill>
                <a:latin typeface="VNI-Time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NI-Time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VNI-Time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VNI-Time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VNI-Time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VNI-Time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VNI-Time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8927-EAF8-49C4-9B08-2FF7C2760C3F}" type="slidenum">
              <a:rPr b="0" lang="en-US" sz="1400" spc="-1" strike="noStrike">
                <a:solidFill>
                  <a:srgbClr val="1c1c1c"/>
                </a:solidFill>
                <a:latin typeface="VNI-Time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Time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Time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Time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Time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VNI-Duff"/>
              </a:rPr>
              <a:t>RAÊNG &amp; BOÄ RAÊNG</a:t>
            </a:r>
            <a:endParaRPr b="0" lang="en-US" sz="60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Ngöôøi giaûng : ThS Nguyeãn Höõu Nhaâ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PCN BmSKRM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2860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NI-Book"/>
              </a:rPr>
              <a:t>TTÑT&amp;BDCBY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NI-Book"/>
              </a:rPr>
              <a:t>BmSK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50960" y="-360"/>
            <a:ext cx="479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VNI-Times"/>
              </a:rPr>
              <a:t>2. Caáu truùc sinh hoïc moâ raêng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Times"/>
              </a:rPr>
              <a:t>Nhieäm vuï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: taïo ngaø vaø tieáp nhaän caûm giaùc nhôø caùc daây thaàn kinh vôùi caùc ñaàu taän cuøng ôû saùt vaùch tuûy hoaëc chui vaøo caùc oáng ngaø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Times"/>
              </a:rPr>
              <a:t>Caûm giaùc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cuûa tuûy raát ñaëc bieät vì :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-Khoâng ñaëc hieäu veà vò trí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-Khoâng ñaëc hieäu veà nguyeân nhaân gaây ra caûm giaùc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-Do ôû trong buoàng kín vaø do caáu truùc cuûa heä maïch maùu, tuûy raêng vöøa deã bò vieâm vöøa deã bò hoaïi töû vì phaûn öùng vieâm ñoù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-Khi vieâm gaây ñau nhöùc döõ doäi.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914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Tuyû raêng</a:t>
            </a:r>
            <a:r>
              <a:rPr b="1" i="1" lang="en-US" sz="3000" spc="-1" strike="noStrike">
                <a:solidFill>
                  <a:srgbClr val="000000"/>
                </a:solidFill>
                <a:latin typeface="VNI-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NI-Times"/>
              </a:rPr>
              <a:t>Caáu truùc moâ Raêng </a:t>
            </a:r>
            <a:endParaRPr b="0" lang="en-US" sz="4000" spc="-1" strike="noStrike">
              <a:solidFill>
                <a:srgbClr val="333399"/>
              </a:solidFill>
              <a:latin typeface="VNI-Time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47920" y="936720"/>
            <a:ext cx="655308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99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VNI-Times"/>
              </a:rPr>
              <a:t>3. Caáu truùc sinh hoïc moâ nha chu</a:t>
            </a: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800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Times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VNI-Book"/>
              </a:rPr>
              <a:t>Xeâ maêng chaân raêng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Moät moâ daïng xöông ñaëc bieät baùm chaët vaøo ngaø chaân raêng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Xeâmaêng ñöôïc taïo ra thöôøng xuyeân trong suoát cuoäc ñôøi (cementoblast) ñaëc bieät ôû choùp raêng ñeå buø ñaép cho söï moøn ôû maët nhai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776840" y="2021040"/>
          <a:ext cx="427032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6840" y="2021040"/>
                    <a:ext cx="427032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3399"/>
                </a:solidFill>
                <a:uFillTx/>
                <a:latin typeface="VNI-Times"/>
              </a:rPr>
              <a:t>3. Caáu truùc sinh hoïc moâ nha chu</a:t>
            </a:r>
            <a:endParaRPr b="0" lang="en-US" sz="40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2017440"/>
            <a:ext cx="47242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NI-Times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VNI-Book"/>
              </a:rPr>
              <a:t>Daây chaèng nha chu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-Laø moät moâ lieân keát giaøu nguyeân baøo vaø teá baoø sôïi vôùi nhieàu maïch maùu vaø thaàn kinh.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-Laø nhöõng sôïi lieân keát ñaëc bieät noái töø ceùment ñeán xöông oå raêng.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-Daây chaèng coù ñoä daày khoaûng ¼ mm.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73680" y="2017800"/>
            <a:ext cx="255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33560" y="1522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VNI-Times"/>
              </a:rPr>
              <a:t>3. Caáu truùc sinh hoïc moâ nha chu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Times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Daây chaèng nha chu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8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VNI-Times"/>
              </a:rPr>
              <a:t>-Chöùc naêng :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-Giaûm chaán ñoäng (R bình  thöôøng coù ñoä lung lay nhaát ñònh)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-Truyeàn löïc nhai xuoáng xöông oå raêng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-Nuoâi lôùp xeâ maêng vaø xöông oå raêng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-Taïo caûm giaùc ñònh vò vaø xuùc giaùc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33560" y="1522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VNI-Times"/>
              </a:rPr>
              <a:t>3. Caáu truùc sinh hoïc moâ nha chu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NI-Times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Nöôùu raêng</a:t>
            </a:r>
            <a:r>
              <a:rPr b="1" i="1" lang="en-US" sz="2800" spc="-1" strike="noStrike">
                <a:solidFill>
                  <a:srgbClr val="000000"/>
                </a:solidFill>
                <a:latin typeface="VNI-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lvl="1" marL="668520" indent="-2570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NI-Times"/>
              </a:rPr>
              <a:t>-Nieâm maïc nöôùu lieân tuïc vôùi nieâm maïc mieäng.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lvl="1" marL="668520" indent="-2570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NI-Times"/>
              </a:rPr>
              <a:t>-Goàm nöôùu dính ( baùm vaøo maët ngoaøi cuûa xöông oå raêng) vaø nöôùu rôøi.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lvl="1" marL="668520" indent="-2570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NI-Times"/>
              </a:rPr>
              <a:t>-Ôû maët thaân raêng cuûa nöôùu rôøi  coù moät vuøng bieåu moâ ñaëc bieät  goïi laø bieåu moâ baùm dính, ñoù laø nôi bieåu moâ nöôùu baùm dính vaøo men raêng.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NI-Times"/>
              </a:rPr>
              <a:t>-Bieåu moâ nöôùu ñöôïc keùratin hoùa ôû maët ngoaøi, khoâng keratin hoùa ôû maët trong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33560" y="1522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VNI-Times"/>
              </a:rPr>
              <a:t>3. Caáu truùc sinh hoïc moâ nha chu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Times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VNI-Book"/>
              </a:rPr>
              <a:t>Xöông oå raêng</a:t>
            </a: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60960" indent="-2541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-Laø moät phaàn cuûa xöông haøm laøm choã töïa cho raêng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60960" indent="-2541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-Laø moät moâ xöông xoáp lieân tuïc vôùi xöông haøm vaø taïo thaønh nhöõng huyeät gioáng vôùi hình theå caùc chaân raêng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60960" indent="-2541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-Coù moät vaùch xöông moûng vaø cöùng bao xung quanh chaân raêng vaø laø nôi ñeå caùc daây chaèng nha chu baùm vaøo (phieán cöùng-lamina dura)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60960" indent="-2541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-Neáu raêng bò nhoå xöông oå raêng seõ bò tieâu daàn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479268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NI-Times"/>
              </a:rPr>
              <a:t>Caáu taïo moâ nha chu</a:t>
            </a:r>
            <a:endParaRPr b="0" lang="en-US" sz="4000" spc="-1" strike="noStrike">
              <a:solidFill>
                <a:srgbClr val="333399"/>
              </a:solidFill>
              <a:latin typeface="VNI-Time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6293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10080" y="685440"/>
            <a:ext cx="155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NI-Times"/>
              </a:rPr>
              <a:t>Caáu truùc moät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NI-Times"/>
              </a:rPr>
              <a:t>ñô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NI-Times"/>
              </a:rPr>
              <a:t>vò raêng</a:t>
            </a: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09680" y="179280"/>
            <a:ext cx="426888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VNI-Times"/>
              </a:rPr>
              <a:t>4. Teân goïi vaø kyù hieäu thoâng duïng</a:t>
            </a:r>
            <a:endParaRPr b="0" lang="en-US" sz="40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Boä raêng söõa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NI-Times"/>
              </a:rPr>
              <a:t>Nhoùm raêng cöûa söõa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Raêng cöûa giöõa söõa ( Raêng A hay Raêng I )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Raêng cöûa beân söõa (Raêng B hay Raêng II )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NI-Times"/>
              </a:rPr>
              <a:t>Nhoùm raêng nanh söõa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Raêng nanh söõa (Raêng C hay Raêng III )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NI-Times"/>
              </a:rPr>
              <a:t>Nhoùm raêng coái söõa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Raêng coái söõa thöù 1 (Raêng D hay Raêng IV)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Raêng coái söõa thöù 2 (Raêng E hay Raêng V)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NI-Times"/>
              </a:rPr>
              <a:t>Muïc tieâu:</a:t>
            </a: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Trình baøy ñöôïc caùc khaùi nieäm veà heä thoáng nhai vaø cô quan raêng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Veõ vaø chuù thích ñöôïc caùc thaønh phaàn cuûa cô quan raêng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Moâ taû ñöôïc caùc caáu truùc sinh hoïc cô baûn cuûa moâ raêng vaø nha chu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Trình baøy ñöôïc caùch vieát kyù hieäu thoâng duïng ñeå chæ caùc raêng treân cung raêng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6012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NI-Times"/>
              </a:rPr>
              <a:t>Hình daïng boä raêng söõa</a:t>
            </a: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62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1280" y="0"/>
            <a:ext cx="5202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VNI-Times"/>
              </a:rPr>
              <a:t>4. Teân goïi vaø kyù hieäu thoâng duïng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Boä raêng vónh vieãn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VNI-Times"/>
              </a:rPr>
              <a:t>Nhoùm raêng cöûa 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: Raêng cöûa giöõa ( Raêng soá1)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Raêng cöûa beân (Raêng soá 2)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VNI-Times"/>
              </a:rPr>
              <a:t>Nhoùm raêng nanh 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: Raêng nanh (Raêng soá 3)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VNI-Times"/>
              </a:rPr>
              <a:t>Nhoùm raêng coái nhoû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Raêng coái nhoû thöù 1 (Raêng soá 4)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Raêng coái nhoû thöù 2 (Raêng soá 5)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VNI-Times"/>
              </a:rPr>
              <a:t>Nhoùm raêng coái lôùn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Raêng coái lôùn thöù 1 (Raêng soá 6 hay raêng 6 tuoåi)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Raêng coái lôùn thöù 2 (Raêng soá 7 hay raêng 12 tuoåi)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Raêng coái lôùn thöù 3 (Raêng soá 8 hay raêng khoân)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NI-Times"/>
              </a:rPr>
              <a:t>Hình daïng boä raêng vónh vieãn</a:t>
            </a: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920" y="3002040"/>
            <a:ext cx="86500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41840" y="-360"/>
            <a:ext cx="5402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VNI-Times"/>
              </a:rPr>
              <a:t>4. Teân goïi vaø kyù hieäu thoâng duïng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815328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Nha thöùc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Times"/>
              </a:rPr>
              <a:t>Duøng ñeå bieåu dieãn soá löôïng cuûa töøng nhoùm raêng ôû moät beân haøm (nöûa haøm treân vaø nöûa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VNI-Times"/>
              </a:rPr>
              <a:t>haøm döôùi ).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Raêng söõa :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VNI-Times"/>
              </a:rPr>
              <a:t>Cöûa  ---   Nanh  ---   Coái  ---   =  16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Raêng vónh vieãn :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VNI-Times"/>
              </a:rPr>
              <a:t>Cöûa --- Nanh ---  Coái nhoû --- Coái lôùn ---   = 32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342900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NI-Book"/>
              </a:rPr>
              <a:t>2            1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NI-Book"/>
              </a:rPr>
              <a:t>2            1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525780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49528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NI-Book"/>
              </a:rPr>
              <a:t>2          1             2    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NI-Book"/>
              </a:rPr>
              <a:t>2          1             2           3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1280" y="-360"/>
            <a:ext cx="5202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VNI-Times"/>
              </a:rPr>
              <a:t>4. Teân goïi vaø kyù hieäu thoâng duïng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NI-Book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NI-Book"/>
              </a:rPr>
              <a:t>Sô ñoà raêng</a:t>
            </a: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Times"/>
              </a:rPr>
              <a:t>Raêng vónh vieãn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NI-Times"/>
              </a:rPr>
              <a:t>(1)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TP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NI-Times"/>
              </a:rPr>
              <a:t>(2)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   T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8  7  6  5  4  3  2  1     1  2  3  4  5  6  7  8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8  7  6  5  4  3  2  1     1  2  3  4  5  6  7  8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NI-Times"/>
              </a:rPr>
              <a:t>(4)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DP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NI-Times"/>
              </a:rPr>
              <a:t>(3)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2971800"/>
            <a:ext cx="0" cy="2209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4038480"/>
            <a:ext cx="8001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1280" y="-360"/>
            <a:ext cx="5202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VNI-Times"/>
              </a:rPr>
              <a:t>4. Teân goïi vaø kyù hieäu thoâng duïng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NI-Book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NI-Book"/>
              </a:rPr>
              <a:t>Sô ñoà raêng</a:t>
            </a: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Times"/>
              </a:rPr>
              <a:t>Raêng söõa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         </a:t>
            </a:r>
            <a:r>
              <a:rPr b="0" lang="en-US" sz="3200" spc="-1" strike="noStrike">
                <a:solidFill>
                  <a:srgbClr val="ff0000"/>
                </a:solidFill>
                <a:latin typeface="VNI-Times"/>
              </a:rPr>
              <a:t>(5)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TP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NI-Times"/>
              </a:rPr>
              <a:t>(6)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T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5  4  3  2  1     1  2  3  4  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5  4  3  2  1     1  2  3  4  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NI-Times"/>
              </a:rPr>
              <a:t>(8)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DP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NI-Times"/>
              </a:rPr>
              <a:t>(7)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2971800"/>
            <a:ext cx="0" cy="2209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4038480"/>
            <a:ext cx="4876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1280" y="-360"/>
            <a:ext cx="5202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VNI-Times"/>
              </a:rPr>
              <a:t>4. Teân goïi vaø kyù hieäu thoâng duïng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162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Book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Sô ñoà raêng</a:t>
            </a:r>
            <a:r>
              <a:rPr b="1" i="1" lang="en-US" sz="2400" spc="-1" strike="noStrike">
                <a:solidFill>
                  <a:srgbClr val="000000"/>
                </a:solidFill>
                <a:latin typeface="VNI-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Times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VNI-Times"/>
              </a:rPr>
              <a:t>Raêng söõa</a:t>
            </a:r>
            <a:r>
              <a:rPr b="0" lang="en-US" sz="3000" spc="-1" strike="noStrike">
                <a:solidFill>
                  <a:srgbClr val="000000"/>
                </a:solidFill>
                <a:latin typeface="VNI-Times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VNI-Times"/>
              </a:rPr>
              <a:t>V   IV   III   II   I        I   II   III   IV   V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VNI-Time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VNI-Times"/>
              </a:rPr>
              <a:t>V   IV   III   II   I        I   II   III   IV   V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 </a:t>
            </a:r>
            <a:r>
              <a:rPr b="0" lang="en-US" sz="3200" spc="-1" strike="noStrike">
                <a:solidFill>
                  <a:srgbClr val="669900"/>
                </a:solidFill>
                <a:latin typeface="VNI-Times"/>
              </a:rPr>
              <a:t>E   D   C   B   A         A   B   C   D   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669900"/>
                </a:solidFill>
                <a:latin typeface="VNI-Times"/>
              </a:rPr>
              <a:t>  </a:t>
            </a:r>
            <a:r>
              <a:rPr b="0" lang="en-US" sz="3200" spc="-1" strike="noStrike">
                <a:solidFill>
                  <a:srgbClr val="669900"/>
                </a:solidFill>
                <a:latin typeface="VNI-Times"/>
              </a:rPr>
              <a:t>E   D   C   B   A         A   B   C   D   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3276720"/>
            <a:ext cx="7315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257800"/>
            <a:ext cx="7315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2438280"/>
            <a:ext cx="0" cy="1676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4343400"/>
            <a:ext cx="0" cy="1676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9520" y="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VNI-Times"/>
              </a:rPr>
              <a:t>4. Teân goïi vaø kyù hieäu thoâng duïng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Kyù hieäu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Times"/>
              </a:rPr>
              <a:t>Ví duï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Ñeå kyù hieäu raêng nanh vónh vieãn haøm treân beân phaûi ta vieát :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VNI-Times"/>
              </a:rPr>
              <a:t>Raêng 13 ( ñoïc laø moät ba ) hay  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Ñeå kyù hieäu raêng nanh söõa haøm döôùi beân traùi ta vieát :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VNI-Times"/>
              </a:rPr>
              <a:t>Raêng 73 (ñoïc laø baûy ba)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VNI-Times"/>
              </a:rPr>
              <a:t>      hay   III     hay   C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4114800"/>
            <a:ext cx="457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5562720"/>
            <a:ext cx="7617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52880" y="5562720"/>
            <a:ext cx="6858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5562720"/>
            <a:ext cx="0" cy="6094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52880" y="5562720"/>
            <a:ext cx="0" cy="5331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772400" y="3505320"/>
            <a:ext cx="0" cy="6094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VNI-Times"/>
              </a:rPr>
              <a:t>1. Caùc khaùi nieäm cô baûn</a:t>
            </a:r>
            <a:r>
              <a:rPr b="0" lang="en-US" sz="4400" spc="-1" strike="noStrike">
                <a:solidFill>
                  <a:srgbClr val="333399"/>
                </a:solidFill>
                <a:latin typeface="VNI-Times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Heä thoáng nhai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Bao goàm raêng, nha chu, xöông haøm, khôùp thaùi döông haøm, caùc cô nhai, caùc daây thaàn kinh, maïch maùu, heä thoáng tuyeán nöôùc mieáng, heä thoáng moâi - maù - löôõi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0" y="214200"/>
            <a:ext cx="43718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VNI-Times"/>
              </a:rPr>
              <a:t>1. Caùc khaùi nieäm cô baûn</a:t>
            </a:r>
            <a:endParaRPr b="0" lang="en-US" sz="32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8153280" cy="556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Cô quan raêng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921240" indent="-496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NI-Times"/>
              </a:rPr>
              <a:t>laø moät ñôn vò caáu taïo vaø chöùc naêng cuûa boä raêng, bao goàm raêng vaø nha chu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NI-Times"/>
              </a:rPr>
              <a:t>- Raêng laø boä phaän chính, tröïc tieáp nhai nghieàn thöùc aên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NI-Times"/>
              </a:rPr>
              <a:t>- Nha chu laø boä phaän naâng ñôõ vaø giöõ raêng taïi choã, tröïc tieáp chòu aûnh höôûng cuûa löïc nhai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Boä raêng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921240" indent="-496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NI-Times"/>
              </a:rPr>
              <a:t>laø söï saép xeáp coù toå chöùc cuûa caùc cô quan raêng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VNI-Times"/>
              </a:rPr>
              <a:t>2. Caáu truùc sinh hoïc moâ raêng</a:t>
            </a:r>
            <a:r>
              <a:rPr b="0" lang="en-US" sz="4400" spc="-1" strike="noStrike">
                <a:solidFill>
                  <a:srgbClr val="333399"/>
                </a:solidFill>
                <a:latin typeface="VNI-Times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Times"/>
              </a:rPr>
              <a:t>Men raêng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:Laø moät moâ calci hoùa cao ñoä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1903320"/>
          <a:ext cx="749628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3320"/>
                    <a:ext cx="749628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809880" y="5791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Book"/>
              </a:rPr>
              <a:t>TYÛ LEÄ % THEO TROÏNG LÖÔÏ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81440" y="-360"/>
            <a:ext cx="53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VNI-Times"/>
              </a:rPr>
              <a:t>2. Caáu truùc sinh hoïc moâ raêng</a:t>
            </a:r>
            <a:endParaRPr b="0" lang="en-US" sz="32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Men raêng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ñöôïc hình thaønh vaø ñònh hình töø tröôùc khi raêng moïc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Sau khi raêng moïc (trong khoaûng töø 2 ñeán 3 naêm ) dieãn ra quaù trình tröôûng thaønh men raêng , coù söï trao ñoåi chaát vôùi nöôùc boït laøm cho caùc tinh theå (Hydroxyapatit vaø Fluoroapatit - ñôn vò caáu taïo truï men) trong men raêng coù söï thay ñoåi so vôùi men raêng hình thaønh khi chöa moïc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9907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43200" y="228600"/>
            <a:ext cx="460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VNI-Times"/>
              </a:rPr>
              <a:t>2. Caáu truùc sinh hoïc moâ raêng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199280" cy="11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Ngaø raêng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: </a:t>
            </a:r>
            <a:r>
              <a:rPr b="0" lang="en-US" sz="2600" spc="-1" strike="noStrike">
                <a:solidFill>
                  <a:srgbClr val="000000"/>
                </a:solidFill>
                <a:latin typeface="VNI-Times"/>
              </a:rPr>
              <a:t>cuõng laø moâ calci hoaù cao ñoä nhöng thaáp hôn men raêng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9907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87480" y="2189160"/>
          <a:ext cx="622764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189160"/>
                    <a:ext cx="622764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50960" y="-360"/>
            <a:ext cx="479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VNI-Times"/>
              </a:rPr>
              <a:t>2. Caáu truùc sinh hoïc moâ raêng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-Trong ngaø coù nhieàu oáng nhoû chöùa caùc ñuoâi nguyeân sinh chaát cuûa caùc taïo ngaø baøo, oáng ngaø coù ñöôøng kính khoaûng 5-10 μm ( 1μm = 1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NI-Times"/>
              </a:rPr>
              <a:t>–6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 m)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-Treân 1m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NI-Time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caét ngang qua ngaø raêng coù khoaûng töø 20.000 ñeán 50.000 oáng ngaø, ngaø raêng nhö vaäy laø moät moâ töông ñoái xoáp vaø ñaøn hoài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914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Ngaø raêng</a:t>
            </a:r>
            <a:r>
              <a:rPr b="1" i="1" lang="en-US" sz="3000" spc="-1" strike="noStrike">
                <a:solidFill>
                  <a:srgbClr val="000000"/>
                </a:solidFill>
                <a:latin typeface="VNI-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50960" y="-360"/>
            <a:ext cx="479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VNI-Times"/>
              </a:rPr>
              <a:t>2. Caáu truùc sinh hoïc moâ raêng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-Laø moät </a:t>
            </a:r>
            <a:r>
              <a:rPr b="1" i="1" lang="en-US" sz="3200" spc="-1" strike="noStrike">
                <a:solidFill>
                  <a:srgbClr val="000000"/>
                </a:solidFill>
                <a:latin typeface="VNI-Times"/>
              </a:rPr>
              <a:t>moâ lieân keát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ñaëc bieät giaøu maïch maùu vaø thaàn kinh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-Coù moät loaïi teá baøo ñaëc bieät laø caùc </a:t>
            </a:r>
            <a:r>
              <a:rPr b="1" i="1" lang="en-US" sz="3200" spc="-1" strike="noStrike">
                <a:solidFill>
                  <a:srgbClr val="000000"/>
                </a:solidFill>
                <a:latin typeface="VNI-Times"/>
              </a:rPr>
              <a:t>taïo ngaø baøo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xeáp thaønh moät haøng ôû saùt vaùch tuûy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-Caùc taïo ngaø baøo lieân tuïc taïo ra ngaø (</a:t>
            </a:r>
            <a:r>
              <a:rPr b="1" i="1" lang="en-US" sz="3200" spc="-1" strike="noStrike">
                <a:solidFill>
                  <a:srgbClr val="000000"/>
                </a:solidFill>
                <a:latin typeface="VNI-Times"/>
              </a:rPr>
              <a:t>ngaø thöù phaùt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) laøm cho hoác tuûy ngaøy caøng heïp laïi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914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Tuyû raêng</a:t>
            </a:r>
            <a:r>
              <a:rPr b="1" i="1" lang="en-US" sz="3000" spc="-1" strike="noStrike">
                <a:solidFill>
                  <a:srgbClr val="000000"/>
                </a:solidFill>
                <a:latin typeface="VNI-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7:28:08Z</dcterms:created>
  <dc:creator>User</dc:creator>
  <dc:description/>
  <dc:language>en-US</dc:language>
  <cp:lastModifiedBy>User</cp:lastModifiedBy>
  <dcterms:modified xsi:type="dcterms:W3CDTF">2006-09-07T16:58:49Z</dcterms:modified>
  <cp:revision>4</cp:revision>
  <dc:subject/>
  <dc:title>RAÊNG &amp; BOÄ RAÊ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