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819B-F178-446C-BA3F-0890CF313F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CE5D-B871-4F26-BE09-DC5853B77D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09A9-55DC-4071-A234-4738239EE0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460C-9071-48EA-BE41-42526F8F0F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CB82-4535-4103-8DCC-9C0F5ACBC2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C805-D61E-4A6D-B047-A91499B2B7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5D7-69F8-4BC4-B265-A0DF484A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692-BC6E-4766-9C73-397F08A2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56C-12A1-4327-9E46-83286419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3DF-3F1A-464E-88E1-BBBF3E3B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418A-93F5-45A8-89A8-8E5D8D2D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456A-4C51-4BFA-8CFA-4912BCC0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77EE-E4B1-4E01-B0D9-E39717D1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6ADB-75B6-4013-A82B-6BDD1FA5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1CCE-DE9D-4752-9E40-C145B42B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2921-0365-4CA4-9D5A-2FCE0F9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B250-42DF-4D93-AE4A-FADCF2A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3A0-6747-443B-8463-7B4ACBA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2D3E-F93D-4E23-A4E0-A69F066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A9D8-FDE8-4D75-8993-B90D7E20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AAA8-C979-44EF-B295-1AEB325F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C9EA-BDB1-4047-B960-B5BC084D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7FAA-192E-4034-BAEF-A0AF861C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45F-3050-4465-BC7C-BDD390B1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C40-EF12-4FFD-93F0-B2B49498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AD3-83ED-41BB-9756-B401A002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1C9-B10F-426F-B49C-96E27CBC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DF4-C62D-4C3C-883C-126CFDBE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11D-A02B-47C6-A2A4-D481CFE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FA2-3833-4001-91A4-658826B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A3A4-03DD-4B47-9273-6400278431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BE5C-452A-4C96-8790-F03A348D7A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175D-8A0B-40C2-AE90-5A0A52293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mansfield.ohio-state.edu/~sabedon/black04_files/image022.jpg&amp;imgrefurl=http://www.mansfield.ohio-state.edu/~sabedon/black04.htm&amp;h=227&amp;w=199&amp;sz=9&amp;tbnid=TxO1gyLGA4LY1M:&amp;tbnh=103&amp;tbnw=90&amp;hl=en&amp;start=15&amp;prev=/images%3Fq%3Dflagella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صر نائب للتاريخ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689-4552-4A61-B679-17F975535B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لتذييل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4ED6-31C0-4BA6-AD98-FCBD6C4A58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Imam Logo"/>
          <p:cNvPicPr/>
          <p:nvPr/>
        </p:nvPicPr>
        <p:blipFill>
          <a:blip r:embed="rId1"/>
          <a:stretch/>
        </p:blipFill>
        <p:spPr>
          <a:xfrm>
            <a:off x="2666880" y="914400"/>
            <a:ext cx="3314880" cy="4686480"/>
          </a:xfrm>
          <a:prstGeom prst="rect">
            <a:avLst/>
          </a:prstGeom>
          <a:ln w="0">
            <a:noFill/>
          </a:ln>
        </p:spPr>
      </p:pic>
      <p:sp>
        <p:nvSpPr>
          <p:cNvPr id="93" name="مستطيل 5"/>
          <p:cNvSpPr/>
          <p:nvPr/>
        </p:nvSpPr>
        <p:spPr>
          <a:xfrm>
            <a:off x="0" y="457200"/>
            <a:ext cx="91440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stellar"/>
              </a:rPr>
              <a:t>Al-Imam Mohammed Bin Sau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stellar"/>
              </a:rPr>
              <a:t>College of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al Virulence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mplistic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bacterial proteins (“exotoxins”) can elicit the features of a bacterial infection when injected as pure proteins,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tanus toxin, botulinum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phtheria toxin, anthrax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ation with inactivated toxins (“toxoids”) led to a spectacular decline in the incidence of many bacterial inf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ing to the simplistic idea that all bacteria need to cause disease is a single tox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al Virulence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re sophisticated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6760" y="1285560"/>
            <a:ext cx="85726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different ways to define a “virulence factor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ed to colonise and/or damag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cular Koch’s postul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te gene, show loss of virulence in model system, add gene back (e.g. on plasmid), show restoration of viru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chemical evidence of damaging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inguishes pathogen from commen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ed or essential in viv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not in the la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al Virulence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re sophisticated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8643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ulence as a proces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FACTO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bacterial army, like a human army, needs more than just its firearms to enter and secure enemy territo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rmy marches on its stomach” 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gramme of events organised in time an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1278000"/>
            <a:ext cx="9220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ommon Virulenc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o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igenic phas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stration of growth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istance to serum k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imicrobial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Factors Associated with Specific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otoxi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ression of adhes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acellular survival and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4078b"/>
                </a:solidFill>
                <a:latin typeface="Arial"/>
              </a:rPr>
              <a:t>Virulence Factors Associated with</a:t>
            </a:r>
            <a:r>
              <a:rPr b="0" lang="en-US" sz="4000" spc="-1" strike="noStrike">
                <a:solidFill>
                  <a:srgbClr val="14078b"/>
                </a:solidFill>
                <a:latin typeface="Arial"/>
              </a:rPr>
              <a:t> Enterobacteriace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26"/>
          <p:cNvSpPr/>
          <p:nvPr/>
        </p:nvSpPr>
        <p:spPr>
          <a:xfrm>
            <a:off x="428760" y="928800"/>
            <a:ext cx="8381880" cy="57006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  <a:ea typeface="新細明體"/>
              </a:rPr>
              <a:t>1. Caps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. Some bacteria are closely surrounded by loose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polysacchar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or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 prote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ayers called caps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. Capsules and slimes are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  <a:ea typeface="新細明體"/>
              </a:rPr>
              <a:t>unnecessary for the grow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of bacteria but are important for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  <a:ea typeface="新細明體"/>
              </a:rPr>
              <a:t>survival in the h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c. The capsule is poorly antigenic and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antiphagocytic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nd is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a major virulence facto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(e.g.,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Streptococcus pneumonia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d.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acillus anthrac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: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27"/>
          <p:cNvSpPr/>
          <p:nvPr/>
        </p:nvSpPr>
        <p:spPr>
          <a:xfrm>
            <a:off x="2050920" y="338040"/>
            <a:ext cx="5240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terna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F592-77A7-451D-9F9F-D6254CD2C0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630C-1331-409E-AFAB-E5DF9B5213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85480" y="404280"/>
            <a:ext cx="86439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Capsule act as a virulence fact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sist phagocyto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ct as adherent factor to the host cel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vers the antigenic site and recepto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bacterial cell and its appear as a halo of light surrounding the cel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Object 2"/>
          <p:cNvGraphicFramePr/>
          <p:nvPr/>
        </p:nvGraphicFramePr>
        <p:xfrm>
          <a:off x="228600" y="4680"/>
          <a:ext cx="8915400" cy="6686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680"/>
                    <a:ext cx="89154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F599-114C-45E8-8996-42A986C834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969-409A-41E9-B223-3210B65C4C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296000" y="228600"/>
            <a:ext cx="68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Capsules and slime lay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5280" y="1714680"/>
            <a:ext cx="8852400" cy="3750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outside cell enve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well defined: caps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not defined: slime layer or glycocaly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usually polysaccha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often lost on 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in vitro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protective 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in v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3650-B43A-4F8B-9CA4-947FB1D811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34F5-2080-4037-AAFC-F1530955A1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ff"/>
                </a:solidFill>
                <a:latin typeface="Arial"/>
              </a:rPr>
              <a:t>FLAG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16000" y="2286000"/>
            <a:ext cx="7500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me bacteria are mot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comotory organelles-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ste 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ond to food/poiso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chemotax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57120" y="1071720"/>
            <a:ext cx="8534520" cy="52146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764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opelike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  <a:ea typeface="新細明體"/>
              </a:rPr>
              <a:t>p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opell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composed of helically coiled protein subunits (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新細明體"/>
              </a:rPr>
              <a:t>flagell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 Anchored in the bacterial membranes through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hoo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  <a:ea typeface="新細明體"/>
              </a:rPr>
              <a:t>basal 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 Driven by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membrane poten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2. Flagella provid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mot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for bacteria, allowing the cell to swi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(chemotaxi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toward food and away from poi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3. Express Antigenic &amp; strain determin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4. Four types of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. Monotrichous: single polar flagell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. Amphitrichous: flagella at both p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c. Lophotrichous: tuft of polar flag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d. Peritrichous: Flagella distributed over the entire cell.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65760" y="0"/>
            <a:ext cx="2852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lage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MICROBI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Adnan S. Jaran BSc. MSc. PhD. AIB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عنصر نائب للتاريخ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A79F-8086-4FBC-9594-25E334FA4B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عنصر نائب للتذييل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3D65-3341-48BF-B498-AE91B5F4B9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4200" y="857160"/>
            <a:ext cx="888840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DISEASE I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BLO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(PATH 122)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 Hours: 5 (2+2+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986E-219A-4020-BC98-0A0C104950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EA4D-2DEB-41DD-A476-A69E8B39F7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85840" y="2714760"/>
            <a:ext cx="86439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lagel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"/>
              </a:rPr>
              <a:t>embedded in 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"/>
              </a:rPr>
              <a:t>project as st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"/>
              </a:rPr>
              <a:t>Flagellin (protein) sub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"/>
              </a:rPr>
              <a:t>move cell by propeller like action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flagella"/>
          <p:cNvPicPr/>
          <p:nvPr/>
        </p:nvPicPr>
        <p:blipFill>
          <a:blip r:embed="rId1"/>
          <a:stretch/>
        </p:blipFill>
        <p:spPr>
          <a:xfrm>
            <a:off x="0" y="0"/>
            <a:ext cx="5400720" cy="244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image0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404640"/>
            <a:ext cx="2617920" cy="23036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5076720" y="404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no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5151600" y="1484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mph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5004000" y="21430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935960" y="9810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pho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214200" y="819000"/>
            <a:ext cx="8643960" cy="59810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7440" indent="-487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ili are hairlike structures on the outside of bacteri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y are composed of protein subunits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新細明體"/>
              </a:rPr>
              <a:t>(pil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imbriae can be morphologically distinguished from flagella because they are smaller in diameter (3 to 8 nm versus 15 to 20 nm) and usually are not coiled in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y may be as long as 15 to 2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m, or many times the length of the c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4. Fimbriae promote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adherence to other bacter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or to the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  <a:ea typeface="新細明體"/>
              </a:rPr>
              <a:t> ho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(alternative names are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  <a:ea typeface="新細明體"/>
              </a:rPr>
              <a:t>adhesins, lectins, evasins, and aggressi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新細明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141560" y="339840"/>
            <a:ext cx="6659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imbriae (pili): Latin for "fri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09480" y="1103400"/>
            <a:ext cx="8066160" cy="53211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5. As an </a:t>
            </a:r>
            <a:r>
              <a:rPr b="0" lang="en-US" sz="2600" spc="-1" strike="noStrike">
                <a:solidFill>
                  <a:srgbClr val="6600cc"/>
                </a:solidFill>
                <a:latin typeface="Comic Sans MS"/>
                <a:ea typeface="新細明體"/>
              </a:rPr>
              <a:t>adherence factor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(</a:t>
            </a:r>
            <a:r>
              <a:rPr b="0" lang="en-US" sz="2600" spc="-1" strike="noStrike">
                <a:solidFill>
                  <a:srgbClr val="993366"/>
                </a:solidFill>
                <a:latin typeface="Comic Sans MS"/>
                <a:ea typeface="新細明體"/>
              </a:rPr>
              <a:t>adhesin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, flmbriae are an important virulence factor for </a:t>
            </a:r>
            <a:r>
              <a:rPr b="0" i="1" lang="en-US" sz="2600" spc="-1" strike="noStrike">
                <a:solidFill>
                  <a:srgbClr val="ff3300"/>
                </a:solidFill>
                <a:latin typeface="Comic Sans MS"/>
                <a:ea typeface="新細明體"/>
              </a:rPr>
              <a:t>E. coli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colonization and infection of the urinary tract, for </a:t>
            </a:r>
            <a:r>
              <a:rPr b="0" i="1" lang="en-US" sz="2600" spc="-1" strike="noStrike">
                <a:solidFill>
                  <a:srgbClr val="ff3300"/>
                </a:solidFill>
                <a:latin typeface="Comic Sans MS"/>
                <a:ea typeface="新細明體"/>
              </a:rPr>
              <a:t>Neisseria gonorrhoea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and other bacte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6. The tips of the fimbriae may contain proteins (</a:t>
            </a:r>
            <a:r>
              <a:rPr b="0" lang="en-US" sz="2600" spc="-1" strike="noStrike">
                <a:solidFill>
                  <a:srgbClr val="993366"/>
                </a:solidFill>
                <a:latin typeface="Comic Sans MS"/>
                <a:ea typeface="新細明體"/>
              </a:rPr>
              <a:t>lectin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 that bind to specific sugars (e.g., mannos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7. 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  <a:ea typeface="新細明體"/>
              </a:rPr>
              <a:t>F pili (sex pili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promote the transfer of large segments of bacterial chromosomes between bacteria. These pili are encoded by plasmid (F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343160" y="257040"/>
            <a:ext cx="6659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imbriae (pili): Latin for "fri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FE5-9274-4B88-93CA-6EF32BCF41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529F-F546-48FE-BB0D-11E3A394FC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rulence of certain pathogenic bacteria depends on presence of pili, which is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lonization anti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 streptococci, fimbriae are the site of the major surface antige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-prot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poteichoic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with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mbri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sponsible for the adherence of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oup (A) streptococ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epithelial cells of their h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i of different bacteria are antigenically distinct and cause formation of antibody by the host. Antibodies against pili of one bacterial spp. won’t prevent attachment of another bacterial sp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Arial"/>
              </a:rPr>
              <a:t>Endotoxin</a:t>
            </a:r>
            <a:r>
              <a:rPr b="0" lang="en-GB" sz="4400" spc="-1" strike="noStrike">
                <a:solidFill>
                  <a:srgbClr val="00b05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643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ctions of Endotoxi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yrogenic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eucopenia then leucocyto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ram-negative Shock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fe-threatening complication of septicaem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.g. in meningococcal infection, in ITU or oncology pati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ndotoxic shock seen with dirty intravenous equi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of the effects of endotoxin are mediated by tumour necrosis fac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ttempts at therapy using anti-endotoxin or anti-TNF antibod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10778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ukopenia (reduced # of WBCs) (&lt;5000/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ed by leukocytosis (increased #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BCs)(&gt;10-12,000/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tion of 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rombocytopenia (reduced # of platel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C (Disseminated intravascular coag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reased peripheral circulation and perfu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lood flow) to major 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4078b"/>
                </a:solidFill>
                <a:latin typeface="Arial"/>
              </a:rPr>
              <a:t>Endotoxin-Mediated Tox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9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b050"/>
                </a:solidFill>
                <a:latin typeface="Arial"/>
              </a:rPr>
              <a:t>Membrane-Damaging Exotoxins</a:t>
            </a:r>
            <a:r>
              <a:rPr b="0" lang="en-GB" sz="6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42600" y="1142640"/>
            <a:ext cx="3809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bacterial toxins form pores in eukaryotic cell membranes, producing oligomeric rings, 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treptolysin O of Streptococcus pyo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isteriolysin of Listeria monocyto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lpha-toxin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S. aur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toxins, such as phospholipases, degrade components of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.g.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Clostridium perfringen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alpha tox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33" descr=""/>
          <p:cNvPicPr/>
          <p:nvPr/>
        </p:nvPicPr>
        <p:blipFill>
          <a:blip r:embed="rId1"/>
          <a:stretch/>
        </p:blipFill>
        <p:spPr>
          <a:xfrm>
            <a:off x="5286240" y="2320920"/>
            <a:ext cx="3578400" cy="339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6782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Arial"/>
              </a:rPr>
              <a:t>Toxins active insi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4095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xins often consist of translocation and binding B subunit that delivers the active A subunit into the host cell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of AB toxin: diphtheria tox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P-ribosyltransfe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4572000" y="1571760"/>
            <a:ext cx="4214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lence facto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 to the properties that enable a microorganism to cause dis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 act as a virulence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i and Flagella act as virulence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oxins mediate tox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toxins damage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4BA4-7BE5-45AA-A05C-E9E5FBA8D8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C04A-E1D3-4D31-A0A5-4E7C504A9E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Arial"/>
              </a:rPr>
              <a:t>Virulence factors of Bacter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8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7AF8-3FC6-4DCC-A37D-8B916F8734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14F7-2872-439A-B6FA-519F5D7D25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0000"/>
                </a:solidFill>
                <a:latin typeface="Arial"/>
                <a:ea typeface="Times New Roman"/>
              </a:rPr>
              <a:t>Than</a:t>
            </a:r>
            <a:r>
              <a:rPr b="0" lang="en-US" sz="23900" spc="-1" strike="noStrike">
                <a:solidFill>
                  <a:srgbClr val="ff0000"/>
                </a:solidFill>
                <a:latin typeface="Arial"/>
                <a:ea typeface="Times New Roman"/>
              </a:rPr>
              <a:t>k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4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6AA7-E5CF-4FBA-8304-EAED81A0D0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8666-FB93-4948-9CBF-430738A06B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virulenc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Virulence Factors Associated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bacteriac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ole of caps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ole of pili and flag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ole of endo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Endotoxin-Mediated 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e-Damaging Exo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9C96-361A-4ADD-9C3C-05074CCE2F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0C51-7AAF-4339-8A3C-C0500147B8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terial pathog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usually defined as any bacterium that has the capacity to cause disease. Its ability to cause disease is calle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ogenic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rul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vides a quantitative measure of the pathogenicity or the likelihood of causing diseas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E265-BC42-4159-820E-587547DC16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8654-F1B8-42CD-849D-10544795A8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548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irulence factor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refer to the properties (i.e., gene products) that enable a microorganism to establish itself on or within a host of a particular species and enhance its potential to cause disease. Virulence factors include bacterial toxins, cell surface proteins that mediate bacterial attachment, cell surface carbohydrates and proteins that protect a bacterium, and hydrolytic enzymes that may contribute to the pathogenicity of the bacteriu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9942-AA6E-4782-AE7A-0594871828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2D32-B06F-464B-8914-CCE78C498F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crobes and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2513160" y="2200320"/>
            <a:ext cx="5275080" cy="3846600"/>
          </a:xfrm>
          <a:custGeom>
            <a:avLst/>
            <a:gdLst>
              <a:gd name="textAreaLeft" fmla="*/ 0 w 5275080"/>
              <a:gd name="textAreaRight" fmla="*/ 5275440 w 5275080"/>
              <a:gd name="textAreaTop" fmla="*/ 0 h 3846600"/>
              <a:gd name="textAreaBottom" fmla="*/ 3846960 h 3846600"/>
            </a:gdLst>
            <a:ahLst/>
            <a:rect l="textAreaLeft" t="textAreaTop" r="textAreaRight" b="textAreaBottom"/>
            <a:pathLst>
              <a:path w="3323" h="2423">
                <a:moveTo>
                  <a:pt x="0" y="2423"/>
                </a:moveTo>
                <a:lnTo>
                  <a:pt x="1662" y="0"/>
                </a:lnTo>
                <a:lnTo>
                  <a:pt x="3323" y="2423"/>
                </a:lnTo>
                <a:lnTo>
                  <a:pt x="0" y="2423"/>
                </a:lnTo>
                <a:close/>
              </a:path>
            </a:pathLst>
          </a:custGeom>
          <a:solidFill>
            <a:srgbClr val="dd0000"/>
          </a:solidFill>
          <a:ln w="12600">
            <a:solidFill>
              <a:srgbClr val="aa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4100400" y="3836880"/>
            <a:ext cx="782640" cy="770040"/>
            <a:chOff x="4100400" y="3836880"/>
            <a:chExt cx="782640" cy="770040"/>
          </a:xfrm>
        </p:grpSpPr>
        <p:grpSp>
          <p:nvGrpSpPr>
            <p:cNvPr id="122" name="Group 5"/>
            <p:cNvGrpSpPr/>
            <p:nvPr/>
          </p:nvGrpSpPr>
          <p:grpSpPr>
            <a:xfrm>
              <a:off x="4100400" y="3836880"/>
              <a:ext cx="782640" cy="770040"/>
              <a:chOff x="4100400" y="3836880"/>
              <a:chExt cx="782640" cy="770040"/>
            </a:xfrm>
          </p:grpSpPr>
          <p:grpSp>
            <p:nvGrpSpPr>
              <p:cNvPr id="123" name="Group 6"/>
              <p:cNvGrpSpPr/>
              <p:nvPr/>
            </p:nvGrpSpPr>
            <p:grpSpPr>
              <a:xfrm>
                <a:off x="4199040" y="3836880"/>
                <a:ext cx="598320" cy="439920"/>
                <a:chOff x="4199040" y="3836880"/>
                <a:chExt cx="598320" cy="439920"/>
              </a:xfrm>
            </p:grpSpPr>
            <p:sp>
              <p:nvSpPr>
                <p:cNvPr id="124" name="Freeform 7"/>
                <p:cNvSpPr/>
                <p:nvPr/>
              </p:nvSpPr>
              <p:spPr>
                <a:xfrm>
                  <a:off x="4199040" y="3836880"/>
                  <a:ext cx="293760" cy="43992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185" h="277">
                      <a:moveTo>
                        <a:pt x="185" y="277"/>
                      </a:moveTo>
                      <a:lnTo>
                        <a:pt x="77" y="231"/>
                      </a:lnTo>
                      <a:lnTo>
                        <a:pt x="77" y="169"/>
                      </a:lnTo>
                      <a:lnTo>
                        <a:pt x="0" y="131"/>
                      </a:lnTo>
                      <a:lnTo>
                        <a:pt x="0" y="46"/>
                      </a:lnTo>
                      <a:lnTo>
                        <a:pt x="77" y="0"/>
                      </a:lnTo>
                      <a:lnTo>
                        <a:pt x="185" y="0"/>
                      </a:lnTo>
                      <a:lnTo>
                        <a:pt x="185" y="27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12600">
                  <a:solidFill>
                    <a:srgbClr val="00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8"/>
                <p:cNvSpPr/>
                <p:nvPr/>
              </p:nvSpPr>
              <p:spPr>
                <a:xfrm>
                  <a:off x="4492800" y="3836880"/>
                  <a:ext cx="304560" cy="439920"/>
                </a:xfrm>
                <a:custGeom>
                  <a:avLst/>
                  <a:gdLst>
                    <a:gd name="textAreaLeft" fmla="*/ 0 w 304560"/>
                    <a:gd name="textAreaRight" fmla="*/ 304920 w 30456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192" h="277">
                      <a:moveTo>
                        <a:pt x="0" y="277"/>
                      </a:moveTo>
                      <a:lnTo>
                        <a:pt x="107" y="231"/>
                      </a:lnTo>
                      <a:lnTo>
                        <a:pt x="107" y="169"/>
                      </a:lnTo>
                      <a:lnTo>
                        <a:pt x="192" y="131"/>
                      </a:lnTo>
                      <a:lnTo>
                        <a:pt x="192" y="46"/>
                      </a:ln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27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12600">
                  <a:solidFill>
                    <a:srgbClr val="00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9"/>
                <p:cNvSpPr/>
                <p:nvPr/>
              </p:nvSpPr>
              <p:spPr>
                <a:xfrm>
                  <a:off x="4308480" y="3922560"/>
                  <a:ext cx="98280" cy="86040"/>
                </a:xfrm>
                <a:prstGeom prst="ellipse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0"/>
                <p:cNvSpPr/>
                <p:nvPr/>
              </p:nvSpPr>
              <p:spPr>
                <a:xfrm>
                  <a:off x="4565520" y="3922560"/>
                  <a:ext cx="96840" cy="86040"/>
                </a:xfrm>
                <a:prstGeom prst="ellipse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11"/>
                <p:cNvSpPr/>
                <p:nvPr/>
              </p:nvSpPr>
              <p:spPr>
                <a:xfrm>
                  <a:off x="4454640" y="4008600"/>
                  <a:ext cx="85680" cy="9684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54" h="61">
                      <a:moveTo>
                        <a:pt x="0" y="61"/>
                      </a:moveTo>
                      <a:lnTo>
                        <a:pt x="24" y="0"/>
                      </a:lnTo>
                      <a:lnTo>
                        <a:pt x="54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12600">
                  <a:solidFill>
                    <a:srgbClr val="00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12"/>
                <p:cNvGrpSpPr/>
                <p:nvPr/>
              </p:nvGrpSpPr>
              <p:grpSpPr>
                <a:xfrm>
                  <a:off x="4357800" y="4130640"/>
                  <a:ext cx="268200" cy="73080"/>
                  <a:chOff x="4357800" y="4130640"/>
                  <a:chExt cx="268200" cy="73080"/>
                </a:xfrm>
              </p:grpSpPr>
              <p:sp>
                <p:nvSpPr>
                  <p:cNvPr id="130" name="Rectangle 13"/>
                  <p:cNvSpPr/>
                  <p:nvPr/>
                </p:nvSpPr>
                <p:spPr>
                  <a:xfrm>
                    <a:off x="4430880" y="4154400"/>
                    <a:ext cx="4896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14"/>
                  <p:cNvSpPr/>
                  <p:nvPr/>
                </p:nvSpPr>
                <p:spPr>
                  <a:xfrm>
                    <a:off x="4467240" y="4154400"/>
                    <a:ext cx="4932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15"/>
                  <p:cNvSpPr/>
                  <p:nvPr/>
                </p:nvSpPr>
                <p:spPr>
                  <a:xfrm>
                    <a:off x="4503600" y="4154400"/>
                    <a:ext cx="4932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16"/>
                  <p:cNvSpPr/>
                  <p:nvPr/>
                </p:nvSpPr>
                <p:spPr>
                  <a:xfrm>
                    <a:off x="4430880" y="4167360"/>
                    <a:ext cx="48960" cy="363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17"/>
                  <p:cNvSpPr/>
                  <p:nvPr/>
                </p:nvSpPr>
                <p:spPr>
                  <a:xfrm>
                    <a:off x="4467240" y="4167360"/>
                    <a:ext cx="49320" cy="363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18"/>
                  <p:cNvSpPr/>
                  <p:nvPr/>
                </p:nvSpPr>
                <p:spPr>
                  <a:xfrm>
                    <a:off x="4503600" y="4167360"/>
                    <a:ext cx="49320" cy="363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19"/>
                  <p:cNvSpPr/>
                  <p:nvPr/>
                </p:nvSpPr>
                <p:spPr>
                  <a:xfrm>
                    <a:off x="4540320" y="4154400"/>
                    <a:ext cx="4932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20"/>
                  <p:cNvSpPr/>
                  <p:nvPr/>
                </p:nvSpPr>
                <p:spPr>
                  <a:xfrm>
                    <a:off x="4394160" y="4154400"/>
                    <a:ext cx="4932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1"/>
                  <p:cNvSpPr/>
                  <p:nvPr/>
                </p:nvSpPr>
                <p:spPr>
                  <a:xfrm>
                    <a:off x="4357800" y="4130640"/>
                    <a:ext cx="48960" cy="3672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2"/>
                  <p:cNvSpPr/>
                  <p:nvPr/>
                </p:nvSpPr>
                <p:spPr>
                  <a:xfrm>
                    <a:off x="4576680" y="4130640"/>
                    <a:ext cx="49320" cy="3672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" name="Group 23"/>
              <p:cNvGrpSpPr/>
              <p:nvPr/>
            </p:nvGrpSpPr>
            <p:grpSpPr>
              <a:xfrm>
                <a:off x="4100400" y="4300560"/>
                <a:ext cx="782640" cy="306360"/>
                <a:chOff x="4100400" y="4300560"/>
                <a:chExt cx="782640" cy="306360"/>
              </a:xfrm>
            </p:grpSpPr>
            <p:sp>
              <p:nvSpPr>
                <p:cNvPr id="141" name="Oval 24"/>
                <p:cNvSpPr/>
                <p:nvPr/>
              </p:nvSpPr>
              <p:spPr>
                <a:xfrm>
                  <a:off x="4100400" y="4300560"/>
                  <a:ext cx="135000" cy="111240"/>
                </a:xfrm>
                <a:prstGeom prst="ellipse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5"/>
                <p:cNvSpPr/>
                <p:nvPr/>
              </p:nvSpPr>
              <p:spPr>
                <a:xfrm>
                  <a:off x="4222800" y="4362480"/>
                  <a:ext cx="561960" cy="171360"/>
                </a:xfrm>
                <a:prstGeom prst="line">
                  <a:avLst/>
                </a:prstGeom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6"/>
                <p:cNvSpPr/>
                <p:nvPr/>
              </p:nvSpPr>
              <p:spPr>
                <a:xfrm>
                  <a:off x="4735440" y="4495680"/>
                  <a:ext cx="147600" cy="111240"/>
                </a:xfrm>
                <a:prstGeom prst="ellipse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27"/>
            <p:cNvGrpSpPr/>
            <p:nvPr/>
          </p:nvGrpSpPr>
          <p:grpSpPr>
            <a:xfrm>
              <a:off x="4100400" y="4300560"/>
              <a:ext cx="782640" cy="306360"/>
              <a:chOff x="4100400" y="4300560"/>
              <a:chExt cx="782640" cy="306360"/>
            </a:xfrm>
          </p:grpSpPr>
          <p:sp>
            <p:nvSpPr>
              <p:cNvPr id="145" name="Oval 28"/>
              <p:cNvSpPr/>
              <p:nvPr/>
            </p:nvSpPr>
            <p:spPr>
              <a:xfrm>
                <a:off x="4100400" y="4495680"/>
                <a:ext cx="135000" cy="11124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9"/>
              <p:cNvSpPr/>
              <p:nvPr/>
            </p:nvSpPr>
            <p:spPr>
              <a:xfrm flipV="1">
                <a:off x="4222800" y="4362480"/>
                <a:ext cx="561960" cy="171360"/>
              </a:xfrm>
              <a:prstGeom prst="line">
                <a:avLst/>
              </a:prstGeom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30"/>
              <p:cNvSpPr/>
              <p:nvPr/>
            </p:nvSpPr>
            <p:spPr>
              <a:xfrm>
                <a:off x="4735440" y="4300560"/>
                <a:ext cx="147600" cy="11124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31"/>
          <p:cNvGrpSpPr/>
          <p:nvPr/>
        </p:nvGrpSpPr>
        <p:grpSpPr>
          <a:xfrm>
            <a:off x="5041800" y="3849840"/>
            <a:ext cx="890640" cy="780840"/>
            <a:chOff x="5041800" y="3849840"/>
            <a:chExt cx="890640" cy="780840"/>
          </a:xfrm>
        </p:grpSpPr>
        <p:sp>
          <p:nvSpPr>
            <p:cNvPr id="149" name="Oval 32"/>
            <p:cNvSpPr/>
            <p:nvPr/>
          </p:nvSpPr>
          <p:spPr>
            <a:xfrm>
              <a:off x="5041800" y="3849840"/>
              <a:ext cx="890640" cy="7808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rc 33"/>
            <p:cNvSpPr/>
            <p:nvPr/>
          </p:nvSpPr>
          <p:spPr>
            <a:xfrm>
              <a:off x="5187960" y="4233960"/>
              <a:ext cx="306360" cy="311040"/>
            </a:xfrm>
            <a:custGeom>
              <a:avLst/>
              <a:gdLst/>
              <a:ahLst/>
              <a:rect l="l" t="t" r="r" b="b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rc 34"/>
            <p:cNvSpPr/>
            <p:nvPr/>
          </p:nvSpPr>
          <p:spPr>
            <a:xfrm>
              <a:off x="5479920" y="4233960"/>
              <a:ext cx="306360" cy="311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712" h="21600">
                  <a:moveTo>
                    <a:pt x="21712" y="0"/>
                  </a:moveTo>
                  <a:cubicBezTo>
                    <a:pt x="21712" y="11929"/>
                    <a:pt x="12041" y="21600"/>
                    <a:pt x="112" y="21600"/>
                  </a:cubicBezTo>
                  <a:cubicBezTo>
                    <a:pt x="74" y="21600"/>
                    <a:pt x="37" y="21599"/>
                    <a:pt x="-1" y="21599"/>
                  </a:cubicBezTo>
                </a:path>
                <a:path stroke="0" w="21712" h="21600">
                  <a:moveTo>
                    <a:pt x="21712" y="0"/>
                  </a:moveTo>
                  <a:cubicBezTo>
                    <a:pt x="21712" y="11929"/>
                    <a:pt x="12041" y="21600"/>
                    <a:pt x="112" y="21600"/>
                  </a:cubicBezTo>
                  <a:cubicBezTo>
                    <a:pt x="74" y="21600"/>
                    <a:pt x="37" y="21599"/>
                    <a:pt x="-1" y="21599"/>
                  </a:cubicBezTo>
                  <a:lnTo>
                    <a:pt x="112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5334120" y="4081320"/>
              <a:ext cx="85680" cy="860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6"/>
            <p:cNvSpPr/>
            <p:nvPr/>
          </p:nvSpPr>
          <p:spPr>
            <a:xfrm>
              <a:off x="5554800" y="4081320"/>
              <a:ext cx="85680" cy="860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4761000" y="2847960"/>
            <a:ext cx="780840" cy="770040"/>
            <a:chOff x="4761000" y="2847960"/>
            <a:chExt cx="780840" cy="770040"/>
          </a:xfrm>
        </p:grpSpPr>
        <p:grpSp>
          <p:nvGrpSpPr>
            <p:cNvPr id="155" name="Group 38"/>
            <p:cNvGrpSpPr/>
            <p:nvPr/>
          </p:nvGrpSpPr>
          <p:grpSpPr>
            <a:xfrm>
              <a:off x="4857840" y="2847960"/>
              <a:ext cx="598320" cy="439920"/>
              <a:chOff x="4857840" y="2847960"/>
              <a:chExt cx="598320" cy="439920"/>
            </a:xfrm>
          </p:grpSpPr>
          <p:sp>
            <p:nvSpPr>
              <p:cNvPr id="156" name="Freeform 39"/>
              <p:cNvSpPr/>
              <p:nvPr/>
            </p:nvSpPr>
            <p:spPr>
              <a:xfrm>
                <a:off x="4857840" y="2847960"/>
                <a:ext cx="293760" cy="43992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185" h="277">
                    <a:moveTo>
                      <a:pt x="185" y="277"/>
                    </a:moveTo>
                    <a:lnTo>
                      <a:pt x="77" y="231"/>
                    </a:lnTo>
                    <a:lnTo>
                      <a:pt x="77" y="169"/>
                    </a:lnTo>
                    <a:lnTo>
                      <a:pt x="0" y="131"/>
                    </a:lnTo>
                    <a:lnTo>
                      <a:pt x="0" y="46"/>
                    </a:lnTo>
                    <a:lnTo>
                      <a:pt x="77" y="0"/>
                    </a:lnTo>
                    <a:lnTo>
                      <a:pt x="185" y="0"/>
                    </a:lnTo>
                    <a:lnTo>
                      <a:pt x="185" y="277"/>
                    </a:lnTo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0"/>
              <p:cNvSpPr/>
              <p:nvPr/>
            </p:nvSpPr>
            <p:spPr>
              <a:xfrm>
                <a:off x="5151600" y="2847960"/>
                <a:ext cx="304560" cy="4399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192" h="277">
                    <a:moveTo>
                      <a:pt x="0" y="277"/>
                    </a:moveTo>
                    <a:lnTo>
                      <a:pt x="108" y="231"/>
                    </a:lnTo>
                    <a:lnTo>
                      <a:pt x="108" y="169"/>
                    </a:lnTo>
                    <a:lnTo>
                      <a:pt x="192" y="131"/>
                    </a:lnTo>
                    <a:lnTo>
                      <a:pt x="192" y="46"/>
                    </a:lnTo>
                    <a:lnTo>
                      <a:pt x="108" y="0"/>
                    </a:lnTo>
                    <a:lnTo>
                      <a:pt x="0" y="0"/>
                    </a:lnTo>
                    <a:lnTo>
                      <a:pt x="0" y="277"/>
                    </a:lnTo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41"/>
              <p:cNvSpPr/>
              <p:nvPr/>
            </p:nvSpPr>
            <p:spPr>
              <a:xfrm>
                <a:off x="4967280" y="2933640"/>
                <a:ext cx="98280" cy="8568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42"/>
              <p:cNvSpPr/>
              <p:nvPr/>
            </p:nvSpPr>
            <p:spPr>
              <a:xfrm>
                <a:off x="5224320" y="2933640"/>
                <a:ext cx="98640" cy="8568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43"/>
              <p:cNvSpPr/>
              <p:nvPr/>
            </p:nvSpPr>
            <p:spPr>
              <a:xfrm>
                <a:off x="5114880" y="3019320"/>
                <a:ext cx="85680" cy="96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0" y="61"/>
                    </a:moveTo>
                    <a:lnTo>
                      <a:pt x="23" y="0"/>
                    </a:lnTo>
                    <a:lnTo>
                      <a:pt x="54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44"/>
              <p:cNvGrpSpPr/>
              <p:nvPr/>
            </p:nvGrpSpPr>
            <p:grpSpPr>
              <a:xfrm>
                <a:off x="5016600" y="3141720"/>
                <a:ext cx="268200" cy="73080"/>
                <a:chOff x="5016600" y="3141720"/>
                <a:chExt cx="268200" cy="73080"/>
              </a:xfrm>
            </p:grpSpPr>
            <p:sp>
              <p:nvSpPr>
                <p:cNvPr id="162" name="Rectangle 45"/>
                <p:cNvSpPr/>
                <p:nvPr/>
              </p:nvSpPr>
              <p:spPr>
                <a:xfrm>
                  <a:off x="5089680" y="3165480"/>
                  <a:ext cx="4896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46"/>
                <p:cNvSpPr/>
                <p:nvPr/>
              </p:nvSpPr>
              <p:spPr>
                <a:xfrm>
                  <a:off x="5126040" y="3165480"/>
                  <a:ext cx="4932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47"/>
                <p:cNvSpPr/>
                <p:nvPr/>
              </p:nvSpPr>
              <p:spPr>
                <a:xfrm>
                  <a:off x="5164200" y="3165480"/>
                  <a:ext cx="4752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48"/>
                <p:cNvSpPr/>
                <p:nvPr/>
              </p:nvSpPr>
              <p:spPr>
                <a:xfrm>
                  <a:off x="5089680" y="3178080"/>
                  <a:ext cx="48960" cy="3672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49"/>
                <p:cNvSpPr/>
                <p:nvPr/>
              </p:nvSpPr>
              <p:spPr>
                <a:xfrm>
                  <a:off x="5126040" y="3178080"/>
                  <a:ext cx="49320" cy="3672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50"/>
                <p:cNvSpPr/>
                <p:nvPr/>
              </p:nvSpPr>
              <p:spPr>
                <a:xfrm>
                  <a:off x="5164200" y="3178080"/>
                  <a:ext cx="47520" cy="3672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51"/>
                <p:cNvSpPr/>
                <p:nvPr/>
              </p:nvSpPr>
              <p:spPr>
                <a:xfrm>
                  <a:off x="5200560" y="3165480"/>
                  <a:ext cx="4788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52"/>
                <p:cNvSpPr/>
                <p:nvPr/>
              </p:nvSpPr>
              <p:spPr>
                <a:xfrm>
                  <a:off x="5052960" y="3165480"/>
                  <a:ext cx="4932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53"/>
                <p:cNvSpPr/>
                <p:nvPr/>
              </p:nvSpPr>
              <p:spPr>
                <a:xfrm>
                  <a:off x="5016600" y="3141720"/>
                  <a:ext cx="48960" cy="363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54"/>
                <p:cNvSpPr/>
                <p:nvPr/>
              </p:nvSpPr>
              <p:spPr>
                <a:xfrm>
                  <a:off x="5237280" y="3141720"/>
                  <a:ext cx="47520" cy="363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Group 55"/>
            <p:cNvGrpSpPr/>
            <p:nvPr/>
          </p:nvGrpSpPr>
          <p:grpSpPr>
            <a:xfrm>
              <a:off x="4761000" y="3311640"/>
              <a:ext cx="780840" cy="306360"/>
              <a:chOff x="4761000" y="3311640"/>
              <a:chExt cx="780840" cy="306360"/>
            </a:xfrm>
          </p:grpSpPr>
          <p:sp>
            <p:nvSpPr>
              <p:cNvPr id="173" name="Oval 56"/>
              <p:cNvSpPr/>
              <p:nvPr/>
            </p:nvSpPr>
            <p:spPr>
              <a:xfrm>
                <a:off x="4761000" y="3311640"/>
                <a:ext cx="133200" cy="11088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57"/>
              <p:cNvSpPr/>
              <p:nvPr/>
            </p:nvSpPr>
            <p:spPr>
              <a:xfrm>
                <a:off x="4883040" y="3373560"/>
                <a:ext cx="560520" cy="169920"/>
              </a:xfrm>
              <a:prstGeom prst="line">
                <a:avLst/>
              </a:prstGeom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58"/>
              <p:cNvSpPr/>
              <p:nvPr/>
            </p:nvSpPr>
            <p:spPr>
              <a:xfrm>
                <a:off x="5396040" y="3506760"/>
                <a:ext cx="145800" cy="11124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59"/>
          <p:cNvGrpSpPr/>
          <p:nvPr/>
        </p:nvGrpSpPr>
        <p:grpSpPr>
          <a:xfrm>
            <a:off x="4761000" y="3311640"/>
            <a:ext cx="780840" cy="306360"/>
            <a:chOff x="4761000" y="3311640"/>
            <a:chExt cx="780840" cy="306360"/>
          </a:xfrm>
        </p:grpSpPr>
        <p:sp>
          <p:nvSpPr>
            <p:cNvPr id="177" name="Oval 60"/>
            <p:cNvSpPr/>
            <p:nvPr/>
          </p:nvSpPr>
          <p:spPr>
            <a:xfrm>
              <a:off x="4761000" y="3506760"/>
              <a:ext cx="133200" cy="111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 flipV="1">
              <a:off x="4883040" y="3373560"/>
              <a:ext cx="560520" cy="169920"/>
            </a:xfrm>
            <a:prstGeom prst="line">
              <a:avLst/>
            </a:prstGeom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2"/>
            <p:cNvSpPr/>
            <p:nvPr/>
          </p:nvSpPr>
          <p:spPr>
            <a:xfrm>
              <a:off x="5396040" y="3311640"/>
              <a:ext cx="145800" cy="1108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3"/>
          <p:cNvGrpSpPr/>
          <p:nvPr/>
        </p:nvGrpSpPr>
        <p:grpSpPr>
          <a:xfrm>
            <a:off x="3282840" y="5167440"/>
            <a:ext cx="892440" cy="782640"/>
            <a:chOff x="3282840" y="5167440"/>
            <a:chExt cx="892440" cy="782640"/>
          </a:xfrm>
        </p:grpSpPr>
        <p:sp>
          <p:nvSpPr>
            <p:cNvPr id="181" name="Oval 64"/>
            <p:cNvSpPr/>
            <p:nvPr/>
          </p:nvSpPr>
          <p:spPr>
            <a:xfrm>
              <a:off x="3282840" y="5167440"/>
              <a:ext cx="892440" cy="7826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rc 65"/>
            <p:cNvSpPr/>
            <p:nvPr/>
          </p:nvSpPr>
          <p:spPr>
            <a:xfrm>
              <a:off x="3429000" y="5553000"/>
              <a:ext cx="306360" cy="311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rc 66"/>
            <p:cNvSpPr/>
            <p:nvPr/>
          </p:nvSpPr>
          <p:spPr>
            <a:xfrm>
              <a:off x="3722760" y="5553000"/>
              <a:ext cx="304560" cy="311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67"/>
            <p:cNvSpPr/>
            <p:nvPr/>
          </p:nvSpPr>
          <p:spPr>
            <a:xfrm>
              <a:off x="3576600" y="5400720"/>
              <a:ext cx="8424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8"/>
            <p:cNvSpPr/>
            <p:nvPr/>
          </p:nvSpPr>
          <p:spPr>
            <a:xfrm>
              <a:off x="379584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69"/>
          <p:cNvGrpSpPr/>
          <p:nvPr/>
        </p:nvGrpSpPr>
        <p:grpSpPr>
          <a:xfrm>
            <a:off x="4272120" y="5167440"/>
            <a:ext cx="892080" cy="782640"/>
            <a:chOff x="4272120" y="5167440"/>
            <a:chExt cx="892080" cy="782640"/>
          </a:xfrm>
        </p:grpSpPr>
        <p:sp>
          <p:nvSpPr>
            <p:cNvPr id="187" name="Oval 70"/>
            <p:cNvSpPr/>
            <p:nvPr/>
          </p:nvSpPr>
          <p:spPr>
            <a:xfrm>
              <a:off x="4272120" y="5167440"/>
              <a:ext cx="892080" cy="7826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rc 71"/>
            <p:cNvSpPr/>
            <p:nvPr/>
          </p:nvSpPr>
          <p:spPr>
            <a:xfrm>
              <a:off x="4417920" y="5553000"/>
              <a:ext cx="306360" cy="311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rc 72"/>
            <p:cNvSpPr/>
            <p:nvPr/>
          </p:nvSpPr>
          <p:spPr>
            <a:xfrm>
              <a:off x="4711680" y="5553000"/>
              <a:ext cx="304920" cy="3114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73"/>
            <p:cNvSpPr/>
            <p:nvPr/>
          </p:nvSpPr>
          <p:spPr>
            <a:xfrm>
              <a:off x="4565520" y="5400720"/>
              <a:ext cx="8424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74"/>
            <p:cNvSpPr/>
            <p:nvPr/>
          </p:nvSpPr>
          <p:spPr>
            <a:xfrm>
              <a:off x="478476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75"/>
          <p:cNvGrpSpPr/>
          <p:nvPr/>
        </p:nvGrpSpPr>
        <p:grpSpPr>
          <a:xfrm>
            <a:off x="5261040" y="5167440"/>
            <a:ext cx="892080" cy="782640"/>
            <a:chOff x="5261040" y="5167440"/>
            <a:chExt cx="892080" cy="782640"/>
          </a:xfrm>
        </p:grpSpPr>
        <p:sp>
          <p:nvSpPr>
            <p:cNvPr id="193" name="Oval 76"/>
            <p:cNvSpPr/>
            <p:nvPr/>
          </p:nvSpPr>
          <p:spPr>
            <a:xfrm>
              <a:off x="5261040" y="5167440"/>
              <a:ext cx="892080" cy="7826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rc 77"/>
            <p:cNvSpPr/>
            <p:nvPr/>
          </p:nvSpPr>
          <p:spPr>
            <a:xfrm>
              <a:off x="5407200" y="5553000"/>
              <a:ext cx="306360" cy="311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78"/>
            <p:cNvSpPr/>
            <p:nvPr/>
          </p:nvSpPr>
          <p:spPr>
            <a:xfrm>
              <a:off x="5700600" y="5553000"/>
              <a:ext cx="304920" cy="3114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79"/>
            <p:cNvSpPr/>
            <p:nvPr/>
          </p:nvSpPr>
          <p:spPr>
            <a:xfrm>
              <a:off x="555480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80"/>
            <p:cNvSpPr/>
            <p:nvPr/>
          </p:nvSpPr>
          <p:spPr>
            <a:xfrm>
              <a:off x="577368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1"/>
          <p:cNvGrpSpPr/>
          <p:nvPr/>
        </p:nvGrpSpPr>
        <p:grpSpPr>
          <a:xfrm>
            <a:off x="6249960" y="5167440"/>
            <a:ext cx="892080" cy="782640"/>
            <a:chOff x="6249960" y="5167440"/>
            <a:chExt cx="892080" cy="782640"/>
          </a:xfrm>
        </p:grpSpPr>
        <p:sp>
          <p:nvSpPr>
            <p:cNvPr id="199" name="Oval 82"/>
            <p:cNvSpPr/>
            <p:nvPr/>
          </p:nvSpPr>
          <p:spPr>
            <a:xfrm>
              <a:off x="6249960" y="5167440"/>
              <a:ext cx="892080" cy="7826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rc 83"/>
            <p:cNvSpPr/>
            <p:nvPr/>
          </p:nvSpPr>
          <p:spPr>
            <a:xfrm>
              <a:off x="6396120" y="5553000"/>
              <a:ext cx="306360" cy="311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rc 84"/>
            <p:cNvSpPr/>
            <p:nvPr/>
          </p:nvSpPr>
          <p:spPr>
            <a:xfrm>
              <a:off x="6689880" y="5553000"/>
              <a:ext cx="304560" cy="311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5"/>
            <p:cNvSpPr/>
            <p:nvPr/>
          </p:nvSpPr>
          <p:spPr>
            <a:xfrm>
              <a:off x="654372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86"/>
            <p:cNvSpPr/>
            <p:nvPr/>
          </p:nvSpPr>
          <p:spPr>
            <a:xfrm>
              <a:off x="6762600" y="5400720"/>
              <a:ext cx="8604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87"/>
          <p:cNvSpPr/>
          <p:nvPr/>
        </p:nvSpPr>
        <p:spPr>
          <a:xfrm>
            <a:off x="981720" y="1998720"/>
            <a:ext cx="22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few microb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1369800" y="2217600"/>
            <a:ext cx="187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ways path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9"/>
          <p:cNvSpPr/>
          <p:nvPr/>
        </p:nvSpPr>
        <p:spPr>
          <a:xfrm>
            <a:off x="750240" y="3206880"/>
            <a:ext cx="19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microb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0"/>
          <p:cNvSpPr/>
          <p:nvPr/>
        </p:nvSpPr>
        <p:spPr>
          <a:xfrm>
            <a:off x="503640" y="3427560"/>
            <a:ext cx="22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tentially path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1"/>
          <p:cNvSpPr/>
          <p:nvPr/>
        </p:nvSpPr>
        <p:spPr>
          <a:xfrm>
            <a:off x="457920" y="4572000"/>
            <a:ext cx="18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microb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2"/>
          <p:cNvSpPr/>
          <p:nvPr/>
        </p:nvSpPr>
        <p:spPr>
          <a:xfrm>
            <a:off x="536040" y="4800600"/>
            <a:ext cx="174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path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93"/>
          <p:cNvGrpSpPr/>
          <p:nvPr/>
        </p:nvGrpSpPr>
        <p:grpSpPr>
          <a:xfrm>
            <a:off x="3392640" y="2530440"/>
            <a:ext cx="1441440" cy="561960"/>
            <a:chOff x="3392640" y="2530440"/>
            <a:chExt cx="1441440" cy="561960"/>
          </a:xfrm>
        </p:grpSpPr>
        <p:sp>
          <p:nvSpPr>
            <p:cNvPr id="211" name="Freeform 94"/>
            <p:cNvSpPr/>
            <p:nvPr/>
          </p:nvSpPr>
          <p:spPr>
            <a:xfrm>
              <a:off x="4638600" y="2970360"/>
              <a:ext cx="195480" cy="1220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23" h="77">
                  <a:moveTo>
                    <a:pt x="123" y="77"/>
                  </a:moveTo>
                  <a:lnTo>
                    <a:pt x="0" y="69"/>
                  </a:lnTo>
                  <a:lnTo>
                    <a:pt x="15" y="38"/>
                  </a:lnTo>
                  <a:lnTo>
                    <a:pt x="31" y="0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95"/>
            <p:cNvSpPr/>
            <p:nvPr/>
          </p:nvSpPr>
          <p:spPr>
            <a:xfrm>
              <a:off x="3392640" y="2530440"/>
              <a:ext cx="1257120" cy="488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96"/>
          <p:cNvGrpSpPr/>
          <p:nvPr/>
        </p:nvGrpSpPr>
        <p:grpSpPr>
          <a:xfrm>
            <a:off x="2624040" y="3740040"/>
            <a:ext cx="1440000" cy="560520"/>
            <a:chOff x="2624040" y="3740040"/>
            <a:chExt cx="1440000" cy="560520"/>
          </a:xfrm>
        </p:grpSpPr>
        <p:sp>
          <p:nvSpPr>
            <p:cNvPr id="214" name="Freeform 97"/>
            <p:cNvSpPr/>
            <p:nvPr/>
          </p:nvSpPr>
          <p:spPr>
            <a:xfrm>
              <a:off x="3868560" y="4178160"/>
              <a:ext cx="195480" cy="1224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23" h="77">
                  <a:moveTo>
                    <a:pt x="123" y="77"/>
                  </a:moveTo>
                  <a:lnTo>
                    <a:pt x="0" y="70"/>
                  </a:lnTo>
                  <a:lnTo>
                    <a:pt x="16" y="39"/>
                  </a:lnTo>
                  <a:lnTo>
                    <a:pt x="31" y="0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8"/>
            <p:cNvSpPr/>
            <p:nvPr/>
          </p:nvSpPr>
          <p:spPr>
            <a:xfrm>
              <a:off x="2624040" y="3740040"/>
              <a:ext cx="1257480" cy="487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99"/>
          <p:cNvGrpSpPr/>
          <p:nvPr/>
        </p:nvGrpSpPr>
        <p:grpSpPr>
          <a:xfrm>
            <a:off x="2184480" y="5057640"/>
            <a:ext cx="1001520" cy="452520"/>
            <a:chOff x="2184480" y="5057640"/>
            <a:chExt cx="1001520" cy="452520"/>
          </a:xfrm>
        </p:grpSpPr>
        <p:sp>
          <p:nvSpPr>
            <p:cNvPr id="217" name="Freeform 100"/>
            <p:cNvSpPr/>
            <p:nvPr/>
          </p:nvSpPr>
          <p:spPr>
            <a:xfrm>
              <a:off x="2989440" y="5375160"/>
              <a:ext cx="196560" cy="135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24" h="85">
                  <a:moveTo>
                    <a:pt x="124" y="85"/>
                  </a:moveTo>
                  <a:lnTo>
                    <a:pt x="0" y="69"/>
                  </a:lnTo>
                  <a:lnTo>
                    <a:pt x="16" y="39"/>
                  </a:lnTo>
                  <a:lnTo>
                    <a:pt x="31" y="0"/>
                  </a:lnTo>
                  <a:lnTo>
                    <a:pt x="124" y="8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01"/>
            <p:cNvSpPr/>
            <p:nvPr/>
          </p:nvSpPr>
          <p:spPr>
            <a:xfrm>
              <a:off x="2184480" y="5057640"/>
              <a:ext cx="817560" cy="36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Arial"/>
              </a:rPr>
              <a:t>Microbes and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ease can come about in several overlapping 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Some bacteria are entirely adapted to the pathogenic way of life in humans. They are never part of the normal flora but may cause subclinical infection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 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Some bacteria which are part of the normal flora acquire extra virulence factors making them pathogenic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137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7120" y="214200"/>
            <a:ext cx="8501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. Some bacteria from the normal flora can cause disease if they gain access to deep tissues by trauma, surgery, lines, especially if associated with a foreign body, e.g.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. epidermid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. In immunocompromised patients many free-living bacteria and components of the normal flora can cause disease, especially if introduced into deep tissues, e.g.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cinetoba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D933-86A5-429A-B129-6CE737263C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8A20-34D0-4744-92C4-E174AFC0D3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33:14Z</dcterms:created>
  <dc:creator>JUST</dc:creator>
  <dc:description/>
  <dc:language>en-US</dc:language>
  <cp:lastModifiedBy>user</cp:lastModifiedBy>
  <dcterms:modified xsi:type="dcterms:W3CDTF">2013-12-01T14:34:28Z</dcterms:modified>
  <cp:revision>61</cp:revision>
  <dc:subject/>
  <dc:title>Bacterial cell Structure</dc:title>
</cp:coreProperties>
</file>