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76E-0F3F-4DFF-A7EE-51365CCF2B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ECA8-84EB-416D-B7E7-E0F77DB71E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7844-34A2-4F30-93EA-9C6F5F33ED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D15-EF67-4FFB-BDEC-20A2C1D8AA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532A-F384-4CB4-9D02-84BCB3D270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102-4A43-4C89-85A9-95556B9D14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01F-3C6C-4A84-9C27-F8F697B9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3A4-C286-4202-849D-3961327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BC4-29D3-45AE-95EF-BBAB031B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0A1-774D-4124-B267-741F718B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430-8431-4AF2-BE28-18278A7B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2DD-AAFC-499E-87DE-53656E5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F45-9541-49FD-83FA-06FBF23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51E0-BBE9-457B-91B2-56CF9A5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BD7-3DCD-4338-88E9-27C7669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F6AB-6D0E-46B0-B06A-C218269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D88E-144F-4EFB-AB5E-44025A9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7D3-098F-405C-9AE1-D7DD78D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D60-EB97-48F1-9B1C-0391420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00F5-1EE7-46AB-BD17-AA26D49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9EA-5BB3-4261-A3C6-523F1F7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BC48-D67A-430A-9E1E-EBBE4B6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DCC1-F11A-432C-944E-8C514C25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B14-2AD2-4E64-97AB-E8D3C84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FA2-8448-458C-935C-2C988F7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EEB-FE9D-4373-9C64-6504FDC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44C-8705-48F2-A0D5-8B2B769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787-A270-4AD8-B3DE-CE55DA0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B86-C6B4-4A09-AF31-8D279287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E88-A1BA-43F3-9AA2-A36BC3BC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2A8-3F39-451E-934E-DFCE81C812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F59D-DD13-49D7-B6BC-86A73289C1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CC8-36B4-419E-8F54-09C552CD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mansfield.ohio-state.edu/~sabedon/black04_files/image022.jpg&amp;imgrefurl=http://www.mansfield.ohio-state.edu/~sabedon/black04.htm&amp;h=227&amp;w=199&amp;sz=9&amp;tbnid=TxO1gyLGA4LY1M:&amp;tbnh=103&amp;tbnw=90&amp;hl=en&amp;start=15&amp;prev=/images%3Fq%3Dflagella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اريخ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486-7F95-4CB3-8E26-4424C70A6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640E-5C80-48A8-89F6-124CCB357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Imam Logo"/>
          <p:cNvPicPr/>
          <p:nvPr/>
        </p:nvPicPr>
        <p:blipFill>
          <a:blip r:embed="rId1"/>
          <a:stretch/>
        </p:blipFill>
        <p:spPr>
          <a:xfrm>
            <a:off x="2666880" y="914400"/>
            <a:ext cx="3314880" cy="4686480"/>
          </a:xfrm>
          <a:prstGeom prst="rect">
            <a:avLst/>
          </a:prstGeom>
          <a:ln w="0">
            <a:noFill/>
          </a:ln>
        </p:spPr>
      </p:pic>
      <p:sp>
        <p:nvSpPr>
          <p:cNvPr id="93" name="مستطيل 5"/>
          <p:cNvSpPr/>
          <p:nvPr/>
        </p:nvSpPr>
        <p:spPr>
          <a:xfrm>
            <a:off x="0" y="457200"/>
            <a:ext cx="9144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stellar"/>
              </a:rPr>
              <a:t>Al-Imam Mohammed Bin Sau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stellar"/>
              </a:rPr>
              <a:t>College of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plistic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bacterial proteins (“exotoxins”) can elicit the features of a bacterial infection when injected as pure proteins,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tanus toxin, botulinum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phtheria toxin, anthrax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ation with inactivated toxins (“toxoids”) led to a spectacular decline in the incidence of many bacterial inf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ing to the simplistic idea that all bacteria need to cause disease is a single tox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e sophisticate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572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different ways to define a “virulence factor”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ed to colonise and/or damag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cular Koch’s postul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e gene, show loss of virulence in model system, add gene back (e.g. on plasmid), show restoration of viru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chemical evidence of damaging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inguishes pathogen from commen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ed or essential in viv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not in the l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al Virulence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e sophisticate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643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ulence as a proces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FACTO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bacterial army, like a human army, needs more than just its firearms to enter and secure enemy territo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my marches on its stomach” 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me of events organised in time an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78000"/>
            <a:ext cx="9220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ommon Virulenc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o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genic phas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stration of growth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istance to serum k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imicrobi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Factors Associated with Specific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otoxi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ression of adhes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acellular survival and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4078b"/>
                </a:solidFill>
                <a:latin typeface="Arial"/>
              </a:rPr>
              <a:t>Virulence Factors Associated with</a:t>
            </a:r>
            <a:r>
              <a:rPr b="0" lang="en-US" sz="4000" spc="-1" strike="noStrike">
                <a:solidFill>
                  <a:srgbClr val="14078b"/>
                </a:solidFill>
                <a:latin typeface="Arial"/>
              </a:rPr>
              <a:t> Enterobacteriace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26"/>
          <p:cNvSpPr/>
          <p:nvPr/>
        </p:nvSpPr>
        <p:spPr>
          <a:xfrm>
            <a:off x="428760" y="928800"/>
            <a:ext cx="8381880" cy="5700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  <a:ea typeface="新細明體"/>
              </a:rPr>
              <a:t>1. 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. Some bacteria are closely surrounded by loose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polysacchar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r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 prote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ayers called caps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. Capsules and slimes are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unnecessary for the grow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f bacteria but are important for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survival in the h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. The capsule is poorly antigenic and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ntiphagocytic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nd is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 major virulence facto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e.g.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Streptococcus pneumonia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.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acillus anthrac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: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27"/>
          <p:cNvSpPr/>
          <p:nvPr/>
        </p:nvSpPr>
        <p:spPr>
          <a:xfrm>
            <a:off x="2050920" y="338040"/>
            <a:ext cx="524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terna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292-3917-43A0-B183-469F79A5B6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B2C0-58DF-4127-A9A6-87F8100C92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85480" y="404280"/>
            <a:ext cx="86439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Capsule act as a virulence fact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sist phagocyto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t as adherent factor to the host cel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vers the antigenic site and recepto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acterial cell and its appear as a halo of light surrounding the ce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228600" y="4680"/>
          <a:ext cx="8915400" cy="668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68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4D6-5425-4381-A45B-75677F1A1D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1645-E112-49D3-9F43-2CA41D90FB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296000" y="228600"/>
            <a:ext cx="68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Capsules and slime lay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5280" y="1714680"/>
            <a:ext cx="8852400" cy="3750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utside cell enve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well defined: caps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ot defined: slime layer or glycocaly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usually polysaccha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 lost on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in vitro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protective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in v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AA06-B93B-4588-BBFB-A619C8FEDD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FBBD-6B19-42E0-8F3D-0133C98378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FLAG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16000" y="2286000"/>
            <a:ext cx="7500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 bacteria are mot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comotory organelles-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ste 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d to food/pois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chemot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7120" y="1071720"/>
            <a:ext cx="8534520" cy="5214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764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opelike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  <a:ea typeface="新細明體"/>
              </a:rPr>
              <a:t>p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opell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composed of helically coiled protein subunits (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新細明體"/>
              </a:rPr>
              <a:t>flagell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 Anchored in the bacterial membranes through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hoo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  <a:ea typeface="新細明體"/>
              </a:rPr>
              <a:t>basal 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 Driven by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membrane poten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2. Flagella provid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mot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for bacteria, allowing the cell to swi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(chemotaxi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toward food and away from poi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3. Express Antigenic &amp; strain deter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4. Four types of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. Monotrichous: single polar flagel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. Amphitrichous: flagella at both p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. Lophotrichous: tuft of polar flag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. Peritrichous: Flagella distributed over the entire cell.</a:t>
            </a:r>
            <a:r>
              <a:rPr b="0" lang="en-US" sz="2000" spc="-1" strike="noStrike">
                <a:solidFill>
                  <a:srgbClr val="000000"/>
                </a:solidFill>
                <a:latin typeface="New York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65760" y="0"/>
            <a:ext cx="2852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lage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MICRO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Adnan S. Jaran BSc. MSc. PhD. AIB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اريخ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2FB-7699-4E2A-85E6-92491084C9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AF2-0A3E-4379-A7D8-9AD8555C2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4200" y="857160"/>
            <a:ext cx="888840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DISEASE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(PATH 122)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Hours: 5 (2+2+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E51-DDA3-48EC-BFA7-7E80E03E43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71B2-965D-4C3C-9261-87E7FCFDF4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85840" y="2714760"/>
            <a:ext cx="86439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lagel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embedded in 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project as st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Flagellin (protein) sub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Arial"/>
              </a:rPr>
              <a:t>move cell by propeller like action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agella"/>
          <p:cNvPicPr/>
          <p:nvPr/>
        </p:nvPicPr>
        <p:blipFill>
          <a:blip r:embed="rId1"/>
          <a:stretch/>
        </p:blipFill>
        <p:spPr>
          <a:xfrm>
            <a:off x="0" y="0"/>
            <a:ext cx="5400720" cy="244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image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04640"/>
            <a:ext cx="261792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5076720" y="40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no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5151600" y="1484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mph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5004000" y="21430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935960" y="981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pho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14200" y="819000"/>
            <a:ext cx="8643960" cy="5981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 indent="-487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ili are hairlike structures on the outside of bacteri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y are composed of protein subunit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  <a:ea typeface="新細明體"/>
              </a:rPr>
              <a:t>(pil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can be morphologically distinguished from flagella because they are smaller in diameter (3 to 8 nm versus 15 to 20 nm) and usually are not coiled in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y may be as long as 15 to 2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, or many times the length of the c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4. Fimbriae promote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新細明體"/>
              </a:rPr>
              <a:t>adherence to other bacter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or to the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 h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alternative names are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  <a:ea typeface="新細明體"/>
              </a:rPr>
              <a:t>adhesins, lectins, evasins, and aggressi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141560" y="339840"/>
            <a:ext cx="665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(pili): Latin for "fri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09480" y="1103400"/>
            <a:ext cx="8066160" cy="53211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5. As an </a:t>
            </a:r>
            <a:r>
              <a:rPr b="0" lang="en-US" sz="2600" spc="-1" strike="noStrike">
                <a:solidFill>
                  <a:srgbClr val="6600cc"/>
                </a:solidFill>
                <a:latin typeface="Comic Sans MS"/>
                <a:ea typeface="新細明體"/>
              </a:rPr>
              <a:t>adherence factor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(</a:t>
            </a:r>
            <a:r>
              <a:rPr b="0" lang="en-US" sz="2600" spc="-1" strike="noStrike">
                <a:solidFill>
                  <a:srgbClr val="993366"/>
                </a:solidFill>
                <a:latin typeface="Comic Sans MS"/>
                <a:ea typeface="新細明體"/>
              </a:rPr>
              <a:t>adhesi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, flmbriae are an important virulence factor for </a:t>
            </a:r>
            <a:r>
              <a:rPr b="0" i="1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E. coli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colonization and infection of the urinary tract, for </a:t>
            </a:r>
            <a:r>
              <a:rPr b="0" i="1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Neisseria gonorrhoea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and other bacte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6. The tips of the fimbriae may contain proteins (</a:t>
            </a:r>
            <a:r>
              <a:rPr b="0" lang="en-US" sz="2600" spc="-1" strike="noStrike">
                <a:solidFill>
                  <a:srgbClr val="993366"/>
                </a:solidFill>
                <a:latin typeface="Comic Sans MS"/>
                <a:ea typeface="新細明體"/>
              </a:rPr>
              <a:t>lecti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) that bind to specific sugars (e.g., mannos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7. 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  <a:ea typeface="新細明體"/>
              </a:rPr>
              <a:t>F pili (sex pili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promote the transfer of large segments of bacterial chromosomes between bacteria. These pili are encoded by plasmid (F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343160" y="257040"/>
            <a:ext cx="665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imbriae (pili): Latin for "fri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3BB-EB97-43EB-B056-C6763657EC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C6E-833A-407B-99C3-CA76F4A92B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rulence of certain pathogenic bacteria depends on presence of pili, which is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lonization anti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streptococci, fimbriae are the site of the major surface antige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-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poteichoic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with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mbr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sponsible for the adherence of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oup (A) streptococ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pithelial cells of their h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i of different bacteria are antigenically distinct and cause formation of antibody by the host. Antibodies against pili of one bacterial spp. won’t prevent attachment of another bacterial s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Endotoxin</a:t>
            </a: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ctions of Endotoxi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yrogenic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eucopenia then leucocyto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ram-negative Shock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fe-threatening complication of septicaem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.g. in meningococcal infection, in ITU or oncology pati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ndotoxic shock seen with dirty intravenous equi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of the effects of endotoxin are mediated by tumour necrosis fac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ttempts at therapy using anti-endotoxin or anti-TNF antibod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10778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ukopenia (reduced # of WBCs) (&lt;5000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ed by leukocytosis (increased #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BCs)(&gt;10-12,000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ion of 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rombocytopenia (reduced # of platel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C (Disseminated intravascular coa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ed peripheral circulation and perfu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lood flow) to major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4078b"/>
                </a:solidFill>
                <a:latin typeface="Arial"/>
              </a:rPr>
              <a:t>Endotoxin-Mediated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9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b050"/>
                </a:solidFill>
                <a:latin typeface="Arial"/>
              </a:rPr>
              <a:t>Membrane-Damaging Exotoxins</a:t>
            </a:r>
            <a:r>
              <a:rPr b="0" lang="en-GB" sz="6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42600" y="1142640"/>
            <a:ext cx="3809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bacterial toxins form pores in eukaryotic cell membranes, producing oligomeric rings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treptolysin O of Streptococcus pyo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steriolysin of Listeria monocyto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lpha-toxin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toxins, such as phospholipases, degrade components of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.g.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Clostridium perfringen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alpha t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33" descr=""/>
          <p:cNvPicPr/>
          <p:nvPr/>
        </p:nvPicPr>
        <p:blipFill>
          <a:blip r:embed="rId1"/>
          <a:stretch/>
        </p:blipFill>
        <p:spPr>
          <a:xfrm>
            <a:off x="5286240" y="2320920"/>
            <a:ext cx="3578400" cy="339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6782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Arial"/>
              </a:rPr>
              <a:t>Toxins active insi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4095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xins often consist of translocation and binding B subunit that delivers the active A subunit into the host cell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of AB toxin: diphtheria tox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P-ribosyltransf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4572000" y="1571760"/>
            <a:ext cx="4214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lence facto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 to the properties that enable a microorganism to cause dis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 act as a virulence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i and Flagella act as virulence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oxins mediate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toxins damage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6F17-F7F9-4282-943A-7D137DC584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163-0009-41D2-8137-AD237C4F1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Arial"/>
              </a:rPr>
              <a:t>Virulence factors of Bacter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A1A-AAAF-48E7-9DFA-65837A87F9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A845-E75D-4840-A68A-C096C82D3D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0000"/>
                </a:solidFill>
                <a:latin typeface="Arial"/>
                <a:ea typeface="Times New Roman"/>
              </a:rPr>
              <a:t>Than</a:t>
            </a:r>
            <a:r>
              <a:rPr b="0" lang="en-US" sz="23900" spc="-1" strike="noStrike">
                <a:solidFill>
                  <a:srgbClr val="ff0000"/>
                </a:solidFill>
                <a:latin typeface="Arial"/>
                <a:ea typeface="Times New Roman"/>
              </a:rPr>
              <a:t>k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4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1B0-CD20-4622-B052-3FD4419FD0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143-3668-465D-8525-B370D77917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virulenc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Virulence Factors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pili and flag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ole of endo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Endotoxin-Mediated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-Damaging Exo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DC1-092B-4083-A3C1-B1F3C9D5C6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DB2F-4C2A-42B9-9DC2-101C720857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terial pathog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ually defined as any bacterium that has the capacity to cause disease. Its ability to cause disease is calle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ogenic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rul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vides a quantitative measure of the pathogenicity or the likelihood of causing disea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0514-60A6-49AC-8E8C-55A214329E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9FAB-AD74-4B3A-8534-4ECB55B3A7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irulence factor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refer to the properties (i.e., gene products) that enable a microorganism to establish itself on or within a host of a particular species and enhance its potential to cause disease. Virulence factors include bacterial toxins, cell surface proteins that mediate bacterial attachment, cell surface carbohydrates and proteins that protect a bacterium, and hydrolytic enzymes that may contribute to the pathogenicity of the bacteriu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1C21-2185-4EEF-9768-452E3FC707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853E-EFC0-436C-9E9D-CAB80448B2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crobes and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2513160" y="2200320"/>
            <a:ext cx="5275080" cy="3846600"/>
          </a:xfrm>
          <a:custGeom>
            <a:avLst/>
            <a:gdLst>
              <a:gd name="textAreaLeft" fmla="*/ 0 w 5275080"/>
              <a:gd name="textAreaRight" fmla="*/ 5275440 w 5275080"/>
              <a:gd name="textAreaTop" fmla="*/ 0 h 3846600"/>
              <a:gd name="textAreaBottom" fmla="*/ 3846960 h 3846600"/>
            </a:gdLst>
            <a:ahLst/>
            <a:rect l="textAreaLeft" t="textAreaTop" r="textAreaRight" b="textAreaBottom"/>
            <a:pathLst>
              <a:path w="3323" h="2423">
                <a:moveTo>
                  <a:pt x="0" y="2423"/>
                </a:moveTo>
                <a:lnTo>
                  <a:pt x="1662" y="0"/>
                </a:lnTo>
                <a:lnTo>
                  <a:pt x="3323" y="2423"/>
                </a:lnTo>
                <a:lnTo>
                  <a:pt x="0" y="2423"/>
                </a:lnTo>
                <a:close/>
              </a:path>
            </a:pathLst>
          </a:custGeom>
          <a:solidFill>
            <a:srgbClr val="dd0000"/>
          </a:solidFill>
          <a:ln w="12600">
            <a:solidFill>
              <a:srgbClr val="aa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4100400" y="3836880"/>
            <a:ext cx="782640" cy="770040"/>
            <a:chOff x="4100400" y="3836880"/>
            <a:chExt cx="782640" cy="770040"/>
          </a:xfrm>
        </p:grpSpPr>
        <p:grpSp>
          <p:nvGrpSpPr>
            <p:cNvPr id="122" name="Group 5"/>
            <p:cNvGrpSpPr/>
            <p:nvPr/>
          </p:nvGrpSpPr>
          <p:grpSpPr>
            <a:xfrm>
              <a:off x="4100400" y="3836880"/>
              <a:ext cx="782640" cy="770040"/>
              <a:chOff x="4100400" y="3836880"/>
              <a:chExt cx="782640" cy="770040"/>
            </a:xfrm>
          </p:grpSpPr>
          <p:grpSp>
            <p:nvGrpSpPr>
              <p:cNvPr id="123" name="Group 6"/>
              <p:cNvGrpSpPr/>
              <p:nvPr/>
            </p:nvGrpSpPr>
            <p:grpSpPr>
              <a:xfrm>
                <a:off x="4199040" y="3836880"/>
                <a:ext cx="598320" cy="439920"/>
                <a:chOff x="4199040" y="3836880"/>
                <a:chExt cx="598320" cy="439920"/>
              </a:xfrm>
            </p:grpSpPr>
            <p:sp>
              <p:nvSpPr>
                <p:cNvPr id="124" name="Freeform 7"/>
                <p:cNvSpPr/>
                <p:nvPr/>
              </p:nvSpPr>
              <p:spPr>
                <a:xfrm>
                  <a:off x="4199040" y="3836880"/>
                  <a:ext cx="293760" cy="43992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185" h="277">
                      <a:moveTo>
                        <a:pt x="185" y="277"/>
                      </a:moveTo>
                      <a:lnTo>
                        <a:pt x="77" y="231"/>
                      </a:lnTo>
                      <a:lnTo>
                        <a:pt x="77" y="169"/>
                      </a:lnTo>
                      <a:lnTo>
                        <a:pt x="0" y="131"/>
                      </a:lnTo>
                      <a:lnTo>
                        <a:pt x="0" y="46"/>
                      </a:lnTo>
                      <a:lnTo>
                        <a:pt x="77" y="0"/>
                      </a:lnTo>
                      <a:lnTo>
                        <a:pt x="185" y="0"/>
                      </a:lnTo>
                      <a:lnTo>
                        <a:pt x="185" y="27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8"/>
                <p:cNvSpPr/>
                <p:nvPr/>
              </p:nvSpPr>
              <p:spPr>
                <a:xfrm>
                  <a:off x="4492800" y="3836880"/>
                  <a:ext cx="304560" cy="43992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192" h="277">
                      <a:moveTo>
                        <a:pt x="0" y="277"/>
                      </a:moveTo>
                      <a:lnTo>
                        <a:pt x="107" y="231"/>
                      </a:lnTo>
                      <a:lnTo>
                        <a:pt x="107" y="169"/>
                      </a:lnTo>
                      <a:lnTo>
                        <a:pt x="192" y="131"/>
                      </a:lnTo>
                      <a:lnTo>
                        <a:pt x="192" y="46"/>
                      </a:ln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9"/>
                <p:cNvSpPr/>
                <p:nvPr/>
              </p:nvSpPr>
              <p:spPr>
                <a:xfrm>
                  <a:off x="4308480" y="3922560"/>
                  <a:ext cx="98280" cy="860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0"/>
                <p:cNvSpPr/>
                <p:nvPr/>
              </p:nvSpPr>
              <p:spPr>
                <a:xfrm>
                  <a:off x="4565520" y="3922560"/>
                  <a:ext cx="96840" cy="860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11"/>
                <p:cNvSpPr/>
                <p:nvPr/>
              </p:nvSpPr>
              <p:spPr>
                <a:xfrm>
                  <a:off x="4454640" y="4008600"/>
                  <a:ext cx="85680" cy="9684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54" h="61">
                      <a:moveTo>
                        <a:pt x="0" y="61"/>
                      </a:moveTo>
                      <a:lnTo>
                        <a:pt x="24" y="0"/>
                      </a:lnTo>
                      <a:lnTo>
                        <a:pt x="54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12600">
                  <a:solidFill>
                    <a:srgbClr val="00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12"/>
                <p:cNvGrpSpPr/>
                <p:nvPr/>
              </p:nvGrpSpPr>
              <p:grpSpPr>
                <a:xfrm>
                  <a:off x="4357800" y="4130640"/>
                  <a:ext cx="268200" cy="73080"/>
                  <a:chOff x="4357800" y="4130640"/>
                  <a:chExt cx="268200" cy="73080"/>
                </a:xfrm>
              </p:grpSpPr>
              <p:sp>
                <p:nvSpPr>
                  <p:cNvPr id="130" name="Rectangle 13"/>
                  <p:cNvSpPr/>
                  <p:nvPr/>
                </p:nvSpPr>
                <p:spPr>
                  <a:xfrm>
                    <a:off x="4430880" y="4154400"/>
                    <a:ext cx="4896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14"/>
                  <p:cNvSpPr/>
                  <p:nvPr/>
                </p:nvSpPr>
                <p:spPr>
                  <a:xfrm>
                    <a:off x="446724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15"/>
                  <p:cNvSpPr/>
                  <p:nvPr/>
                </p:nvSpPr>
                <p:spPr>
                  <a:xfrm>
                    <a:off x="450360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16"/>
                  <p:cNvSpPr/>
                  <p:nvPr/>
                </p:nvSpPr>
                <p:spPr>
                  <a:xfrm>
                    <a:off x="4430880" y="4167360"/>
                    <a:ext cx="4896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17"/>
                  <p:cNvSpPr/>
                  <p:nvPr/>
                </p:nvSpPr>
                <p:spPr>
                  <a:xfrm>
                    <a:off x="4467240" y="4167360"/>
                    <a:ext cx="4932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8"/>
                  <p:cNvSpPr/>
                  <p:nvPr/>
                </p:nvSpPr>
                <p:spPr>
                  <a:xfrm>
                    <a:off x="4503600" y="4167360"/>
                    <a:ext cx="49320" cy="363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19"/>
                  <p:cNvSpPr/>
                  <p:nvPr/>
                </p:nvSpPr>
                <p:spPr>
                  <a:xfrm>
                    <a:off x="454032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0"/>
                  <p:cNvSpPr/>
                  <p:nvPr/>
                </p:nvSpPr>
                <p:spPr>
                  <a:xfrm>
                    <a:off x="4394160" y="4154400"/>
                    <a:ext cx="49320" cy="2376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1"/>
                  <p:cNvSpPr/>
                  <p:nvPr/>
                </p:nvSpPr>
                <p:spPr>
                  <a:xfrm>
                    <a:off x="4357800" y="4130640"/>
                    <a:ext cx="48960" cy="3672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2"/>
                  <p:cNvSpPr/>
                  <p:nvPr/>
                </p:nvSpPr>
                <p:spPr>
                  <a:xfrm>
                    <a:off x="4576680" y="4130640"/>
                    <a:ext cx="49320" cy="36720"/>
                  </a:xfrm>
                  <a:prstGeom prst="rect">
                    <a:avLst/>
                  </a:prstGeom>
                  <a:solidFill>
                    <a:srgbClr val="cc9900"/>
                  </a:solidFill>
                  <a:ln w="12600">
                    <a:solidFill>
                      <a:srgbClr val="00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" name="Group 23"/>
              <p:cNvGrpSpPr/>
              <p:nvPr/>
            </p:nvGrpSpPr>
            <p:grpSpPr>
              <a:xfrm>
                <a:off x="4100400" y="4300560"/>
                <a:ext cx="782640" cy="306360"/>
                <a:chOff x="4100400" y="4300560"/>
                <a:chExt cx="782640" cy="306360"/>
              </a:xfrm>
            </p:grpSpPr>
            <p:sp>
              <p:nvSpPr>
                <p:cNvPr id="141" name="Oval 24"/>
                <p:cNvSpPr/>
                <p:nvPr/>
              </p:nvSpPr>
              <p:spPr>
                <a:xfrm>
                  <a:off x="4100400" y="4300560"/>
                  <a:ext cx="135000" cy="1112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5"/>
                <p:cNvSpPr/>
                <p:nvPr/>
              </p:nvSpPr>
              <p:spPr>
                <a:xfrm>
                  <a:off x="4222800" y="4362480"/>
                  <a:ext cx="561960" cy="171360"/>
                </a:xfrm>
                <a:prstGeom prst="line">
                  <a:avLst/>
                </a:prstGeom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6"/>
                <p:cNvSpPr/>
                <p:nvPr/>
              </p:nvSpPr>
              <p:spPr>
                <a:xfrm>
                  <a:off x="4735440" y="4495680"/>
                  <a:ext cx="147600" cy="111240"/>
                </a:xfrm>
                <a:prstGeom prst="ellipse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27"/>
            <p:cNvGrpSpPr/>
            <p:nvPr/>
          </p:nvGrpSpPr>
          <p:grpSpPr>
            <a:xfrm>
              <a:off x="4100400" y="4300560"/>
              <a:ext cx="782640" cy="306360"/>
              <a:chOff x="4100400" y="4300560"/>
              <a:chExt cx="782640" cy="306360"/>
            </a:xfrm>
          </p:grpSpPr>
          <p:sp>
            <p:nvSpPr>
              <p:cNvPr id="145" name="Oval 28"/>
              <p:cNvSpPr/>
              <p:nvPr/>
            </p:nvSpPr>
            <p:spPr>
              <a:xfrm>
                <a:off x="4100400" y="4495680"/>
                <a:ext cx="1350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9"/>
              <p:cNvSpPr/>
              <p:nvPr/>
            </p:nvSpPr>
            <p:spPr>
              <a:xfrm flipV="1">
                <a:off x="4222800" y="4362480"/>
                <a:ext cx="561960" cy="171360"/>
              </a:xfrm>
              <a:prstGeom prst="line">
                <a:avLst/>
              </a:prstGeom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30"/>
              <p:cNvSpPr/>
              <p:nvPr/>
            </p:nvSpPr>
            <p:spPr>
              <a:xfrm>
                <a:off x="4735440" y="4300560"/>
                <a:ext cx="1476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31"/>
          <p:cNvGrpSpPr/>
          <p:nvPr/>
        </p:nvGrpSpPr>
        <p:grpSpPr>
          <a:xfrm>
            <a:off x="5041800" y="3849840"/>
            <a:ext cx="890640" cy="780840"/>
            <a:chOff x="5041800" y="3849840"/>
            <a:chExt cx="890640" cy="780840"/>
          </a:xfrm>
        </p:grpSpPr>
        <p:sp>
          <p:nvSpPr>
            <p:cNvPr id="149" name="Oval 32"/>
            <p:cNvSpPr/>
            <p:nvPr/>
          </p:nvSpPr>
          <p:spPr>
            <a:xfrm>
              <a:off x="5041800" y="3849840"/>
              <a:ext cx="890640" cy="7808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33"/>
            <p:cNvSpPr/>
            <p:nvPr/>
          </p:nvSpPr>
          <p:spPr>
            <a:xfrm>
              <a:off x="5187960" y="4233960"/>
              <a:ext cx="306360" cy="311040"/>
            </a:xfrm>
            <a:custGeom>
              <a:avLst/>
              <a:gdLst/>
              <a:ahLst/>
              <a:rect l="l" t="t" r="r" b="b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rc 34"/>
            <p:cNvSpPr/>
            <p:nvPr/>
          </p:nvSpPr>
          <p:spPr>
            <a:xfrm>
              <a:off x="5479920" y="4233960"/>
              <a:ext cx="306360" cy="311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21712" y="0"/>
                  </a:moveTo>
                  <a:cubicBezTo>
                    <a:pt x="21712" y="11929"/>
                    <a:pt x="12041" y="21600"/>
                    <a:pt x="112" y="21600"/>
                  </a:cubicBezTo>
                  <a:cubicBezTo>
                    <a:pt x="74" y="21600"/>
                    <a:pt x="37" y="21599"/>
                    <a:pt x="-1" y="21599"/>
                  </a:cubicBezTo>
                </a:path>
                <a:path stroke="0" w="21712" h="21600">
                  <a:moveTo>
                    <a:pt x="21712" y="0"/>
                  </a:moveTo>
                  <a:cubicBezTo>
                    <a:pt x="21712" y="11929"/>
                    <a:pt x="12041" y="21600"/>
                    <a:pt x="112" y="21600"/>
                  </a:cubicBezTo>
                  <a:cubicBezTo>
                    <a:pt x="74" y="21600"/>
                    <a:pt x="37" y="21599"/>
                    <a:pt x="-1" y="21599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5334120" y="4081320"/>
              <a:ext cx="85680" cy="860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5554800" y="4081320"/>
              <a:ext cx="85680" cy="860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4761000" y="2847960"/>
            <a:ext cx="780840" cy="770040"/>
            <a:chOff x="4761000" y="2847960"/>
            <a:chExt cx="780840" cy="770040"/>
          </a:xfrm>
        </p:grpSpPr>
        <p:grpSp>
          <p:nvGrpSpPr>
            <p:cNvPr id="155" name="Group 38"/>
            <p:cNvGrpSpPr/>
            <p:nvPr/>
          </p:nvGrpSpPr>
          <p:grpSpPr>
            <a:xfrm>
              <a:off x="4857840" y="2847960"/>
              <a:ext cx="598320" cy="439920"/>
              <a:chOff x="4857840" y="2847960"/>
              <a:chExt cx="598320" cy="439920"/>
            </a:xfrm>
          </p:grpSpPr>
          <p:sp>
            <p:nvSpPr>
              <p:cNvPr id="156" name="Freeform 39"/>
              <p:cNvSpPr/>
              <p:nvPr/>
            </p:nvSpPr>
            <p:spPr>
              <a:xfrm>
                <a:off x="4857840" y="2847960"/>
                <a:ext cx="293760" cy="4399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85" h="277">
                    <a:moveTo>
                      <a:pt x="185" y="277"/>
                    </a:moveTo>
                    <a:lnTo>
                      <a:pt x="77" y="231"/>
                    </a:lnTo>
                    <a:lnTo>
                      <a:pt x="77" y="169"/>
                    </a:lnTo>
                    <a:lnTo>
                      <a:pt x="0" y="131"/>
                    </a:lnTo>
                    <a:lnTo>
                      <a:pt x="0" y="46"/>
                    </a:lnTo>
                    <a:lnTo>
                      <a:pt x="77" y="0"/>
                    </a:lnTo>
                    <a:lnTo>
                      <a:pt x="185" y="0"/>
                    </a:lnTo>
                    <a:lnTo>
                      <a:pt x="185" y="277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5151600" y="2847960"/>
                <a:ext cx="304560" cy="4399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92" h="277">
                    <a:moveTo>
                      <a:pt x="0" y="277"/>
                    </a:moveTo>
                    <a:lnTo>
                      <a:pt x="108" y="231"/>
                    </a:lnTo>
                    <a:lnTo>
                      <a:pt x="108" y="169"/>
                    </a:lnTo>
                    <a:lnTo>
                      <a:pt x="192" y="131"/>
                    </a:lnTo>
                    <a:lnTo>
                      <a:pt x="192" y="46"/>
                    </a:lnTo>
                    <a:lnTo>
                      <a:pt x="108" y="0"/>
                    </a:lnTo>
                    <a:lnTo>
                      <a:pt x="0" y="0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41"/>
              <p:cNvSpPr/>
              <p:nvPr/>
            </p:nvSpPr>
            <p:spPr>
              <a:xfrm>
                <a:off x="4967280" y="2933640"/>
                <a:ext cx="98280" cy="85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2"/>
              <p:cNvSpPr/>
              <p:nvPr/>
            </p:nvSpPr>
            <p:spPr>
              <a:xfrm>
                <a:off x="5224320" y="2933640"/>
                <a:ext cx="98640" cy="85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5114880" y="3019320"/>
                <a:ext cx="85680" cy="96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61"/>
                    </a:moveTo>
                    <a:lnTo>
                      <a:pt x="23" y="0"/>
                    </a:lnTo>
                    <a:lnTo>
                      <a:pt x="54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44"/>
              <p:cNvGrpSpPr/>
              <p:nvPr/>
            </p:nvGrpSpPr>
            <p:grpSpPr>
              <a:xfrm>
                <a:off x="5016600" y="3141720"/>
                <a:ext cx="268200" cy="73080"/>
                <a:chOff x="5016600" y="3141720"/>
                <a:chExt cx="268200" cy="73080"/>
              </a:xfrm>
            </p:grpSpPr>
            <p:sp>
              <p:nvSpPr>
                <p:cNvPr id="162" name="Rectangle 45"/>
                <p:cNvSpPr/>
                <p:nvPr/>
              </p:nvSpPr>
              <p:spPr>
                <a:xfrm>
                  <a:off x="5089680" y="3165480"/>
                  <a:ext cx="4896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6"/>
                <p:cNvSpPr/>
                <p:nvPr/>
              </p:nvSpPr>
              <p:spPr>
                <a:xfrm>
                  <a:off x="5126040" y="3165480"/>
                  <a:ext cx="493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7"/>
                <p:cNvSpPr/>
                <p:nvPr/>
              </p:nvSpPr>
              <p:spPr>
                <a:xfrm>
                  <a:off x="5164200" y="3165480"/>
                  <a:ext cx="475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8"/>
                <p:cNvSpPr/>
                <p:nvPr/>
              </p:nvSpPr>
              <p:spPr>
                <a:xfrm>
                  <a:off x="5089680" y="3178080"/>
                  <a:ext cx="4896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9"/>
                <p:cNvSpPr/>
                <p:nvPr/>
              </p:nvSpPr>
              <p:spPr>
                <a:xfrm>
                  <a:off x="5126040" y="3178080"/>
                  <a:ext cx="4932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50"/>
                <p:cNvSpPr/>
                <p:nvPr/>
              </p:nvSpPr>
              <p:spPr>
                <a:xfrm>
                  <a:off x="5164200" y="3178080"/>
                  <a:ext cx="47520" cy="3672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51"/>
                <p:cNvSpPr/>
                <p:nvPr/>
              </p:nvSpPr>
              <p:spPr>
                <a:xfrm>
                  <a:off x="5200560" y="3165480"/>
                  <a:ext cx="4788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52"/>
                <p:cNvSpPr/>
                <p:nvPr/>
              </p:nvSpPr>
              <p:spPr>
                <a:xfrm>
                  <a:off x="5052960" y="3165480"/>
                  <a:ext cx="49320" cy="237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53"/>
                <p:cNvSpPr/>
                <p:nvPr/>
              </p:nvSpPr>
              <p:spPr>
                <a:xfrm>
                  <a:off x="5016600" y="3141720"/>
                  <a:ext cx="48960" cy="363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54"/>
                <p:cNvSpPr/>
                <p:nvPr/>
              </p:nvSpPr>
              <p:spPr>
                <a:xfrm>
                  <a:off x="5237280" y="3141720"/>
                  <a:ext cx="47520" cy="3636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oup 55"/>
            <p:cNvGrpSpPr/>
            <p:nvPr/>
          </p:nvGrpSpPr>
          <p:grpSpPr>
            <a:xfrm>
              <a:off x="4761000" y="3311640"/>
              <a:ext cx="780840" cy="306360"/>
              <a:chOff x="4761000" y="3311640"/>
              <a:chExt cx="780840" cy="306360"/>
            </a:xfrm>
          </p:grpSpPr>
          <p:sp>
            <p:nvSpPr>
              <p:cNvPr id="173" name="Oval 56"/>
              <p:cNvSpPr/>
              <p:nvPr/>
            </p:nvSpPr>
            <p:spPr>
              <a:xfrm>
                <a:off x="4761000" y="3311640"/>
                <a:ext cx="133200" cy="1108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7"/>
              <p:cNvSpPr/>
              <p:nvPr/>
            </p:nvSpPr>
            <p:spPr>
              <a:xfrm>
                <a:off x="4883040" y="3373560"/>
                <a:ext cx="560520" cy="169920"/>
              </a:xfrm>
              <a:prstGeom prst="line">
                <a:avLst/>
              </a:prstGeom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58"/>
              <p:cNvSpPr/>
              <p:nvPr/>
            </p:nvSpPr>
            <p:spPr>
              <a:xfrm>
                <a:off x="5396040" y="3506760"/>
                <a:ext cx="145800" cy="11124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59"/>
          <p:cNvGrpSpPr/>
          <p:nvPr/>
        </p:nvGrpSpPr>
        <p:grpSpPr>
          <a:xfrm>
            <a:off x="4761000" y="3311640"/>
            <a:ext cx="780840" cy="306360"/>
            <a:chOff x="4761000" y="3311640"/>
            <a:chExt cx="780840" cy="306360"/>
          </a:xfrm>
        </p:grpSpPr>
        <p:sp>
          <p:nvSpPr>
            <p:cNvPr id="177" name="Oval 60"/>
            <p:cNvSpPr/>
            <p:nvPr/>
          </p:nvSpPr>
          <p:spPr>
            <a:xfrm>
              <a:off x="4761000" y="3506760"/>
              <a:ext cx="133200" cy="111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 flipV="1">
              <a:off x="4883040" y="3373560"/>
              <a:ext cx="560520" cy="169920"/>
            </a:xfrm>
            <a:prstGeom prst="line">
              <a:avLst/>
            </a:prstGeom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2"/>
            <p:cNvSpPr/>
            <p:nvPr/>
          </p:nvSpPr>
          <p:spPr>
            <a:xfrm>
              <a:off x="5396040" y="3311640"/>
              <a:ext cx="145800" cy="1108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3"/>
          <p:cNvGrpSpPr/>
          <p:nvPr/>
        </p:nvGrpSpPr>
        <p:grpSpPr>
          <a:xfrm>
            <a:off x="3282840" y="5167440"/>
            <a:ext cx="892440" cy="782640"/>
            <a:chOff x="3282840" y="5167440"/>
            <a:chExt cx="892440" cy="782640"/>
          </a:xfrm>
        </p:grpSpPr>
        <p:sp>
          <p:nvSpPr>
            <p:cNvPr id="181" name="Oval 64"/>
            <p:cNvSpPr/>
            <p:nvPr/>
          </p:nvSpPr>
          <p:spPr>
            <a:xfrm>
              <a:off x="3282840" y="5167440"/>
              <a:ext cx="89244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65"/>
            <p:cNvSpPr/>
            <p:nvPr/>
          </p:nvSpPr>
          <p:spPr>
            <a:xfrm>
              <a:off x="342900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66"/>
            <p:cNvSpPr/>
            <p:nvPr/>
          </p:nvSpPr>
          <p:spPr>
            <a:xfrm>
              <a:off x="3722760" y="5553000"/>
              <a:ext cx="304560" cy="311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7"/>
            <p:cNvSpPr/>
            <p:nvPr/>
          </p:nvSpPr>
          <p:spPr>
            <a:xfrm>
              <a:off x="3576600" y="5400720"/>
              <a:ext cx="842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8"/>
            <p:cNvSpPr/>
            <p:nvPr/>
          </p:nvSpPr>
          <p:spPr>
            <a:xfrm>
              <a:off x="379584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69"/>
          <p:cNvGrpSpPr/>
          <p:nvPr/>
        </p:nvGrpSpPr>
        <p:grpSpPr>
          <a:xfrm>
            <a:off x="4272120" y="5167440"/>
            <a:ext cx="892080" cy="782640"/>
            <a:chOff x="4272120" y="5167440"/>
            <a:chExt cx="892080" cy="782640"/>
          </a:xfrm>
        </p:grpSpPr>
        <p:sp>
          <p:nvSpPr>
            <p:cNvPr id="187" name="Oval 70"/>
            <p:cNvSpPr/>
            <p:nvPr/>
          </p:nvSpPr>
          <p:spPr>
            <a:xfrm>
              <a:off x="427212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71"/>
            <p:cNvSpPr/>
            <p:nvPr/>
          </p:nvSpPr>
          <p:spPr>
            <a:xfrm>
              <a:off x="441792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rc 72"/>
            <p:cNvSpPr/>
            <p:nvPr/>
          </p:nvSpPr>
          <p:spPr>
            <a:xfrm>
              <a:off x="4711680" y="5553000"/>
              <a:ext cx="304920" cy="3114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73"/>
            <p:cNvSpPr/>
            <p:nvPr/>
          </p:nvSpPr>
          <p:spPr>
            <a:xfrm>
              <a:off x="4565520" y="5400720"/>
              <a:ext cx="842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74"/>
            <p:cNvSpPr/>
            <p:nvPr/>
          </p:nvSpPr>
          <p:spPr>
            <a:xfrm>
              <a:off x="478476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75"/>
          <p:cNvGrpSpPr/>
          <p:nvPr/>
        </p:nvGrpSpPr>
        <p:grpSpPr>
          <a:xfrm>
            <a:off x="5261040" y="5167440"/>
            <a:ext cx="892080" cy="782640"/>
            <a:chOff x="5261040" y="5167440"/>
            <a:chExt cx="892080" cy="782640"/>
          </a:xfrm>
        </p:grpSpPr>
        <p:sp>
          <p:nvSpPr>
            <p:cNvPr id="193" name="Oval 76"/>
            <p:cNvSpPr/>
            <p:nvPr/>
          </p:nvSpPr>
          <p:spPr>
            <a:xfrm>
              <a:off x="526104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77"/>
            <p:cNvSpPr/>
            <p:nvPr/>
          </p:nvSpPr>
          <p:spPr>
            <a:xfrm>
              <a:off x="540720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78"/>
            <p:cNvSpPr/>
            <p:nvPr/>
          </p:nvSpPr>
          <p:spPr>
            <a:xfrm>
              <a:off x="5700600" y="5553000"/>
              <a:ext cx="304920" cy="3114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9"/>
            <p:cNvSpPr/>
            <p:nvPr/>
          </p:nvSpPr>
          <p:spPr>
            <a:xfrm>
              <a:off x="555480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0"/>
            <p:cNvSpPr/>
            <p:nvPr/>
          </p:nvSpPr>
          <p:spPr>
            <a:xfrm>
              <a:off x="577368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1"/>
          <p:cNvGrpSpPr/>
          <p:nvPr/>
        </p:nvGrpSpPr>
        <p:grpSpPr>
          <a:xfrm>
            <a:off x="6249960" y="5167440"/>
            <a:ext cx="892080" cy="782640"/>
            <a:chOff x="6249960" y="5167440"/>
            <a:chExt cx="892080" cy="782640"/>
          </a:xfrm>
        </p:grpSpPr>
        <p:sp>
          <p:nvSpPr>
            <p:cNvPr id="199" name="Oval 82"/>
            <p:cNvSpPr/>
            <p:nvPr/>
          </p:nvSpPr>
          <p:spPr>
            <a:xfrm>
              <a:off x="6249960" y="5167440"/>
              <a:ext cx="892080" cy="7826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rc 83"/>
            <p:cNvSpPr/>
            <p:nvPr/>
          </p:nvSpPr>
          <p:spPr>
            <a:xfrm>
              <a:off x="6396120" y="5553000"/>
              <a:ext cx="306360" cy="31140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</a:path>
                <a:path stroke="0" w="21600" h="21599">
                  <a:moveTo>
                    <a:pt x="21487" y="21599"/>
                  </a:moveTo>
                  <a:cubicBezTo>
                    <a:pt x="9602" y="21538"/>
                    <a:pt x="0" y="11885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rc 84"/>
            <p:cNvSpPr/>
            <p:nvPr/>
          </p:nvSpPr>
          <p:spPr>
            <a:xfrm>
              <a:off x="6689880" y="5553000"/>
              <a:ext cx="304560" cy="3114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12600">
              <a:solidFill>
                <a:srgbClr val="00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5"/>
            <p:cNvSpPr/>
            <p:nvPr/>
          </p:nvSpPr>
          <p:spPr>
            <a:xfrm>
              <a:off x="6543720" y="5400720"/>
              <a:ext cx="8568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6"/>
            <p:cNvSpPr/>
            <p:nvPr/>
          </p:nvSpPr>
          <p:spPr>
            <a:xfrm>
              <a:off x="6762600" y="5400720"/>
              <a:ext cx="86040" cy="8424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87"/>
          <p:cNvSpPr/>
          <p:nvPr/>
        </p:nvSpPr>
        <p:spPr>
          <a:xfrm>
            <a:off x="981720" y="199872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few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1369800" y="2217600"/>
            <a:ext cx="187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9"/>
          <p:cNvSpPr/>
          <p:nvPr/>
        </p:nvSpPr>
        <p:spPr>
          <a:xfrm>
            <a:off x="750240" y="3206880"/>
            <a:ext cx="19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0"/>
          <p:cNvSpPr/>
          <p:nvPr/>
        </p:nvSpPr>
        <p:spPr>
          <a:xfrm>
            <a:off x="503640" y="3427560"/>
            <a:ext cx="22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ly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1"/>
          <p:cNvSpPr/>
          <p:nvPr/>
        </p:nvSpPr>
        <p:spPr>
          <a:xfrm>
            <a:off x="457920" y="4572000"/>
            <a:ext cx="18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microb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2"/>
          <p:cNvSpPr/>
          <p:nvPr/>
        </p:nvSpPr>
        <p:spPr>
          <a:xfrm>
            <a:off x="536040" y="4800600"/>
            <a:ext cx="174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path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93"/>
          <p:cNvGrpSpPr/>
          <p:nvPr/>
        </p:nvGrpSpPr>
        <p:grpSpPr>
          <a:xfrm>
            <a:off x="3392640" y="2530440"/>
            <a:ext cx="1441440" cy="561960"/>
            <a:chOff x="3392640" y="2530440"/>
            <a:chExt cx="1441440" cy="561960"/>
          </a:xfrm>
        </p:grpSpPr>
        <p:sp>
          <p:nvSpPr>
            <p:cNvPr id="211" name="Freeform 94"/>
            <p:cNvSpPr/>
            <p:nvPr/>
          </p:nvSpPr>
          <p:spPr>
            <a:xfrm>
              <a:off x="4638600" y="2970360"/>
              <a:ext cx="195480" cy="122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3" h="77">
                  <a:moveTo>
                    <a:pt x="123" y="77"/>
                  </a:moveTo>
                  <a:lnTo>
                    <a:pt x="0" y="69"/>
                  </a:lnTo>
                  <a:lnTo>
                    <a:pt x="15" y="38"/>
                  </a:lnTo>
                  <a:lnTo>
                    <a:pt x="31" y="0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5"/>
            <p:cNvSpPr/>
            <p:nvPr/>
          </p:nvSpPr>
          <p:spPr>
            <a:xfrm>
              <a:off x="3392640" y="2530440"/>
              <a:ext cx="1257120" cy="4888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96"/>
          <p:cNvGrpSpPr/>
          <p:nvPr/>
        </p:nvGrpSpPr>
        <p:grpSpPr>
          <a:xfrm>
            <a:off x="2624040" y="3740040"/>
            <a:ext cx="1440000" cy="560520"/>
            <a:chOff x="2624040" y="3740040"/>
            <a:chExt cx="1440000" cy="560520"/>
          </a:xfrm>
        </p:grpSpPr>
        <p:sp>
          <p:nvSpPr>
            <p:cNvPr id="214" name="Freeform 97"/>
            <p:cNvSpPr/>
            <p:nvPr/>
          </p:nvSpPr>
          <p:spPr>
            <a:xfrm>
              <a:off x="3868560" y="4178160"/>
              <a:ext cx="195480" cy="1224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3" h="77">
                  <a:moveTo>
                    <a:pt x="123" y="77"/>
                  </a:moveTo>
                  <a:lnTo>
                    <a:pt x="0" y="70"/>
                  </a:lnTo>
                  <a:lnTo>
                    <a:pt x="16" y="39"/>
                  </a:lnTo>
                  <a:lnTo>
                    <a:pt x="31" y="0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8"/>
            <p:cNvSpPr/>
            <p:nvPr/>
          </p:nvSpPr>
          <p:spPr>
            <a:xfrm>
              <a:off x="2624040" y="3740040"/>
              <a:ext cx="1257480" cy="487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99"/>
          <p:cNvGrpSpPr/>
          <p:nvPr/>
        </p:nvGrpSpPr>
        <p:grpSpPr>
          <a:xfrm>
            <a:off x="2184480" y="5057640"/>
            <a:ext cx="1001520" cy="452520"/>
            <a:chOff x="2184480" y="5057640"/>
            <a:chExt cx="1001520" cy="452520"/>
          </a:xfrm>
        </p:grpSpPr>
        <p:sp>
          <p:nvSpPr>
            <p:cNvPr id="217" name="Freeform 100"/>
            <p:cNvSpPr/>
            <p:nvPr/>
          </p:nvSpPr>
          <p:spPr>
            <a:xfrm>
              <a:off x="2989440" y="5375160"/>
              <a:ext cx="196560" cy="135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24" h="85">
                  <a:moveTo>
                    <a:pt x="124" y="85"/>
                  </a:moveTo>
                  <a:lnTo>
                    <a:pt x="0" y="69"/>
                  </a:lnTo>
                  <a:lnTo>
                    <a:pt x="16" y="39"/>
                  </a:lnTo>
                  <a:lnTo>
                    <a:pt x="31" y="0"/>
                  </a:lnTo>
                  <a:lnTo>
                    <a:pt x="124" y="8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1"/>
            <p:cNvSpPr/>
            <p:nvPr/>
          </p:nvSpPr>
          <p:spPr>
            <a:xfrm>
              <a:off x="2184480" y="5057640"/>
              <a:ext cx="817560" cy="366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Arial"/>
              </a:rPr>
              <a:t>Microbes and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ease can come about in several overlapping 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Some bacteria are entirely adapted to the pathogenic way of life in humans. They are never part of the normal flora but may cause subclinical infection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 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Some bacteria which are part of the normal flora acquire extra virulence factors making them pathogenic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37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712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. Some bacteria from the normal flora can cause disease if they gain access to deep tissues by trauma, surgery, lines, especially if associated with a foreign body, e.g.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. epidermi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In immunocompromised patients many free-living bacteria and components of the normal flora can cause disease, especially if introduced into deep tissues, e.g.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cinetob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831-119A-4AF0-B987-A4FB20F35A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dnan 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F3F-6554-4E2D-A2AC-6B496CD94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33:14Z</dcterms:created>
  <dc:creator>JUST</dc:creator>
  <dc:description/>
  <dc:language>en-US</dc:language>
  <cp:lastModifiedBy>user</cp:lastModifiedBy>
  <dcterms:modified xsi:type="dcterms:W3CDTF">2013-12-01T14:34:28Z</dcterms:modified>
  <cp:revision>61</cp:revision>
  <dc:subject/>
  <dc:title>Bacterial cell Structure</dc:title>
</cp:coreProperties>
</file>