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1B5-3709-48F4-B3C6-AAB9177F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A08-C74B-4357-A50D-B9539BC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46E-1FC8-4B9F-B1C9-80878BAB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470-5E6C-4A57-A7FE-0BBF9F3B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003-37DC-48B5-BABD-46C51B8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138-C95D-45E1-A15E-7092DA7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5D2-E405-4BD7-BECB-FB339DE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63A-4644-40DB-8ED6-D77357A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1B6-3014-47AB-AECA-02F3F4AF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284-0F62-45A7-AA19-5B8CB31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1E0-DBA5-4CDC-A3FB-F14DAD6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C1F-CDE7-4F9A-BEC9-E4AD538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6227D-5656-4DB7-8190-5E81B1FE55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8CAF3-6621-4F63-A469-322C83B55F1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18:36Z</dcterms:created>
  <dc:creator>최봉수</dc:creator>
  <dc:description/>
  <dc:language>en-US</dc:language>
  <cp:lastModifiedBy>맛있다 군만두</cp:lastModifiedBy>
  <dcterms:modified xsi:type="dcterms:W3CDTF">2024-09-24T08:26:00Z</dcterms:modified>
  <cp:revision>3</cp:revision>
  <dc:subject/>
  <dc:title>슬라이드 1</dc:title>
</cp:coreProperties>
</file>