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FF2-6C21-479C-B8D8-93D86080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EA9-B3CD-4BBB-8AD2-7955E3DF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799-494C-4714-9191-9D54CE7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982-F901-4CC1-8BD6-9963C991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183-855B-4F54-B9E4-FAA8446F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58E-1C09-4403-8950-B3F93D9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780-4BA0-4DED-B49E-2B5E0FDB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427-B990-49B8-91AD-D1B582C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037-C916-48DD-94A7-DB0BCDDA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F18-ADED-4798-B4AD-EAC4AC8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272-9B84-42DB-992C-F05581D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263-3E24-4A58-AB16-877EBA9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5CC6C-77CF-4CED-83E2-C1673A425A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3B5F2-80AD-4EC2-843E-70A0F3E2328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18:36Z</dcterms:created>
  <dc:creator>최봉수</dc:creator>
  <dc:description/>
  <dc:language>en-US</dc:language>
  <cp:lastModifiedBy>맛있다 군만두</cp:lastModifiedBy>
  <dcterms:modified xsi:type="dcterms:W3CDTF">2024-09-24T08:26:00Z</dcterms:modified>
  <cp:revision>3</cp:revision>
  <dc:subject/>
  <dc:title>슬라이드 1</dc:title>
</cp:coreProperties>
</file>