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7.wmf" ContentType="image/x-wmf"/>
  <Override PartName="/ppt/media/APPLAUSE.WAV" ContentType="audio/x-wav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478560"/>
            <a:ext cx="80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113-AFF8-442F-8384-3EB7462FF006}" type="slidenum"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1066680"/>
            <a:ext cx="8077320" cy="76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3880" y="2666880"/>
            <a:ext cx="6248520" cy="199476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Financial Aware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133720"/>
            <a:ext cx="838080" cy="4038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76720"/>
            <a:ext cx="762120" cy="289548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276720"/>
            <a:ext cx="99036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648320"/>
            <a:ext cx="99036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334120"/>
            <a:ext cx="91440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572000"/>
            <a:ext cx="9144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720" y="4646520"/>
            <a:ext cx="97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s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181480"/>
            <a:ext cx="9907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s-$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2514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dividends paid to shareholders of the company are deducted from Profit after Tax to leave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5562720"/>
            <a:ext cx="9907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556272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nings $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537000" cy="2144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43400" y="4572000"/>
            <a:ext cx="838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5334120"/>
            <a:ext cx="83808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600200"/>
            <a:ext cx="7086600" cy="4114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438280"/>
            <a:ext cx="2590920" cy="13716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19720"/>
            <a:ext cx="144792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648320"/>
            <a:ext cx="182880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219320"/>
            <a:ext cx="7010640" cy="487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&amp; Loss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7524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 Year Ended 31/12/20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2860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                                                                   $10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5909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of Sales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4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8954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fit                                                           6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2004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nses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5812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Profit                                                   3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9625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Expense/(Income)                                        5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3434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Before Tax                                                 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52578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dends                                                                1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5627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ned Earnings                                                   6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94040" y="1195560"/>
            <a:ext cx="18432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6483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 Income Tax                                          7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9528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After Tax                                                    18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680" y="17524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ance Sheet Statement shows the assets, liabilities and equity of a business at a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3544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6920" y="1219320"/>
            <a:ext cx="4403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ain types of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886200"/>
            <a:ext cx="243864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648320"/>
            <a:ext cx="24386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191120"/>
            <a:ext cx="19051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392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16761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040" y="1336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Fixed 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7680" y="1905120"/>
            <a:ext cx="8092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 are assets held permanently in the business and not intended for resale,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2819520" cy="1074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2057400" cy="1111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84360" y="46134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982440" cy="85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080" y="52578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248520" y="3276720"/>
            <a:ext cx="1060200" cy="1447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122960" y="29718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760" y="13366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urrent 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09680"/>
            <a:ext cx="678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 are cash or other assets that will be converted into cash in the normal course of business within 12 month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1470240" cy="1468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3200" y="5562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1433520" cy="2003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404960" y="5832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1646280" cy="1338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43800" y="35802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" y="1336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Total Assets -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057400"/>
            <a:ext cx="274320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&amp; 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tures &amp; Fi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343400"/>
            <a:ext cx="2743200" cy="2133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ed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2895480"/>
            <a:ext cx="182880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5105520"/>
            <a:ext cx="1828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038480"/>
            <a:ext cx="1981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213984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200" y="133668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20" y="1219320"/>
            <a:ext cx="483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ain types of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895480"/>
            <a:ext cx="2895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733920"/>
            <a:ext cx="2895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352680"/>
            <a:ext cx="21333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3200400"/>
            <a:ext cx="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14800" y="36572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480" y="133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Long 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1157400" cy="744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62520" y="2895480"/>
            <a:ext cx="47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liabilities are debts to be repaid after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8480" y="133668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 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1157040" cy="744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29000" y="281952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liabilities are debts to be repaid within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61680" y="1413000"/>
            <a:ext cx="807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an accounting period, the business accounts for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by producing three main financial stat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9372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1680" y="411480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fit &amp; Loss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941560"/>
            <a:ext cx="1523880" cy="12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8840" y="44956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Cash Flow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4160" y="58672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95da"/>
                </a:solidFill>
                <a:latin typeface="Times New Roman"/>
              </a:rPr>
              <a:t>Balance She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29000" y="2819520"/>
            <a:ext cx="20750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680" y="133668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-Term Liabilities - Trade 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360" y="2057400"/>
            <a:ext cx="8093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creditors are amounts owing to suppliers for products and services bought but not yet paid f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81944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" y="489096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Suppliers of raw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flipH="1" rot="10800000">
            <a:off x="5562720" y="3200400"/>
            <a:ext cx="1395360" cy="132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180400" y="477360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elephone 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7040" y="133668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-Term Liabilities - Other 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reditors are amounts owing t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005200" cy="1630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91120" y="5299200"/>
            <a:ext cx="324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Auth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AT, PIT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01240" y="5181480"/>
            <a:ext cx="16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vid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20048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080" y="12384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9920" y="179388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ty has two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590920"/>
            <a:ext cx="25905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3657600"/>
            <a:ext cx="2590560" cy="609480"/>
          </a:xfrm>
          <a:prstGeom prst="rect">
            <a:avLst/>
          </a:prstGeom>
          <a:solidFill>
            <a:srgbClr val="f395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200400"/>
            <a:ext cx="3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971800"/>
            <a:ext cx="2133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4572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apital is the money the owners have injected into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4864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 are the cumulative profits that have not been paid as dividends to the ow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8098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2971800"/>
            <a:ext cx="1371600" cy="685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89280" y="2909880"/>
            <a:ext cx="18396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124080"/>
            <a:ext cx="1523880" cy="106704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60600" y="3176640"/>
            <a:ext cx="18432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2514600"/>
            <a:ext cx="40384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600" y="327672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Assets - Net Book Value   $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2514600"/>
            <a:ext cx="4038480" cy="312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4200" y="2666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abilities &amp; Equ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276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Liabilities         $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Balance She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1752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31-12-200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2360" y="3809880"/>
            <a:ext cx="40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ssets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4572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Assets                                 $3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3733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Liabilities          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114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ty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4572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      $3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6280" y="175248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h Flow Statement reports the cash inflows and outflows of a business during an accounting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2305080" cy="1884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13360" y="5603760"/>
            <a:ext cx="25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ra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097000" cy="2098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501000" y="5562720"/>
            <a:ext cx="25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ves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1608120" cy="1884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67880" y="5562720"/>
            <a:ext cx="25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inanc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25909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designed to provide cash flow information about 3 activities of a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720" y="141300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opera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057400"/>
            <a:ext cx="3809880" cy="32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5791320"/>
            <a:ext cx="50292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operat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9680" y="26668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6440" y="3124080"/>
            <a:ext cx="42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cU&amp;NIpts of interest and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3640" y="3429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 re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7520" y="380988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ther operating cash recU&amp;N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2057400"/>
            <a:ext cx="381024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s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6440" y="2286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19240" y="3657600"/>
            <a:ext cx="27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s to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8880" y="3962520"/>
            <a:ext cx="268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 of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434340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ther operating cash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19960" y="32004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3720" y="14130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Inves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133720"/>
            <a:ext cx="4038480" cy="320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5867280"/>
            <a:ext cx="4952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invest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27672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les of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3600" y="37339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llection on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520" y="28195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les of fix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2133720"/>
            <a:ext cx="40384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6920" y="217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0920" y="275760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rchase of fix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32004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0360" y="373392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king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4080" y="141300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financ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2286000"/>
            <a:ext cx="4267080" cy="3048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2286000"/>
            <a:ext cx="3962520" cy="3048120"/>
          </a:xfrm>
          <a:prstGeom prst="rect">
            <a:avLst/>
          </a:prstGeom>
          <a:solidFill>
            <a:srgbClr val="f7b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09680" y="5867280"/>
            <a:ext cx="5029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financ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9160" y="24382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4320" y="2438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f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360" y="31240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ssuance of equity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3657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ssuance of long-term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95200" y="3124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of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3581280"/>
            <a:ext cx="36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 of long-term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4114800"/>
            <a:ext cx="36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payment of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114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4960" y="12952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h flows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286000"/>
            <a:ext cx="8381880" cy="419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124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Operating Activities                                     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3657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Investing Activities                                       (2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1148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Financing Activities                                      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2520" y="16765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r the Year Ended 31-12-200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6483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Increase/(Decrease) in Cash                                                     (7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95288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at beginning of the year                                                            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525780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at end of year                                                                             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 rot="21360600">
            <a:off x="3206880" y="2895480"/>
            <a:ext cx="3040200" cy="7790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507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76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reports sales and expenses of the business over a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7960" y="4343400"/>
            <a:ext cx="2514600" cy="88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06960" y="4125960"/>
            <a:ext cx="312408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85080" y="5680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9436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ports the sales made during the period and the costs and expenses relating to those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560" y="171756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starts with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9907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97180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les account records the amount charged to customers for goods or service su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72428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sts and expenses are then deducted from sales to reveal profit or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67072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expenses refer to the amount of money incurred in running the business during the releva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560" y="171756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starts with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362320"/>
            <a:ext cx="83808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2362320"/>
            <a:ext cx="685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733920"/>
            <a:ext cx="685800" cy="22860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28600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costs deducted are Cost of Sales. These are costs directly associated with the manufacture of products, the purchase of products for resale, or the cost of providing a service to a custo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7242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ng Cost of Sales from Sales leaves us with Gross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2080" y="2262240"/>
            <a:ext cx="18396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8954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2004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762120" cy="27432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352680"/>
            <a:ext cx="83808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276720"/>
            <a:ext cx="588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costs deducted are other Expenses. These are costs  which are incurred in the daily running of the company such as Sales Expenses, Marketing Expenses, Advertising Expenses, Administrative Expens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71568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352680"/>
            <a:ext cx="762120" cy="27432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3352680"/>
            <a:ext cx="83808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657600"/>
            <a:ext cx="52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ng Expenses from Gross Profit leaves us with Operating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480060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ss Profit and Operating Profit reflect the results achieved in managing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715680" cy="152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276720"/>
            <a:ext cx="762120" cy="281916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276720"/>
            <a:ext cx="83808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costs deducted are other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029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other expense/income from operating profit leaves us with  Profit Before Tax (PB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1066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230508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76720"/>
            <a:ext cx="762120" cy="281916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276720"/>
            <a:ext cx="83808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572000"/>
            <a:ext cx="1066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2305080" cy="188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1120" y="464832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8006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69224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T minus Corporate Income Tax shall be equal to Profit After Tax (P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04:25:11Z</dcterms:created>
  <dc:creator>Le Q Trung</dc:creator>
  <dc:description/>
  <dc:language>en-US</dc:language>
  <cp:lastModifiedBy>Dell8600</cp:lastModifiedBy>
  <cp:lastPrinted>2002-10-03T06:23:14Z</cp:lastPrinted>
  <dcterms:modified xsi:type="dcterms:W3CDTF">2006-10-28T07:31:22Z</dcterms:modified>
  <cp:revision>109</cp:revision>
  <dc:subject/>
  <dc:title>Financial Awareness</dc:title>
</cp:coreProperties>
</file>