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7.wmf" ContentType="image/x-wmf"/>
  <Override PartName="/ppt/media/APPLAUSE.WAV" ContentType="audio/x-wav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05920" y="6478560"/>
            <a:ext cx="80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7708-2C6A-43DE-8EBA-9A50FF213C7C}" type="slidenum"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1066680"/>
            <a:ext cx="8077320" cy="763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4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23880" y="2666880"/>
            <a:ext cx="6248520" cy="199476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Financial Aware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133720"/>
            <a:ext cx="838080" cy="4038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3276720"/>
            <a:ext cx="762120" cy="289548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276720"/>
            <a:ext cx="990360" cy="1371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648320"/>
            <a:ext cx="99036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334120"/>
            <a:ext cx="91440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572000"/>
            <a:ext cx="9144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720" y="4646520"/>
            <a:ext cx="97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enses $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5181480"/>
            <a:ext cx="9907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s-$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419720"/>
            <a:ext cx="2514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, dividends paid to shareholders of the company are deducted from Profit after Tax to leave 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5562720"/>
            <a:ext cx="99072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5562720"/>
            <a:ext cx="99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nings $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537000" cy="2144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343400" y="4572000"/>
            <a:ext cx="8380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5334120"/>
            <a:ext cx="83808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600200"/>
            <a:ext cx="7086600" cy="41148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2438280"/>
            <a:ext cx="2590920" cy="13716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81080" y="4419720"/>
            <a:ext cx="144792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648320"/>
            <a:ext cx="182880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219320"/>
            <a:ext cx="7010640" cy="487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it &amp; Loss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75248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the Year Ended 31/12/200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2860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es                                                                   $100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25909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 of Sales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4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89548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ss Profit                                                           60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2004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nses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58128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ng Profit                                                   30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39625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Expense/(Income)                                        5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3434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it Before Tax                                                 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525780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idends                                                                1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56272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ned Earnings                                                   6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94040" y="1195560"/>
            <a:ext cx="184320" cy="11160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6483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 Income Tax                                          7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95288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it After Tax                                                    18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7680" y="17524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ance Sheet Statement shows the assets, liabilities and equity of a business at a poin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3544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6920" y="1219320"/>
            <a:ext cx="4403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As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main types of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886200"/>
            <a:ext cx="243864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648320"/>
            <a:ext cx="24386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19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4191120"/>
            <a:ext cx="19051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3920" y="4343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16761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040" y="1336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Fixed As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7680" y="1905120"/>
            <a:ext cx="8092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ssets are assets held permanently in the business and not intended for resale,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2819520" cy="1074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2057400" cy="1111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84360" y="46134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4572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982440" cy="855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94080" y="52578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and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248520" y="3276720"/>
            <a:ext cx="1060200" cy="1447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122960" y="29718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760" y="13366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Current As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209680"/>
            <a:ext cx="6782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ssets are cash or other assets that will be converted into cash in the normal course of business within 12 month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1470240" cy="1468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3200" y="5562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1433520" cy="2003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404960" y="5832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010280" y="2057400"/>
            <a:ext cx="1646280" cy="1338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43800" y="35802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6240" y="1336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Total Assets - 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2057400"/>
            <a:ext cx="2743200" cy="213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 &amp; Machin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tures &amp; Fi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4343400"/>
            <a:ext cx="2743200" cy="2133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ished 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2895480"/>
            <a:ext cx="1828800" cy="60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5105520"/>
            <a:ext cx="18288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541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038480"/>
            <a:ext cx="1981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213984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200" y="133668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20" y="1219320"/>
            <a:ext cx="483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main types of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895480"/>
            <a:ext cx="28954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3733920"/>
            <a:ext cx="2895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Term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3352680"/>
            <a:ext cx="21333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3200400"/>
            <a:ext cx="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2004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14800" y="36572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8480" y="133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Long Term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1157400" cy="744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62520" y="2895480"/>
            <a:ext cx="47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liabilities are debts to be repaid after on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8480" y="133668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Short Term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1157040" cy="744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29000" y="2819520"/>
            <a:ext cx="48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term liabilities are debts to be repaid within on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61680" y="1413000"/>
            <a:ext cx="807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an accounting period, the business accounts for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by producing three main financial stat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93720" cy="78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1680" y="411480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rofit &amp; Loss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2941560"/>
            <a:ext cx="1523880" cy="123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8840" y="44956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Cash Flow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4160" y="586728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95da"/>
                </a:solidFill>
                <a:latin typeface="Times New Roman"/>
              </a:rPr>
              <a:t>Balance She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29000" y="2819520"/>
            <a:ext cx="20750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6680" y="133668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Short-Term Liabilities - Trade 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360" y="2057400"/>
            <a:ext cx="8093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creditors are amounts owing to suppliers for products and services bought but not yet paid f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1819440" cy="129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35600" y="4890960"/>
            <a:ext cx="29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Suppliers of raw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flipH="1" rot="10800000">
            <a:off x="5562720" y="3200400"/>
            <a:ext cx="1395360" cy="132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180400" y="477360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Telephone 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7040" y="1336680"/>
            <a:ext cx="52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Short-Term Liabilities - Other 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2096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reditors are amounts owing t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005200" cy="1630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91120" y="5299200"/>
            <a:ext cx="324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 Author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AT, PIT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01240" y="5181480"/>
            <a:ext cx="16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vide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20048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080" y="123840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9920" y="179388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ty has two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590920"/>
            <a:ext cx="259056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ed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3657600"/>
            <a:ext cx="2590560" cy="609480"/>
          </a:xfrm>
          <a:prstGeom prst="rect">
            <a:avLst/>
          </a:prstGeom>
          <a:solidFill>
            <a:srgbClr val="f395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3200400"/>
            <a:ext cx="3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276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2971800"/>
            <a:ext cx="21337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9960" y="4572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ed Capital is the money the owners have injected into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4864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 are the cumulative profits that have not been paid as dividends to the ow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8098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4792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lance Shee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2971800"/>
            <a:ext cx="1371600" cy="6858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89280" y="2909880"/>
            <a:ext cx="183960" cy="11160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124080"/>
            <a:ext cx="1523880" cy="106704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60600" y="3176640"/>
            <a:ext cx="184320" cy="11160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2514600"/>
            <a:ext cx="4038480" cy="3200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600" y="3276720"/>
            <a:ext cx="40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Assets - Net Book Value   $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2514600"/>
            <a:ext cx="4038480" cy="312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4200" y="266688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abilities &amp; Equit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3276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 Liabilities         $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1447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Balance She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1752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31-12-200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2360" y="3809880"/>
            <a:ext cx="40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Assets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45720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Assets                                 $3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3733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-Term Liabilities          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1148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ty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45720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      $3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6280" y="175248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h Flow Statement reports the cash inflows and outflows of a business during an accounting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2305080" cy="1884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13360" y="5603760"/>
            <a:ext cx="259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ash flow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rat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2097000" cy="2098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501000" y="5562720"/>
            <a:ext cx="25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ash flow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vest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6248520" y="3200400"/>
            <a:ext cx="1608120" cy="1884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167880" y="5562720"/>
            <a:ext cx="259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ash flow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inanc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259092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designed to provide cash flow information about 3 activities of a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3720" y="141300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Cash flow from operat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057400"/>
            <a:ext cx="3809880" cy="327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97120" y="3276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5638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5638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5791320"/>
            <a:ext cx="50292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cash flows from operating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9680" y="26668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from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6440" y="3124080"/>
            <a:ext cx="42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cU&amp;NIpts of interest and 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3640" y="3429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x re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7520" y="3809880"/>
            <a:ext cx="37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ther operating cash recU&amp;N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2057400"/>
            <a:ext cx="3810240" cy="327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s to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16440" y="22860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ut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19240" y="3657600"/>
            <a:ext cx="27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yments to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18880" y="3962520"/>
            <a:ext cx="2687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yment of income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16360" y="434340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ther operating cash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19960" y="32004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terest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3720" y="141300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Cash flow from Invest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2133720"/>
            <a:ext cx="4038480" cy="320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7120" y="3276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5638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5638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33720" y="5867280"/>
            <a:ext cx="4952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cash flows from investing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327672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les of 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3600" y="37339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llection on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2520" y="281952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les of fix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00600" y="2133720"/>
            <a:ext cx="4038480" cy="3200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76920" y="21747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ut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0920" y="275760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rchase of fix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32004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0360" y="373392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king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4080" y="1413000"/>
            <a:ext cx="46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Cash flow from financ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2286000"/>
            <a:ext cx="4267080" cy="3048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97120" y="3276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2286000"/>
            <a:ext cx="3962520" cy="3048120"/>
          </a:xfrm>
          <a:prstGeom prst="rect">
            <a:avLst/>
          </a:prstGeom>
          <a:solidFill>
            <a:srgbClr val="f7b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294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5638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5638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09680" y="5867280"/>
            <a:ext cx="5029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cash flows from financing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9160" y="24382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4320" y="2438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f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360" y="31240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ssuance of equity sec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36576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ssuance of long-term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95200" y="31240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of 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3581280"/>
            <a:ext cx="36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yment of long-term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4114800"/>
            <a:ext cx="362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payment of amount borr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4114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orrow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04960" y="129528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sh flows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2286000"/>
            <a:ext cx="8381880" cy="4191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31240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et Cash Flows from Operating Activities                                     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3657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et Cash Flows from Investing Activities                                       (2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41148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et Cash Flows from Financing Activities                                       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2520" y="167652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r the Year Ended 31-12-200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6483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Increase/(Decrease) in Cash                                                     (7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95288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h at beginning of the year                                                            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525780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h at end of year                                                                             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 rot="21360600">
            <a:off x="3206880" y="2895480"/>
            <a:ext cx="3040200" cy="7790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507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7652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it and Loss Statement reports sales and expenses of the business over a perio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7960" y="4343400"/>
            <a:ext cx="2514600" cy="88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06960" y="4125960"/>
            <a:ext cx="3124080" cy="1342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85080" y="5680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594360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and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ports the sales made during the period and the costs and expenses relating to those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560" y="171756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it and Loss Statement starts with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9907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297180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les account records the amount charged to customers for goods or service su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72428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costs and expenses are then deducted from sales to reveal profit or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670720"/>
            <a:ext cx="64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and expenses refer to the amount of money incurred in running the business during the releva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560" y="171756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it and Loss Statement starts with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362320"/>
            <a:ext cx="838080" cy="365760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2362320"/>
            <a:ext cx="6858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733920"/>
            <a:ext cx="685800" cy="228600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28600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costs deducted are Cost of Sales. These are costs directly associated with the manufacture of products, the purchase of products for resale, or the cost of providing a service to a custo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7242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ting Cost of Sales from Sales leaves us with Gross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32080" y="2262240"/>
            <a:ext cx="183960" cy="11160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8954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2004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83808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762120" cy="274320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352680"/>
            <a:ext cx="838080" cy="12956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276720"/>
            <a:ext cx="588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costs deducted are other Expenses. These are costs  which are incurred in the daily running of the company such as Sales Expenses, Marketing Expenses, Advertising Expenses, Administrative Expens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715680" cy="1523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133720"/>
            <a:ext cx="83808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352680"/>
            <a:ext cx="762120" cy="274320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3352680"/>
            <a:ext cx="838080" cy="12956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648320"/>
            <a:ext cx="838080" cy="1447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657600"/>
            <a:ext cx="52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ting Expenses from Gross Profit leaves us with Operating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480060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ss Profit and Operating Profit reflect the results achieved in managing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715680" cy="1523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133720"/>
            <a:ext cx="83808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276720"/>
            <a:ext cx="762120" cy="281916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276720"/>
            <a:ext cx="838080" cy="1371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4648320"/>
            <a:ext cx="838080" cy="1447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334120"/>
            <a:ext cx="83808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2670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costs deducted are other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029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ng other expense/income from operating profit leaves us with  Profit Before Tax (PB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6483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10666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ense $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230508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808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fit and Los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133720"/>
            <a:ext cx="83808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276720"/>
            <a:ext cx="762120" cy="2819160"/>
          </a:xfrm>
          <a:prstGeom prst="rect">
            <a:avLst/>
          </a:prstGeom>
          <a:solidFill>
            <a:srgbClr val="f7b3e5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276720"/>
            <a:ext cx="838080" cy="1371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4648320"/>
            <a:ext cx="838080" cy="1447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133720"/>
            <a:ext cx="762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2096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666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9718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2438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5334120"/>
            <a:ext cx="83808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6483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572000"/>
            <a:ext cx="10666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ense $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2305080" cy="1884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91120" y="4648320"/>
            <a:ext cx="609480" cy="68580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80060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46483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334120"/>
            <a:ext cx="83808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469224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T minus Corporate Income Tax shall be equal to Profit After Tax (P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04:25:11Z</dcterms:created>
  <dc:creator>Le Q Trung</dc:creator>
  <dc:description/>
  <dc:language>en-US</dc:language>
  <cp:lastModifiedBy>Dell8600</cp:lastModifiedBy>
  <cp:lastPrinted>2002-10-03T06:23:14Z</cp:lastPrinted>
  <dcterms:modified xsi:type="dcterms:W3CDTF">2006-10-28T07:31:22Z</dcterms:modified>
  <cp:revision>109</cp:revision>
  <dc:subject/>
  <dc:title>Financial Awareness</dc:title>
</cp:coreProperties>
</file>