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BFA7A2-40C3-4D1E-88AA-84A72D9B7C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A0B200-5614-4C1C-B7EA-5A8FB071D2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E33C12-890C-463A-905F-9D55648A44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0435C6-1E93-4B1A-B65A-5C16BC47F8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2C516B-D237-4FB0-A487-31691BF31C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0EF734-CD7F-4063-A4C1-B7DE20D432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F1CB10-6389-434F-AB35-D8CE485F3F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BE6764-A455-41CE-8879-5FD0026A59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946-193E-4FD2-B7C4-28F1D9B5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7AE-6F6C-4A82-BE3B-4479A108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335-B17A-421C-B260-B40484DB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E2C-0F16-4B21-BF31-1A00AFBB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4EA-B3E3-41BA-8167-087847A5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619-8A00-4DEC-8215-B3B02286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9B1-D78E-4D4A-96C9-F0BF65AB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BBB-D18D-4D1B-BC2D-C3654162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600" y="9540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9C5-3546-488C-B791-ACFD4D2A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883-894B-4709-B77E-1E2BAF09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E0F-9FA1-4052-B177-6814AEC6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C6C-73F0-44C8-B4F4-427E6E81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56200"/>
            <a:chOff x="0" y="0"/>
            <a:chExt cx="9142560" cy="685620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9142560" cy="6856200"/>
              <a:chOff x="0" y="0"/>
              <a:chExt cx="9142560" cy="68562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9142560" cy="25394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2539440"/>
                <a:ext cx="9142560" cy="431676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4" name="Picture 5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" name="Group 6"/>
            <p:cNvGrpSpPr/>
            <p:nvPr/>
          </p:nvGrpSpPr>
          <p:grpSpPr>
            <a:xfrm>
              <a:off x="1028880" y="0"/>
              <a:ext cx="152280" cy="5733720"/>
              <a:chOff x="1028880" y="0"/>
              <a:chExt cx="152280" cy="5733720"/>
            </a:xfrm>
          </p:grpSpPr>
          <p:sp>
            <p:nvSpPr>
              <p:cNvPr id="6" name="Rectangle 7"/>
              <p:cNvSpPr/>
              <p:nvPr/>
            </p:nvSpPr>
            <p:spPr>
              <a:xfrm>
                <a:off x="1028880" y="0"/>
                <a:ext cx="152280" cy="13536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8"/>
              <p:cNvSpPr/>
              <p:nvPr/>
            </p:nvSpPr>
            <p:spPr>
              <a:xfrm>
                <a:off x="1028880" y="1333080"/>
                <a:ext cx="152280" cy="440064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" name="Rectangle 9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84C041-D010-4103-938E-7E382CF61FC0}" type="slidenum">
              <a:rPr b="0" lang="en-GB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2714760"/>
            <a:ext cx="83296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9966ff"/>
                </a:solidFill>
                <a:latin typeface="Impact"/>
              </a:rPr>
              <a:t>CONVÊNIO     DE    TAUBATÉ 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Reunião entre os governadores de São Paulo, Minas Gerais e Rio de Janeiro. Nesse encontro, ocorrido no ano de 1906, os governadores  oficializaram um acordo conhecido como o Convênio de Taubaté.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Foi criada uma política de valorização do café e esses estados se comprometiam a comprar as sacas de café a um preço mínimo estipulado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 medida visava criar uma estocagem da produção excedente, esperando que preços melhores fossem alcançados no mercado internacional</a:t>
            </a:r>
            <a:r>
              <a:rPr b="0" lang="pt-BR" sz="2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371600" y="-2142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5440" indent="-235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235440" indent="-2354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6600" spc="-1" strike="noStrike">
                <a:solidFill>
                  <a:srgbClr val="800000"/>
                </a:solidFill>
                <a:latin typeface="Impact"/>
              </a:rPr>
              <a:t>  </a:t>
            </a:r>
            <a:r>
              <a:rPr b="0" lang="pt-BR" sz="6600" spc="-1" strike="noStrike">
                <a:solidFill>
                  <a:srgbClr val="800000"/>
                </a:solidFill>
                <a:latin typeface="Impact"/>
              </a:rPr>
              <a:t>A proclamação da República  no Brasil.</a:t>
            </a:r>
            <a:endParaRPr b="0" lang="en-US" sz="6600" spc="-1" strike="noStrike">
              <a:solidFill>
                <a:srgbClr val="660066"/>
              </a:solidFill>
              <a:latin typeface="Impact"/>
            </a:endParaRPr>
          </a:p>
          <a:p>
            <a:pPr marL="235440" indent="-2354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600" spc="-1" strike="noStrike">
              <a:solidFill>
                <a:srgbClr val="660066"/>
              </a:solidFill>
              <a:latin typeface="Impact"/>
            </a:endParaRPr>
          </a:p>
          <a:p>
            <a:pPr marL="235440" indent="-2354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ar-SA" sz="6600" spc="-1" strike="noStrike">
                <a:solidFill>
                  <a:srgbClr val="800000"/>
                </a:solidFill>
                <a:latin typeface="Impact"/>
                <a:ea typeface="Arial"/>
              </a:rPr>
              <a:t>‏</a:t>
            </a:r>
            <a:endParaRPr b="0" lang="en-US" sz="66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0" name="CaixaDeTexto 2"/>
          <p:cNvSpPr/>
          <p:nvPr/>
        </p:nvSpPr>
        <p:spPr>
          <a:xfrm>
            <a:off x="1285920" y="2786040"/>
            <a:ext cx="8001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960000"/>
                </a:solidFill>
                <a:latin typeface="Times New Roman"/>
              </a:rPr>
              <a:t>O golpe que derrubou a monarquia no Brasil</a:t>
            </a:r>
            <a:br>
              <a:rPr sz="3200"/>
            </a:br>
            <a:r>
              <a:rPr b="0" lang="pt-BR" sz="3200" spc="-1" strike="noStrike">
                <a:solidFill>
                  <a:srgbClr val="960000"/>
                </a:solidFill>
                <a:latin typeface="Times New Roman"/>
              </a:rPr>
              <a:t>foi conduzida pelos militares, apoiados por um</a:t>
            </a:r>
            <a:br>
              <a:rPr sz="3200"/>
            </a:br>
            <a:r>
              <a:rPr b="0" lang="pt-BR" sz="3200" spc="-1" strike="noStrike">
                <a:solidFill>
                  <a:srgbClr val="960000"/>
                </a:solidFill>
                <a:latin typeface="Times New Roman"/>
              </a:rPr>
              <a:t>pequeno grupo de republicanos civ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CaixaDeTexto 3"/>
          <p:cNvSpPr/>
          <p:nvPr/>
        </p:nvSpPr>
        <p:spPr>
          <a:xfrm>
            <a:off x="214200" y="5072040"/>
            <a:ext cx="4000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960000"/>
                </a:solidFill>
                <a:latin typeface="Times New Roman"/>
              </a:rPr>
              <a:t>9º ano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Impact"/>
              </a:rPr>
              <a:t>A POLÍTICA  DOS  GOVERNADORES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37160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 Black"/>
              </a:rPr>
              <a:t>   </a:t>
            </a:r>
            <a:r>
              <a:rPr b="0" lang="pt-BR" sz="3200" spc="-1" strike="noStrike">
                <a:solidFill>
                  <a:srgbClr val="660066"/>
                </a:solidFill>
                <a:latin typeface="Arial Black"/>
              </a:rPr>
              <a:t>Idealizada por Campos Sales, a política dos governadores era um arranjo político que tinha os objetivos de evitar os choques entre os governos estaduais e a União e garantir o poder para os grupos mais fortes no interior de cada estado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4" name="CaixaDeTexto 3"/>
          <p:cNvSpPr/>
          <p:nvPr/>
        </p:nvSpPr>
        <p:spPr>
          <a:xfrm>
            <a:off x="357120" y="6072120"/>
            <a:ext cx="2714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3dd78b"/>
                </a:solidFill>
                <a:latin typeface="Times New Roman"/>
              </a:rPr>
              <a:t>Pág.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85920" y="3071520"/>
            <a:ext cx="8043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6640" indent="-29664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Assim, os grupos dominantes em cada  estado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296640" indent="-29664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apoiariam o governo  central e,  em troca,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296640" indent="-29664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o governo central não reconheceria , no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296640" indent="-29664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estados , a vitória dos candidatos ligados à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296640" indent="-29664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oposição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cxnSp>
        <p:nvCxnSpPr>
          <p:cNvPr id="66" name="Conector de seta reta 6"/>
          <p:cNvCxnSpPr/>
          <p:nvPr/>
        </p:nvCxnSpPr>
        <p:spPr>
          <a:xfrm>
            <a:off x="2143080" y="2428920"/>
            <a:ext cx="4144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6429240" y="6415200"/>
            <a:ext cx="2714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3dd78b"/>
                </a:solidFill>
                <a:latin typeface="Times New Roman"/>
              </a:rPr>
              <a:t>Pág.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2000160" y="2143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dd78b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esidente Campos Sa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711840" y="353880"/>
            <a:ext cx="2438640" cy="2408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1428840" y="1152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dd78b"/>
                </a:solidFill>
                <a:latin typeface="Impact"/>
              </a:rPr>
              <a:t>A POLÍTICA  DOS  GOVERN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800"/>
                            </p:stCondLst>
                            <p:childTnLst>
                              <p:par>
                                <p:cTn id="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28800" y="1785600"/>
            <a:ext cx="82152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     </a:t>
            </a: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Para esse acordo funcionar , era preciso que esses grupos dominantes sempre vencessem as eleições no estado. A saída foi criar a Comissão de Verificação dos Poderes, controlada pelo Executivo Federal. A comissão, encarregada de examinar as altas eleições fazia a  “degola” dos candidatos da oposição que tivessem vencidos, ou seja, os excluía da lista dos eleitos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2" name="CaixaDeTexto 3"/>
          <p:cNvSpPr/>
          <p:nvPr/>
        </p:nvSpPr>
        <p:spPr>
          <a:xfrm>
            <a:off x="0" y="6415200"/>
            <a:ext cx="2714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3dd78b"/>
                </a:solidFill>
                <a:latin typeface="Times New Roman"/>
              </a:rPr>
              <a:t>Pág.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Impact"/>
              </a:rPr>
              <a:t>A POLÍTICA  DOS  GOVERNADORES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Impact"/>
              </a:rPr>
              <a:t>CORONELISMO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75" name="CaixaDeTexto 3"/>
          <p:cNvSpPr/>
          <p:nvPr/>
        </p:nvSpPr>
        <p:spPr>
          <a:xfrm>
            <a:off x="1357200" y="2714760"/>
            <a:ext cx="685800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404040"/>
                </a:solidFill>
                <a:latin typeface="Arial Black"/>
              </a:rPr>
              <a:t>CORONEL = </a:t>
            </a:r>
            <a:r>
              <a:rPr b="0" lang="pt-BR" sz="2400" spc="-1" strike="noStrike">
                <a:solidFill>
                  <a:srgbClr val="404040"/>
                </a:solidFill>
                <a:latin typeface="Arial Black"/>
              </a:rPr>
              <a:t>Chefe político de uma localidade que </a:t>
            </a:r>
            <a:r>
              <a:rPr b="1" i="1" lang="pt-BR" sz="2400" spc="-1" strike="noStrike" u="sng">
                <a:solidFill>
                  <a:srgbClr val="404040"/>
                </a:solidFill>
                <a:uFillTx/>
                <a:latin typeface="Arial Black"/>
              </a:rPr>
              <a:t>pressiona</a:t>
            </a:r>
            <a:r>
              <a:rPr b="0" lang="pt-BR" sz="2400" spc="-1" strike="noStrike">
                <a:solidFill>
                  <a:srgbClr val="404040"/>
                </a:solidFill>
                <a:latin typeface="Arial Black"/>
              </a:rPr>
              <a:t> os eleitores a votarem em quem eles indicam (voto do cabresto)</a:t>
            </a:r>
            <a:r>
              <a:rPr b="0" lang="ar-SA" sz="2400" spc="-1" strike="noStrike">
                <a:solidFill>
                  <a:srgbClr val="404040"/>
                </a:solidFill>
                <a:latin typeface="Arial Black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Arial Black"/>
              </a:rPr>
              <a:t>O Coronel recebe autoridade local dos governantes desde que lhes garanta muitos v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CaixaDeTexto 4"/>
          <p:cNvSpPr/>
          <p:nvPr/>
        </p:nvSpPr>
        <p:spPr>
          <a:xfrm>
            <a:off x="3000240" y="357120"/>
            <a:ext cx="2714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d0d0d"/>
                </a:solidFill>
                <a:latin typeface="Times New Roman"/>
              </a:rPr>
              <a:t>CONCE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ff"/>
                </a:solidFill>
                <a:latin typeface="Impact"/>
              </a:rPr>
              <a:t>.CORONELISMO.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78" name="CaixaDeTexto 5"/>
          <p:cNvSpPr/>
          <p:nvPr/>
        </p:nvSpPr>
        <p:spPr>
          <a:xfrm>
            <a:off x="7715160" y="0"/>
            <a:ext cx="1428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3dd78b"/>
                </a:solidFill>
                <a:latin typeface="Times New Roman"/>
              </a:rPr>
              <a:t>Pág.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CaixaDeTexto 6"/>
          <p:cNvSpPr/>
          <p:nvPr/>
        </p:nvSpPr>
        <p:spPr>
          <a:xfrm>
            <a:off x="1357200" y="1341360"/>
            <a:ext cx="778680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4d99"/>
                </a:solidFill>
                <a:latin typeface="Times New Roman"/>
              </a:rPr>
              <a:t>A política dos governadores fortaleceu o poder o poder local, exercido pelos chamados coronéis, em geral grandes proprietários de terras. A figura do coronel era típica das áreas rurais brasileiras, onde a enorme concentração de terras gerava um quadro contraditório: uma minoria de fazendeiros poderosos diante de uma maioria de camponeses empobrecidos e trabalhadores sem-terra</a:t>
            </a:r>
            <a:r>
              <a:rPr b="0" lang="pt-BR" sz="3000" spc="-1" strike="noStrike">
                <a:solidFill>
                  <a:srgbClr val="004d99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Impact"/>
              </a:rPr>
              <a:t>CAFÉ  COM  LEITE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95280" y="1980720"/>
            <a:ext cx="77724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Black"/>
              </a:rPr>
              <a:t>Este   é   o   apelido   da    República Oligárquica       porque se alternavam    no poder   presidentes  do    PRP (Partido Republicano Paulista)      e do  PRM (Partido Republicano Mineiro), ou seja, somente São Paulo e Minas Gerais governavam o Brasi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ff"/>
                </a:solidFill>
                <a:latin typeface="Impact"/>
              </a:rPr>
              <a:t>CAFÉ     COM  LEITE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047760" cy="2971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120400" y="468936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CAF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2666880" cy="2971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319720" y="4689360"/>
            <a:ext cx="102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LE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7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rlin</dc:creator>
  <dc:description/>
  <dc:language>en-US</dc:language>
  <cp:lastModifiedBy>CaioLimongi</cp:lastModifiedBy>
  <dcterms:modified xsi:type="dcterms:W3CDTF">2014-04-10T01:47:49Z</dcterms:modified>
  <cp:revision>21</cp:revision>
  <dc:subject/>
  <dc:title>Slide sem título</dc:title>
</cp:coreProperties>
</file>