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5A4-CB2C-480A-A84D-0103B9C3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EF5-3F4B-45E2-83EF-54E24FA5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3AF-16F1-4AC3-A87E-0C8BD33C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B52-8F50-4E28-9501-C71B4A7A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D5CA-6365-40CE-BE1A-1126F413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871B-365F-4CD2-B812-C6D28E74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F5BC-D54C-4F5C-87C8-3A14A52D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616-798D-4A82-9054-80378EE1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80F1-6F1E-4647-A2D9-38542133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1B5A-D89B-4E86-90CF-3842A830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FEB6-1FD6-4BDB-AFB8-F8B46020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276-B3AE-41C4-A812-7DDA9F3D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5089-B5BF-4E73-9176-E2385A6D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E131-1E95-49B8-86DF-FD0D204A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FB83-7E78-4B02-91D3-A8B81750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A243-4090-4C1A-B502-7B31FC79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E747-2BB8-45D4-B857-A4727CDD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8C0-DD76-4EF7-A8CB-C8799588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1CE-6D4E-4110-AFDB-777E173A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DCE-E53A-41A5-B475-7AE793FF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084-8B7E-4A6F-BE38-8DF2EBB0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EE8-580D-4A69-9598-371B5EB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033-BAFE-4B2B-8E78-A4CEAC90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3EF-26B9-4136-84B3-9161B4A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CBE5-3535-445C-A7BB-3942659A3A48}" type="datetime">
              <a:rPr b="0" lang="ar-SA" sz="1200" spc="-1" strike="noStrike">
                <a:solidFill>
                  <a:srgbClr val="ffffff"/>
                </a:solidFill>
                <a:latin typeface="Garamond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698402B7-6CAA-40A6-8722-9C6798959F61}" type="datetime10">
              <a:rPr b="0" lang="ar-SA" sz="1200" spc="-1" strike="noStrike">
                <a:solidFill>
                  <a:srgbClr val="ffffff"/>
                </a:solidFill>
                <a:latin typeface="Garamond"/>
              </a:rPr>
              <a:t>22:0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0299-2C5B-4995-B9DC-E196E65EB3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2BB4-17A6-496F-9C69-A1103FBF8C3F}" type="datetime">
              <a:rPr b="0" lang="ar-SA" sz="1200" spc="-1" strike="noStrike">
                <a:solidFill>
                  <a:srgbClr val="ffffff"/>
                </a:solidFill>
                <a:latin typeface="Garamond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971E28CC-F844-4B38-AE87-9260D0E45D3E}" type="datetime10">
              <a:rPr b="0" lang="ar-SA" sz="1200" spc="-1" strike="noStrike">
                <a:solidFill>
                  <a:srgbClr val="ffffff"/>
                </a:solidFill>
                <a:latin typeface="Garamond"/>
              </a:rPr>
              <a:t>22:0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B641-9149-4AF5-AD35-1F18CE05F0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leurae</a:t>
            </a:r>
            <a:r>
              <a:rPr b="1" lang="ar-SY" sz="54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ar-SY" sz="5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8200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buClr>
                <a:srgbClr val="00ff99"/>
              </a:buClr>
              <a:buFont typeface="Garamond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هي عبارة عن غلاف مصلي يحيط بالرئتين , وهي مؤلفة                             من وريقتين حشوية تحيط بالرئة وجداريه تبطن جدار الصدر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spcBef>
                <a:spcPts val="799"/>
              </a:spcBef>
              <a:buClr>
                <a:srgbClr val="00ff99"/>
              </a:buClr>
              <a:buFont typeface="Garamond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تتصل الحشوية والجدار ية في مستوى جذر الرئة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spcBef>
                <a:spcPts val="799"/>
              </a:spcBef>
              <a:buClr>
                <a:srgbClr val="00ff99"/>
              </a:buClr>
              <a:buFont typeface="Garamond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وريقتان تحددان فيما بينهما جوفا يسمى جوف الجنب يحتوي    كمية قليلة من السائل الجنبي يمنع احتكاك الوريقتين اثناء التنفس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D66B-1BB7-42D3-BB14-1D4B9B2153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8EEBEAA-2C2E-4DC4-8579-8B08D91685BC}" type="datetime8">
              <a:rPr lang="en-US"/>
              <a:t>07/30/26 22:0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الوريقة الحشوية او الرئوية 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  تغطي كامل السطح الرئوي الخارجي ما عدا منطقة الجذر. كما انها تفرش اعماق الشقوق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الوريقة الجدار ية  : تفرش جدار الصدر الداخلية وهي تسمح بحركة جذر الرئة اثناء التنفس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تقسم الوريقة الجدار ية الى : جنب ضلعية , جنب منصفيه , جنب حجابيه , جنب رقيب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اثناء انعكاسها من جدار الى اخر تشكل الطيات او الردوب الجنية . وهي تقع عند اتحاد مختلف اقسام الجنبة الجدار ية .وهي :                      الردب الضلعي المنصفي الامامي , الردب الضلعي الحاجزي , الردب الضلعي المنصفي الخلفي , الردب الحاجزي المنصفي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DE1-BDBC-4436-ACC7-039D86D74A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B66EE-B5FF-4C5B-8D96-A51C4E34D168}" type="datetime8">
              <a:rPr lang="en-US"/>
              <a:t>07/30/26 22: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تروية الجنبة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-763920" algn="r" rtl="1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تغذية الشريان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ar-SY" sz="2400" spc="-1" strike="noStrike" u="sng">
                <a:solidFill>
                  <a:srgbClr val="ffffff"/>
                </a:solidFill>
                <a:uFillTx/>
                <a:latin typeface="Garamond"/>
              </a:rPr>
              <a:t>الجنبة الحشو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الشرايين القصبي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ar-SY" sz="2400" spc="-1" strike="noStrike" u="sng">
                <a:solidFill>
                  <a:srgbClr val="ffffff"/>
                </a:solidFill>
                <a:uFillTx/>
                <a:latin typeface="Garamond"/>
              </a:rPr>
              <a:t>الجنبة الجدار 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الشرايين : الوربية , الصدري الباطن . الفروع الحاجزية والمنصفية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-763920" algn="r" rtl="1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تصريف الوريدي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ترافق الشرايين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-763920" algn="r" rtl="1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تصريف اللمفي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ar-SY" sz="2400" spc="-1" strike="noStrike" u="sng">
                <a:solidFill>
                  <a:srgbClr val="ffffff"/>
                </a:solidFill>
                <a:uFillTx/>
                <a:latin typeface="Garamond"/>
              </a:rPr>
              <a:t>الجنبة الحشو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يذهب لنفها الى الشبكة السطحية للرئتين ويشكل ضفيرة تحت الجنبة الحشوية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ar-SY" sz="2400" spc="-1" strike="noStrike" u="sng">
                <a:solidFill>
                  <a:srgbClr val="ffffff"/>
                </a:solidFill>
                <a:uFillTx/>
                <a:latin typeface="Garamond"/>
              </a:rPr>
              <a:t>الجنبة الجدار 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يتم تصريف اللمف منها الى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98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ffffff"/>
                </a:solidFill>
                <a:latin typeface="Garamond"/>
              </a:rPr>
              <a:t>اوعية الجنبة الضلعية &gt;&gt;&gt;&gt; الاوعية اللمفية للعضلات الوربية الباطنية &gt;&gt;&gt; العقد جانب القص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98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ffffff"/>
                </a:solidFill>
                <a:latin typeface="Garamond"/>
              </a:rPr>
              <a:t>اوعية الجنبة الحجازية &gt;&gt;&gt;&gt; النهاية السفلية للمري او &gt;&gt;&gt;&gt;حول الابهر الصدري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98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ffffff"/>
                </a:solidFill>
                <a:latin typeface="Garamond"/>
              </a:rPr>
              <a:t>اوعية الجنبة المنصفية &gt;&gt;&gt;&gt; العقد المنصفية الخلفية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3B6-229B-482F-8ECF-10FF6F9D9C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B9D48-3BDD-410A-9675-01981AC048A5}" type="datetime8">
              <a:rPr lang="en-US"/>
              <a:t>07/30/26 22: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تعصيب الجنب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جنبة الحشوية  : من الضفيرة الرئوي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جنبة الجدارية  : من الاعصاب الوربية والودية  و الحاجزي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A42-48EC-4985-9474-1C3A65F586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33BB5-4929-435E-A1DB-64234FE127C4}" type="datetime8">
              <a:rPr lang="en-US"/>
              <a:t>07/30/26 22: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غشاء الجن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67942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12C-5C17-4477-A355-3E64243847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3DCDE-B31C-474F-A48F-97CBB0AFE4F1}" type="datetime8">
              <a:rPr lang="en-US"/>
              <a:t>07/30/26 22: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غشاء ا الجن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 وجوف الجن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5977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E85-CE94-418F-B2C9-6873509B28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6CB06-C048-4A72-93BB-C38F2D2B80D6}" type="datetime8">
              <a:rPr lang="en-US"/>
              <a:t>07/30/26 22: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غشاء الجن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969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C91-8A9B-4334-B5FE-0E63E0D2BE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005E5-FD84-4CEB-8148-D961B94813D0}" type="datetime8">
              <a:rPr lang="en-US"/>
              <a:t>07/30/26 22: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76244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6BA-CEF1-46A9-A4C8-EC275D6852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4EEF3-C5AB-4284-B79E-9845D4B73EFB}" type="datetime8">
              <a:rPr lang="en-US"/>
              <a:t>07/30/26 22: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1:58:33Z</dcterms:created>
  <dc:creator>د.قدري الحاج مصطفى</dc:creator>
  <dc:description/>
  <dc:language>en-US</dc:language>
  <cp:lastModifiedBy>د.قدري الحاج مصطفى</cp:lastModifiedBy>
  <dcterms:modified xsi:type="dcterms:W3CDTF">2009-01-27T18:28:37Z</dcterms:modified>
  <cp:revision>16</cp:revision>
  <dc:subject/>
  <dc:title>Pleurae</dc:title>
</cp:coreProperties>
</file>