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F68-6119-41D5-B9ED-8B2DDD4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299-8904-4A9C-A63A-6164120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0C4-574D-4E3C-9698-F6916A9A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23B-EA5F-465E-8DE3-CE4B0F7B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7DA1-3377-4DD3-AB88-1B374803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BF7F-71F5-4AB4-B353-0C10434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371D-B09D-4C17-A800-1D549A09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8BE7-BE23-41B7-AA5C-5BA57367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3A0C-2501-422F-A744-5C119EF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3E19-6BEF-4310-A552-B7ACDF87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67B-CA06-499E-A894-0F55B28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798-4C83-4A59-B426-065E7FE1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84C4-7CCA-48EC-9048-DA0D23B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B3D-5579-4421-BB20-DD160DC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910-AF5B-4537-A8CD-66C7E334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964-9F10-44BB-BF6A-13E50F5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A23B-1F2F-48AE-89AF-BFC1F9F5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42D-6D46-44F8-A64E-D66CA3F4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22F-DD74-479F-BD85-857A3A2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B70-3FF4-4971-BCC0-CD0CDE27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19D-2E32-468A-B5C8-948D3B67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039-14EC-4977-B9A3-BA66B18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506-8E1E-4BD5-9020-80000423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D0B-2CE7-4BEB-9B71-B834730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48C-FC3B-4759-8E12-995492CCE741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C540F894-502E-493B-B048-2CCEA0E9D50C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9AF2-347F-428C-BAA2-3E7AD6F63A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CCA-F034-4898-B517-53E49D521F59}" type="datetime">
              <a:rPr b="0" lang="ar-SA" sz="1200" spc="-1" strike="noStrike">
                <a:solidFill>
                  <a:srgbClr val="ffffff"/>
                </a:solidFill>
                <a:latin typeface="Garamond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 </a:t>
            </a:r>
            <a:fld id="{727E0CCF-F568-4F82-9791-B984230A7496}" type="datetime10">
              <a:rPr b="0" lang="ar-SA" sz="1200" spc="-1" strike="noStrike">
                <a:solidFill>
                  <a:srgbClr val="ffffff"/>
                </a:solidFill>
                <a:latin typeface="Garamond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D2D0-2DAE-4223-AAF0-51DFEFECD6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leurae</a:t>
            </a: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ar-SY" sz="5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820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هي عبارة عن غلاف مصلي يحيط بالرئتين , وهي مؤلفة                             من وريقتين حشوية تحيط بالرئة وجداريه تبطن جدار الصدر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تتصل الحشوية والجدار ية في مستوى جذر الرئة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spcBef>
                <a:spcPts val="799"/>
              </a:spcBef>
              <a:buClr>
                <a:srgbClr val="00ff99"/>
              </a:buClr>
              <a:buFont typeface="Garamond"/>
              <a:buChar char="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وريقتان تحددان فيما بينهما جوفا يسمى جوف الجنب يحتوي    كمية قليلة من السائل الجنبي يمنع احتكاك الوريقتين اثناء التنفس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D0A-36D9-4BD6-8EE1-E77581C520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2041F4-50E3-4CB0-8F2C-D3A86C455E18}" type="datetime8">
              <a:rPr lang="en-US"/>
              <a:t>07/29/26 12:35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وريقة الحشوية او الرئوية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    تغطي كامل السطح الرئوي الخارجي ما عدا منطقة الجذر. كما انها تفرش اعماق الشقوق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لوريقة الجدار ية  : تفرش جدار الصدر الداخلية وهي تسمح بحركة جذر الرئة اثناء التنفس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تقسم الوريقة الجدار ية الى : جنب ضلعية , جنب منصفيه , جنب حجابيه , جنب رقيب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Garamond"/>
              </a:rPr>
              <a:t>اثناء انعكاسها من جدار الى اخر تشكل الطيات او الردوب الجنية . وهي تقع عند اتحاد مختلف اقسام الجنبة الجدار ية .وهي :                      الردب الضلعي المنصفي الامامي , الردب الضلعي الحاجزي , الردب الضلعي المنصفي الخلفي , الردب الحاجزي المنصفي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D38-ADE6-4D51-91F0-1475D1CEB8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6E56C-528E-49A6-9A1F-63DB0D1AA5C1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تروية الجنب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غذية الشريان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حشو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الشرايين القصب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جدار 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الشرايين : الوربية , الصدري الباطن . الفروع الحاجزية والمنصفية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صريف الوريدي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ترافق الشرايين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 algn="r" rtl="1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تصريف اللمفي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حشو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يذهب لنفها الى الشبكة السطحية للرئتين ويشكل ضفيرة تحت الجنبة الحشوية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63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ar-SY" sz="2400" spc="-1" strike="noStrike" u="sng">
                <a:solidFill>
                  <a:srgbClr val="ffffff"/>
                </a:solidFill>
                <a:uFillTx/>
                <a:latin typeface="Garamond"/>
              </a:rPr>
              <a:t>الجنبة الجدار ية</a:t>
            </a:r>
            <a:r>
              <a:rPr b="0" lang="ar-SY" sz="2400" spc="-1" strike="noStrike">
                <a:solidFill>
                  <a:srgbClr val="ffffff"/>
                </a:solidFill>
                <a:latin typeface="Garamond"/>
              </a:rPr>
              <a:t>  يتم تصريف اللمف منها الى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ضلعية &gt;&gt;&gt;&gt; الاوعية اللمفية للعضلات الوربية الباطنية &gt;&gt;&gt; العقد جانب القص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حجازية &gt;&gt;&gt;&gt; النهاية السفلية للمري او &gt;&gt;&gt;&gt;حول الابهر الصدري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98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ffffff"/>
                </a:solidFill>
                <a:latin typeface="Garamond"/>
              </a:rPr>
              <a:t>اوعية الجنبة المنصفية &gt;&gt;&gt;&gt; العقد المنصفية الخلفية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DFD-DC49-47BC-9DA3-59EA90997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8E56A-4EEC-4D95-AA14-8822A619B02A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تعصيب الجنب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جنبة الحشوية  : من الضفيرة الرئو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الجنبة الجدارية  : من الاعصاب الوربية والودية  و الحاجز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D9D-DFBD-4682-933A-98F4C0AA99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96203-63A9-4FDE-AC9C-E4BC94B6D4CD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67942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4B6-20A3-44CB-A271-E3F153C17D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AC266-0B97-4D02-AC69-B668FA130F3E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  وجوف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977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986-A6F9-4E67-BFA3-A322B2245D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CF4A6-5D1D-4C5F-87D1-0DFDE16697C6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9efee"/>
                </a:solidFill>
                <a:latin typeface="Garamond"/>
              </a:rPr>
              <a:t>غشاء الجنب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Garamond"/>
              </a:rPr>
              <a:t>غشاء الجن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9690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AB-DBFB-42E8-9EE8-268AA41F5C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305BD-B82B-40A3-B395-C0F5826A4669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7624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BBF-2B29-4E4A-8B59-9911CE068B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4AB91-6CA8-41FF-8340-BC5E780BCCC9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1:58:33Z</dcterms:created>
  <dc:creator>د.قدري الحاج مصطفى</dc:creator>
  <dc:description/>
  <dc:language>en-US</dc:language>
  <cp:lastModifiedBy>د.قدري الحاج مصطفى</cp:lastModifiedBy>
  <dcterms:modified xsi:type="dcterms:W3CDTF">2009-01-27T18:28:37Z</dcterms:modified>
  <cp:revision>16</cp:revision>
  <dc:subject/>
  <dc:title>Pleurae</dc:title>
</cp:coreProperties>
</file>