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C55-4C02-4A96-B50A-B975B37E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FC8-78B2-4A22-9456-867346F2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FB4-E286-4085-B1E9-22D4DB4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E25-2D65-4E0B-9C9A-A40EA854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DD5-298F-4EBE-918B-9BB9B51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A6F-2ED7-4139-8A54-08733D6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661-A4A8-459C-BB76-74F6D556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688-1A09-441E-A111-CB01EA11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35A-6731-4731-8DF1-A6D6D2A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E00-856B-4B50-A721-3EEC0AA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02C-9870-4989-8FDA-E69C504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3C4-CD7A-4981-81E4-2448DFEF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5F8CD-90B5-4497-99D7-2FD4E48AFA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C2159-18AD-4F4E-BE18-4ECCB540551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7:47:35Z</dcterms:created>
  <dc:creator>최봉수</dc:creator>
  <dc:description/>
  <dc:language>en-US</dc:language>
  <cp:lastModifiedBy>맛있다 군만두</cp:lastModifiedBy>
  <dcterms:modified xsi:type="dcterms:W3CDTF">2024-09-24T08:07:57Z</dcterms:modified>
  <cp:revision>3</cp:revision>
  <dc:subject/>
  <dc:title>슬라이드 1</dc:title>
</cp:coreProperties>
</file>