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C25-46AF-4CD7-A306-44244644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EF4-F51B-47D6-936F-992DD69F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7BA-2411-48DD-9340-3B03A73E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903-BE62-46F0-9D1F-8B646B82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61A-298E-4C81-A04D-704112F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1E5-AEB8-44C7-BDF3-64FE99A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9C0-4A68-4412-85B5-DD7AF5B7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FCD-9333-4573-A7A0-2FF53CC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DD7-464F-4456-9243-3D9E79B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5BF-1576-46DB-8875-600C03F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92D-2E57-477B-BC09-6CA7D09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726-98C7-49D4-AEEC-C6F7524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B377-5FB3-4B88-A5BD-1C537A9E6F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7D636-C14B-4916-88B3-B77E4C6E40F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7:47:35Z</dcterms:created>
  <dc:creator>최봉수</dc:creator>
  <dc:description/>
  <dc:language>en-US</dc:language>
  <cp:lastModifiedBy>맛있다 군만두</cp:lastModifiedBy>
  <dcterms:modified xsi:type="dcterms:W3CDTF">2024-09-24T08:07:57Z</dcterms:modified>
  <cp:revision>3</cp:revision>
  <dc:subject/>
  <dc:title>슬라이드 1</dc:title>
</cp:coreProperties>
</file>