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93347"/>
                </a:solidFill>
                <a:latin typeface="Trebuchet MS"/>
              </a:rPr>
              <a:t>Click to move the slide</a:t>
            </a:r>
            <a:endParaRPr b="1" i="1" lang="en-US" sz="40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7E83-D23F-4F83-8365-2D67FCECA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1072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48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484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93520" y="15998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73360" y="15998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1072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93520" y="41072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73360" y="41072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59334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484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14040" y="274320"/>
            <a:ext cx="80010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59334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484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04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59334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48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7484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48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072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040" y="41072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48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04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7484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93520" y="15998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73360" y="15998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040" y="41072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93520" y="41072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73360" y="41072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484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74320"/>
            <a:ext cx="80010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5933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484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8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484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48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072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0" cy="6858000"/>
          </a:xfrm>
          <a:prstGeom prst="line">
            <a:avLst/>
          </a:prstGeom>
          <a:ln w="5724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7632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3816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2844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260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648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29600" y="6507000"/>
            <a:ext cx="80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3347"/>
                </a:solidFill>
                <a:latin typeface="Arial"/>
              </a:rPr>
              <a:t>13-</a:t>
            </a:r>
            <a:fld id="{C4B4F365-C545-4B9A-9909-FB05C74AA722}" type="slidenum">
              <a:rPr b="0" lang="en-US" sz="1000" spc="-1" strike="noStrike">
                <a:solidFill>
                  <a:srgbClr val="59334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93347"/>
                </a:solidFill>
                <a:latin typeface="Trebuchet MS"/>
              </a:rPr>
              <a:t>Click to edit the title text format</a:t>
            </a:r>
            <a:endParaRPr b="1" i="1" lang="en-US" sz="40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10152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0"/>
            <a:ext cx="0" cy="6858000"/>
          </a:xfrm>
          <a:prstGeom prst="line">
            <a:avLst/>
          </a:prstGeom>
          <a:ln w="15228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7632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w="5076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0"/>
            <a:ext cx="0" cy="6858000"/>
          </a:xfrm>
          <a:prstGeom prst="line">
            <a:avLst/>
          </a:prstGeom>
          <a:ln w="3816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2556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199548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0"/>
            <a:ext cx="0" cy="6858000"/>
          </a:xfrm>
          <a:prstGeom prst="line">
            <a:avLst/>
          </a:prstGeom>
          <a:ln w="648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1260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3347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593347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93347"/>
                </a:solidFill>
                <a:latin typeface="Trebuchet MS"/>
              </a:rPr>
              <a:t>Motivating for Performance</a:t>
            </a:r>
            <a:endParaRPr b="1" i="1" lang="en-US" sz="40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828800" y="1995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3347"/>
                </a:solidFill>
                <a:latin typeface="Arial"/>
              </a:rPr>
              <a:t>Chapter 13</a:t>
            </a:r>
            <a:endParaRPr b="0" i="1" lang="en-US" sz="2800" spc="-1" strike="noStrike">
              <a:solidFill>
                <a:srgbClr val="59334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6553080"/>
            <a:ext cx="868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McGraw-Hill/Irwin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 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Limitations of Goal Setting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mployees who lack relevant ability and knowledge, it is better to urge them to do their best or set a goal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focused on their own goals may not help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ooperation is important, performance goals should be set for the team--not just for 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importa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stablish a single productivity goal if there are other important dimensions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Set Your Own Goal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goals for yourself; don’t just try hard or hope for the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tatement of purpose for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spiring distant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d-distant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ar-term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Reinforcing Performance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 of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 that is followed by positive consequences probably will be rep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for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consequences that motiv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behavior modification (OB M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lication of reinforcement theory in organizational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Reinforcing Performance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key consequences of behavior that either encourage or discourage people’s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1" action="ppaction://hlinksldjump"/>
              </a:rPr>
              <a:t>Positive reinfor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Negative reinfor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Pun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Exti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The Consequences of Behavior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9008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Reinforcing Performance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is)Managing Rewards and Punis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s must identify which kinds of behaviors they reinforce and which they dis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ward system has to support the firm’s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s must reward employees for developing themselves in strategically important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 managers use </a:t>
            </a:r>
            <a:r>
              <a:rPr b="0" lang="en-US" sz="2800" spc="-1" strike="noStrike" u="sng">
                <a:solidFill>
                  <a:srgbClr val="ff9933"/>
                </a:solidFill>
                <a:uFillTx/>
                <a:latin typeface="Arial"/>
                <a:hlinkClick r:id="rId1" action="ppaction://hlinksldjump"/>
              </a:rPr>
              <a:t>nonmonetary re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Reinforcing Performance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use of punishment creates a climate of f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at everyone makes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ise people who deliver bad news to their 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punish unsuccessful but good-faith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ll potential causes of po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full attention when employees ask for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Performance-Related Belief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ment theory considers the work environment--expectancy theory considers cognitiv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ancy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heory proposing that people will behave based on their perceived likelihood that their effort  will lead to a certain outcome and on how highly they value that 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Arial"/>
                <a:hlinkClick r:id="rId1" action="ppaction://hlinksldjump"/>
              </a:rPr>
              <a:t>Effort-to-performance link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expecta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Performance-to-outcome link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outcome, instrumentality, and val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Basic Concepts of Expectancy Theory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2295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Expectancy Theory’s Impact on Motivation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tivation to be high, expectancy, instrumentalities, and total valence of all outcomes must all be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 will not be motivated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believe they cannot perform well enough to achieve the positive outcomes (high valence, high instrumentality, low expecta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know they can do the job don’t want those outcomes or believe negative outcomes outweigh the positive (high expectancy, high instrumentality, low val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believe they can do the job but does not believe the outcomes will be forthcoming (high expectancy and positive valences, low instrumenta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41440" y="38160"/>
            <a:ext cx="62596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Managerial Implications of Expectancy Theory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expecta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ositively val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erformance instrumental toward positive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Understanding People’s Need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1" action="ppaction://hlinksldjump"/>
              </a:rPr>
              <a:t>Maslow’s Need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ception of human needs organizing needs into a hierarchy of five majo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derfer’s ERG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uman needs theory developed by Alderfer postulating that people have three basic sets of need which can operate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Clelland’s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s for achievement, affiliation, and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heories: International 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influences the emphasis on various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Designing Motivating Job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insic re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s given to a person by the boss, the company, or some othe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insic re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s a worker derives directly from performing the job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from one routine task to another to alleviate bor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enlar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ing people additional tasks at the same time to alleviate bor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Designing Motivating Job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zberg’s two-factor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s two factors affecting people’s work motivation and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geine factors are characteristics of the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vators are factors that make a job more motivating such as additional job responsibilities, opportunities for personal growth and recognition, and feelings of achie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ckman and Oldham model of job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signed jobs lead to high motivation, high-quality performance, high satisfaction, and low absenteeism and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Designing Motivating Job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need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gree to which individuals want personal and psychologic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owe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sharing power with employees, thereby enhancing their confidence in their ability to perform their jobs and their belief that they are influential contributors to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Achieving Fairnes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ty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heory stating that people assess how fairly they have been treated according to two key factors: outcomes and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ing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comp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86880" y="5148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45000" y="50436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7280" y="52722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33000" y="510552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us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05760" y="50292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58040" y="5257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Achieving Fairnes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ing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feel inequitably treated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ir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their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others’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al ju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fair process in decision making and making sure others know that the process was as fair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Job Satisfaction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work life (QWL)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designed to create a workplace that enhances employee well 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WL has eight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ical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t of perceptions of what employees owe their employers and what their employers ow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Positive Reinforcement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consequences that increase the likelihood that a person will repeat the behavior that led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s of 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able performance eval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ra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Return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5" action="ppaction://hlinksldjump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Negative Reinforcement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ing or withholding an undesirable con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an employee off probation because of improv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Return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5" action="ppaction://hlinksldjump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Learning Objective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kinds of behaviors managers need to motivat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principles for setting goals that motivate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how to reward good performance eff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key beliefs that affect peoples’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Punishment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ering an aversive con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izing or shouting at an 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ing an unappealing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ing a worker home without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Return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5" action="ppaction://hlinksldjump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Extinction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drawing or failing to provide a reinforcing con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giving a compliment for a job well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getting to say thanks for a fa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impossible performance goals so that the person never experiences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Return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5" action="ppaction://hlinksldjump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Nonmonetary Reward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ectual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influence over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Return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5" action="ppaction://hlinksldjump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Effort-to-Performance Link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’ perception of the likelihood that their efforts will enable them to attain their performance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xpectancies create higher motivation than lower expecta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Return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5" action="ppaction://hlinksldjump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Performance-to-Outcome Link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sequence a person receives for his or he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ceived likelihood that performance will be followed by a particular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an outcome holds for the person contemplating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Return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5" action="ppaction://hlinksldjump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Maslow’s Need Hierarchy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1" action="ppaction://hlinksldjump"/>
              </a:rPr>
              <a:t>Return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2590920" y="1752480"/>
            <a:ext cx="4284720" cy="38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Alderfer’s ERG Theory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e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aterial and physiological des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ness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relationships with other people and are satisfied through the process of mutually sharing thoughts and fee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e people to productively or creatively change themselves or thei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McClelland’s Need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ed by a strong orientation toward accomplishment and an obsession with success and goal attai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s a strong desire to be liked by other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sire to influence or control other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negative force--personalized power--if expressed through manipulation and explo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positive motive--socialized power--if channeled toward constructive improvement of organizations or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Hackman and Oldham Model of Job Design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3546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QWL Program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and fair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afe and healthy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 that develop human capa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nce for personal growth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cial environment that fosters personal identity, freedom from prejudice, a sense of community, and upward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tutionalism, or the rights of personal privacy, dissent, and du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ork role that minimized infringement on personal leisure and famil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ly responsible organizationa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Learning Objective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ways in which people’s individual needs affect thei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ways to create jobs that mot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how people assess fairness and how to achiev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causes and consequences of a satisfied work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93347"/>
                </a:solidFill>
                <a:latin typeface="Trebuchet MS"/>
              </a:rPr>
              <a:t>The worst mistake a boss can make is not to say well done.</a:t>
            </a:r>
            <a:endParaRPr b="1" i="1" lang="en-US" sz="40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419360" y="3657600"/>
            <a:ext cx="3809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3347"/>
                </a:solidFill>
                <a:latin typeface="Arial"/>
              </a:rPr>
              <a:t>John Ashcroft, Business Executive</a:t>
            </a:r>
            <a:endParaRPr b="0" i="1" lang="en-US" sz="2800" spc="-1" strike="noStrike">
              <a:solidFill>
                <a:srgbClr val="59334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29600" y="6507000"/>
            <a:ext cx="80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3347"/>
                </a:solidFill>
                <a:latin typeface="Arial"/>
              </a:rPr>
              <a:t>13-</a:t>
            </a:r>
            <a:fld id="{6EBE58BE-AF1A-4076-8042-8ACD090DB45D}" type="slidenum">
              <a:rPr b="0" lang="en-US" sz="1000" spc="-1" strike="noStrike">
                <a:solidFill>
                  <a:srgbClr val="59334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Motivating for Performance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s that energize, direct, and sustain a person’s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rs must motivate people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 in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to work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including high output and high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ibit good citizens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Setting Goal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-setting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tivation theory stating that people have conscious goals that energize them and direct their thoughts and behaviors toward a particular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setting works for any job in which people have control over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Setting Goal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that motivate have certain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able to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ing but attai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Setting Goal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tch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s that are particularly demanding, sometimes even thought to be im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stretch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 goals aligned with current activity including productivity and financi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stretch goals involving people’s 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12:28:32Z</dcterms:created>
  <dc:creator>WKU USER</dc:creator>
  <dc:description/>
  <dc:language>en-US</dc:language>
  <cp:lastModifiedBy>mageshkumar.s</cp:lastModifiedBy>
  <dcterms:modified xsi:type="dcterms:W3CDTF">2007-12-14T07:20:47Z</dcterms:modified>
  <cp:revision>50</cp:revision>
  <dc:subject/>
  <dc:title>Slide 1</dc:title>
</cp:coreProperties>
</file>