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1.jpeg" ContentType="image/jpeg"/>
  <Override PartName="/ppt/media/image9.jpeg" ContentType="image/jpeg"/>
  <Override PartName="/ppt/media/image16.gif" ContentType="image/gif"/>
  <Override PartName="/ppt/media/image15.jpeg" ContentType="image/jpeg"/>
  <Override PartName="/ppt/media/image14.gif" ContentType="image/gif"/>
  <Override PartName="/ppt/media/image13.gif" ContentType="image/gif"/>
  <Override PartName="/ppt/media/image4.jpeg" ContentType="image/jpeg"/>
  <Override PartName="/ppt/media/image1.jpeg" ContentType="image/jpeg"/>
  <Override PartName="/ppt/media/Instrumental%20-%20Traumerei1.wav" ContentType="audio/x-wav"/>
  <Override PartName="/ppt/media/image6.png" ContentType="image/png"/>
  <Override PartName="/ppt/media/image7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9D6-5932-4980-A543-CFB2FAAF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C15C-7CD0-4A7B-AEC3-C2391D31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E5F-566A-4160-8CD5-64C7C3DF3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B87-E551-4931-959F-9C0272BC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4E42-F85D-4F2C-989C-C712A4BE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A10-F13A-4275-AA89-98EDD3E1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26CE-710A-4661-8EED-B9295ED2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573-A8C0-4BD5-8D16-5FF3B319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653-B910-47B6-8A71-6DE5F158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105-2D51-431F-8F59-57481330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6843-6CB0-4941-B11B-6E9C6526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269-2B5B-44BD-8DEC-3E0E2AB2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D7E5-1615-48AC-9D30-87E4C28F8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strumental%20-%20Traumerei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484360" y="404640"/>
            <a:ext cx="357192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Doorgeeflichtje"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11000">
    <p:diamond/>
    <p:sndAc>
      <p:stSnd>
        <p:snd r:embed="rId2" name="Instrumental%20-%20Traumerei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4319640" cy="4041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27640" y="4508640"/>
            <a:ext cx="2216160" cy="1919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71640" y="549360"/>
            <a:ext cx="2609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het har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76360" y="5589720"/>
            <a:ext cx="42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an ieder mens 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552680" cy="1388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1552680" cy="1388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516720" y="4292640"/>
            <a:ext cx="1552680" cy="1388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6012000" y="981000"/>
            <a:ext cx="1552320" cy="1389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3933720"/>
            <a:ext cx="1552680" cy="1389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124000" y="5661000"/>
            <a:ext cx="4438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eef je het door 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48360" cy="5091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640" y="907920"/>
            <a:ext cx="7993080" cy="5257800"/>
          </a:xfrm>
          <a:prstGeom prst="rect">
            <a:avLst/>
          </a:prstGeom>
          <a:noFill/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58920" y="4869000"/>
            <a:ext cx="3981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g een fijne d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 advTm="13000">
    <p:diamond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2637000"/>
            <a:ext cx="2381400" cy="314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19160" y="476280"/>
            <a:ext cx="562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ffff66"/>
                </a:solidFill>
                <a:latin typeface="Arial"/>
              </a:rPr>
              <a:t>Ik heb een wens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82880" y="2247840"/>
            <a:ext cx="337824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16360" y="2271600"/>
            <a:ext cx="3311280" cy="231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16360" y="2276640"/>
            <a:ext cx="3240000" cy="2304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55640" y="549360"/>
            <a:ext cx="364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 ene lichtj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7280" y="5300640"/>
            <a:ext cx="7096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 aanwezig is in mijn hart,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12000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692280"/>
            <a:ext cx="3571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t lichtje va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43280" y="5589720"/>
            <a:ext cx="532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op en vriendschap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16224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162240" cy="32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981760" y="3571920"/>
            <a:ext cx="3162240" cy="3286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403280" y="3284640"/>
            <a:ext cx="3162240" cy="3286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476280"/>
            <a:ext cx="6724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t geef ik nu door aan j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 rot="449400">
            <a:off x="1187280" y="2708280"/>
            <a:ext cx="6315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pdat je het zou bewa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700360" y="5013360"/>
            <a:ext cx="3647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ar in je har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800280"/>
            <a:ext cx="7561440" cy="527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 rot="203400">
            <a:off x="1295280" y="1142640"/>
            <a:ext cx="482940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n warmte moet het je geven,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09680" y="3124080"/>
            <a:ext cx="335304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pdat je het nimmer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24280" y="5105520"/>
            <a:ext cx="2905200" cy="74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oud zou hebben.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diamond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7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042920" y="549360"/>
            <a:ext cx="51246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 licht, ja veel lich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0120" y="3110040"/>
            <a:ext cx="79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dat je nooit bang hoeft te zij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56000" y="5013360"/>
            <a:ext cx="3600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 het donker 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0" y="1724040"/>
            <a:ext cx="3333600" cy="340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16360" y="1700280"/>
            <a:ext cx="3311280" cy="34574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26920" y="476280"/>
            <a:ext cx="655344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aar vooral veel liefde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5334120"/>
            <a:ext cx="820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zodat je het kunt doorgeven aan diege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95280" y="621036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e zo dierbaar voor je is 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95360" y="333360"/>
            <a:ext cx="8648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dat die het oo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eer doorgeeft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81080" y="4267080"/>
            <a:ext cx="5429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odat het kan groe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819520" y="5257800"/>
            <a:ext cx="377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 schittere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 advTm="11000">
    <p:diamond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7:51:59Z</dcterms:created>
  <dc:creator>Micheline</dc:creator>
  <dc:description>december 2005</dc:description>
  <dc:language>en-US</dc:language>
  <cp:lastModifiedBy>Smets</cp:lastModifiedBy>
  <dcterms:modified xsi:type="dcterms:W3CDTF">2008-09-18T19:27:02Z</dcterms:modified>
  <cp:revision>23</cp:revision>
  <dc:subject>Vriendschap</dc:subject>
  <dc:title>Doorgeeflichtje</dc:title>
</cp:coreProperties>
</file>