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1.jpeg" ContentType="image/jpeg"/>
  <Override PartName="/ppt/media/image9.jpeg" ContentType="image/jpeg"/>
  <Override PartName="/ppt/media/image16.gif" ContentType="image/gif"/>
  <Override PartName="/ppt/media/image15.jpeg" ContentType="image/jpeg"/>
  <Override PartName="/ppt/media/image14.gif" ContentType="image/gif"/>
  <Override PartName="/ppt/media/image13.gif" ContentType="image/gif"/>
  <Override PartName="/ppt/media/image4.jpeg" ContentType="image/jpeg"/>
  <Override PartName="/ppt/media/image1.jpeg" ContentType="image/jpeg"/>
  <Override PartName="/ppt/media/Instrumental%20-%20Traumerei1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276-DEA0-487C-BB09-F4A74327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1DA-9599-4F83-9A46-50511B2D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5A5-FC9B-4C9A-80D3-6C36BFA1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B2A-DEAD-4BC4-A435-5CDBBF00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ED0-9483-4EDB-AD2E-BB23698B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B41-1FB0-48C8-BEA3-11308861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7ED6-8644-4C1E-B92F-B8F1A5EF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461-8589-4BDB-9EC5-CFDF81B0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94D1-F323-4949-9F91-FFDE2564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B1C-F413-485B-9EA6-7ECA4B35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F6A-6A09-4A77-A531-C76DE7E0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0AA-5E7E-41EA-89A8-F4204E37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651D-C2F8-4003-B96C-2647DCADF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nstrumental%20-%20Traumerei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84360" y="404640"/>
            <a:ext cx="357192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Doorgeeflichtje"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11000">
    <p:diamond/>
    <p:sndAc>
      <p:stSnd>
        <p:snd r:embed="rId2" name="Instrumental%20-%20Traumerei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4319640" cy="4041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227640" y="4508640"/>
            <a:ext cx="2216160" cy="1919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971640" y="549360"/>
            <a:ext cx="2609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 het har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76360" y="5589720"/>
            <a:ext cx="425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an ieder mens 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11000">
    <p:diamond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1552680" cy="1388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1552680" cy="1388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516720" y="4292640"/>
            <a:ext cx="1552680" cy="1388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012000" y="981000"/>
            <a:ext cx="1552320" cy="1389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87280" y="3933720"/>
            <a:ext cx="1552680" cy="1389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124000" y="5661000"/>
            <a:ext cx="4438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ef je het door 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1000">
    <p:diamond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848360" cy="5091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9640" y="907920"/>
            <a:ext cx="7993080" cy="5257800"/>
          </a:xfrm>
          <a:prstGeom prst="rect">
            <a:avLst/>
          </a:prstGeom>
          <a:noFill/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58920" y="4869000"/>
            <a:ext cx="3981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g een fijne d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5092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 advTm="13000">
    <p:diamond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48000" y="2637000"/>
            <a:ext cx="2381400" cy="3143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19160" y="476280"/>
            <a:ext cx="562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ffff66"/>
                </a:solidFill>
                <a:latin typeface="Arial"/>
              </a:rPr>
              <a:t>Ik heb een wens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diamond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82880" y="2247840"/>
            <a:ext cx="337824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16360" y="2271600"/>
            <a:ext cx="3311280" cy="2314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16360" y="2276640"/>
            <a:ext cx="3240000" cy="2304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55640" y="549360"/>
            <a:ext cx="364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t ene lichtj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87280" y="5300640"/>
            <a:ext cx="709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t aanwezig is in mijn hart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1000"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6120000" cy="459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900000" y="692280"/>
            <a:ext cx="3571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t lichtje va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43280" y="5589720"/>
            <a:ext cx="532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oop en vriendschap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1000">
    <p:diamond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32360" y="476280"/>
            <a:ext cx="3162240" cy="3286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162240" cy="3286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981760" y="3571920"/>
            <a:ext cx="3162240" cy="3286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403280" y="3284640"/>
            <a:ext cx="3162240" cy="3286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00000" y="476280"/>
            <a:ext cx="67248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at geef ik nu door aan j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 rot="449400">
            <a:off x="1187280" y="2708280"/>
            <a:ext cx="63151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6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pdat je het zou bewar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700360" y="5013360"/>
            <a:ext cx="36478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aar in je har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 advTm="11000">
    <p:diamond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800280"/>
            <a:ext cx="7561440" cy="5273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 rot="203400">
            <a:off x="1295280" y="1142640"/>
            <a:ext cx="48294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n warmte moet het je geven,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09680" y="3124080"/>
            <a:ext cx="335304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pdat je het nimmer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24280" y="5105520"/>
            <a:ext cx="290520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4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koud zou hebben.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1000">
    <p:diamond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75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042920" y="549360"/>
            <a:ext cx="51246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 licht, ja veel lich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0120" y="3110040"/>
            <a:ext cx="794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pdat je nooit bang hoeft te zij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56000" y="5013360"/>
            <a:ext cx="3600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 het donker 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1000">
    <p:diamond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0" y="1724040"/>
            <a:ext cx="3333600" cy="3409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16360" y="1700280"/>
            <a:ext cx="3311280" cy="34574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26920" y="476280"/>
            <a:ext cx="655344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aar vooral veel liefde,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5334120"/>
            <a:ext cx="820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zodat je het kunt doorgeven aan diege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95280" y="6210360"/>
            <a:ext cx="643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e zo dierbaar voor je is 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1000">
    <p:diamond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95360" y="333360"/>
            <a:ext cx="8648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 dat die het ook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eer doorgeeft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81080" y="4267080"/>
            <a:ext cx="5429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zodat het kan groei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819520" y="5257800"/>
            <a:ext cx="3771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 schitteren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11000">
    <p:diamond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7:51:59Z</dcterms:created>
  <dc:creator>Micheline</dc:creator>
  <dc:description>december 2005</dc:description>
  <dc:language>en-US</dc:language>
  <cp:lastModifiedBy>Smets</cp:lastModifiedBy>
  <dcterms:modified xsi:type="dcterms:W3CDTF">2008-09-18T19:27:02Z</dcterms:modified>
  <cp:revision>23</cp:revision>
  <dc:subject>Vriendschap</dc:subject>
  <dc:title>Doorgeeflichtje</dc:title>
</cp:coreProperties>
</file>