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nn%20Christy%20-%20De%20Roo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BF3-24EE-4D32-9F8D-83D257ED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C09-E7EB-4966-A8DE-CEB0812D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933-400A-4A61-9452-62C2998D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BDF-4BC5-417E-BA0F-E73DA39C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9AB-D85C-4949-AD50-E910F527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D91-42C0-4070-8A22-46B29392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C13-88DA-45B9-AD3B-EDD1DA98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AA2-0D75-45AD-BCFF-2BD648F2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772-BF2A-41E0-AAAE-097C692C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E6B-1667-44B7-A08E-D555013B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6A9-8EF5-47C6-93F6-6C57207F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262-5EF8-40C6-A4FF-E61F2EC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414F-A0CB-4784-9710-2505BB94E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n%20Christy%20-%20De%20Roo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416720" cy="504036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900000" y="11592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0099"/>
                </a:solidFill>
                <a:latin typeface="Arial"/>
              </a:rPr>
              <a:t>DE   RO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630864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cc0099"/>
                </a:solidFill>
                <a:uFillTx/>
                <a:latin typeface="Arial"/>
              </a:rPr>
              <a:t>© Stefania Jarosze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blinds dir="vert"/>
    <p:sndAc>
      <p:stSnd>
        <p:snd r:embed="rId3" name="Ann%20Christy%20-%20De%20Ro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4525920" cy="51022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86" name=""/>
          <p:cNvSpPr/>
          <p:nvPr/>
        </p:nvSpPr>
        <p:spPr>
          <a:xfrm rot="19902000">
            <a:off x="611280" y="1341360"/>
            <a:ext cx="24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En is de nacht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Zo koud en eenzaam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uurt het wachten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eel te lan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018400">
            <a:off x="1128240" y="3151080"/>
            <a:ext cx="294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enk dan maar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at geluk alleen is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oor wie er hevig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5580000"/>
            <a:ext cx="23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Naar verlan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88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nk dan maar</a:t>
            </a: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t bittere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55640" y="3141360"/>
            <a:ext cx="3889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Nog nooit </a:t>
            </a:r>
            <a:br>
              <a:rPr sz="2000"/>
            </a:b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Hebben verhind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800"/>
            </a:br>
            <a:br>
              <a:rPr sz="18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916000" cy="223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56360" y="18900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50920" y="4437000"/>
            <a:ext cx="291312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2808360" cy="216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1700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n dikke </a:t>
            </a:r>
            <a:br>
              <a:rPr sz="28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agen snee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5229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Dat de roos </a:t>
            </a:r>
            <a:br>
              <a:rPr sz="2400"/>
            </a:b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Hen overleef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24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40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0"/>
                            </p:stCondLst>
                            <p:childTnLst>
                              <p:par>
                                <p:cTn id="34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629240" cy="4525920"/>
          </a:xfrm>
          <a:prstGeom prst="rect">
            <a:avLst/>
          </a:prstGeom>
          <a:ln w="76320">
            <a:solidFill>
              <a:srgbClr val="ff3399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364000" y="234936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Men zegt van liefde</a:t>
            </a:r>
            <a:br>
              <a:rPr sz="28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Dat ze zach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Als een lief</a:t>
            </a:r>
            <a:br>
              <a:rPr sz="28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En teder woor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3743280" cy="453708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3827520" cy="45370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995640" y="1916280"/>
            <a:ext cx="1008000" cy="4537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6922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En zo vaak</a:t>
            </a:r>
            <a:br>
              <a:rPr sz="2400"/>
            </a:b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Het geluk vermo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692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Men zegt van liefde</a:t>
            </a:r>
            <a:br>
              <a:rPr sz="2400"/>
            </a:b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Dat ze hard i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1640" y="33300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Men noemt haar</a:t>
            </a:r>
            <a:br>
              <a:rPr sz="3200"/>
            </a:b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Hunker en verlang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4248000" cy="3816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36496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7760" y="3119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852640"/>
            <a:ext cx="1944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Men noe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h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Redder in noo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80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146160"/>
            <a:ext cx="3538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20607000">
            <a:off x="755280" y="1125360"/>
            <a:ext cx="4964040" cy="441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8300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95560" y="140976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Ik zeg dat liefde</a:t>
            </a:r>
            <a:br>
              <a:rPr sz="1800"/>
            </a:b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ls een bloem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480" y="28335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321300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Waarop de zon</a:t>
            </a:r>
            <a:br>
              <a:rPr sz="1800"/>
            </a:b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Haar stralen stro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921440" cy="51850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042920" y="33336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e is het hart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o bang en breek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56000" y="549360"/>
            <a:ext cx="6033960" cy="560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8718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86360" y="6099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34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Z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wan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En z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br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70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3600360" cy="3816360"/>
          </a:xfrm>
          <a:prstGeom prst="rect">
            <a:avLst/>
          </a:prstGeom>
          <a:ln w="76320">
            <a:solidFill>
              <a:srgbClr val="449da4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175440" y="1197000"/>
            <a:ext cx="27892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9999"/>
                </a:solidFill>
                <a:uFillTx/>
                <a:latin typeface="Arial"/>
              </a:rPr>
              <a:t>Ze is de droom</a:t>
            </a:r>
            <a:br>
              <a:rPr sz="2400"/>
            </a:br>
            <a:r>
              <a:rPr b="1" lang="nl-NL" sz="2400" spc="-1" strike="noStrike" u="sng">
                <a:solidFill>
                  <a:srgbClr val="009999"/>
                </a:solidFill>
                <a:uFillTx/>
                <a:latin typeface="Arial"/>
              </a:rPr>
              <a:t>Bang voor 't ontw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nl-NL" sz="2400" spc="-1" strike="noStrike" u="sng">
                <a:solidFill>
                  <a:srgbClr val="009999"/>
                </a:solidFill>
                <a:uFillTx/>
                <a:latin typeface="Arial"/>
              </a:rPr>
              <a:t>Omdat ze dan</a:t>
            </a:r>
            <a:br>
              <a:rPr sz="2400"/>
            </a:br>
            <a:r>
              <a:rPr b="1" i="1" lang="nl-NL" sz="2400" spc="-1" strike="noStrike" u="sng">
                <a:solidFill>
                  <a:srgbClr val="009999"/>
                </a:solidFill>
                <a:uFillTx/>
                <a:latin typeface="Arial"/>
              </a:rPr>
              <a:t>De waarheid hoort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476280"/>
            <a:ext cx="475164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449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6093000"/>
            <a:ext cx="468000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449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76280"/>
            <a:ext cx="360360" cy="5977080"/>
          </a:xfrm>
          <a:prstGeom prst="rect">
            <a:avLst/>
          </a:prstGeom>
          <a:solidFill>
            <a:srgbClr val="009999"/>
          </a:solidFill>
          <a:ln w="9360">
            <a:solidFill>
              <a:srgbClr val="449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476280"/>
            <a:ext cx="358560" cy="5977080"/>
          </a:xfrm>
          <a:prstGeom prst="rect">
            <a:avLst/>
          </a:prstGeom>
          <a:solidFill>
            <a:srgbClr val="009999"/>
          </a:solidFill>
          <a:ln w="9360">
            <a:solidFill>
              <a:srgbClr val="449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800"/>
                            </p:stCondLst>
                            <p:childTnLst>
                              <p:par>
                                <p:cTn id="1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800"/>
                            </p:stCondLst>
                            <p:childTnLst>
                              <p:par>
                                <p:cTn id="1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8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800"/>
                            </p:stCondLst>
                            <p:childTnLst>
                              <p:par>
                                <p:cTn id="2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796000" y="1197000"/>
            <a:ext cx="2808360" cy="504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Ze wacht op wie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aar nu wil plukken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p wie 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aar tranen steel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Zo bang 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m vroeg te sterven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or ze werkelijk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eeft gelee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4752720" cy="54723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711440" y="2808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4500"/>
                            </p:stCondLst>
                            <p:childTnLst>
                              <p:par>
                                <p:cTn id="23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9:59:27Z</dcterms:created>
  <dc:creator>Steffie</dc:creator>
  <dc:description/>
  <dc:language>en-US</dc:language>
  <cp:lastModifiedBy>Smets</cp:lastModifiedBy>
  <dcterms:modified xsi:type="dcterms:W3CDTF">2008-09-03T19:59:07Z</dcterms:modified>
  <cp:revision>50</cp:revision>
  <dc:subject/>
  <dc:title>Dia 1</dc:title>
</cp:coreProperties>
</file>