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Ann%20Christy%20-%20De%20Roos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2C2-3DCC-4CC3-A245-7C576B1E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EAC7-DEB2-490C-AB32-453513D5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C09D-63C9-4C61-9346-6147ABD0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D7F-3D77-4044-B144-03470B73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9B8-54B5-42D2-8F16-6ABCB60F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335-A669-478D-B86D-3AC96F71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A7AF-9136-4446-BAF5-E757EFE1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9345-8104-4596-ABA8-2D0B408F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377E-BFE2-4F13-8C58-811493C6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0C6-B204-4E64-9EFA-DB9E4A22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6D5-DF28-41B8-B54A-9FC44AEC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889-9CE7-4FCC-87E7-5618854F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9B47-B194-419D-B1D8-90E8B709A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Ann%20Christy%20-%20De%20Roo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7416720" cy="5040360"/>
          </a:xfrm>
          <a:prstGeom prst="rect">
            <a:avLst/>
          </a:prstGeom>
          <a:ln w="76320">
            <a:solidFill>
              <a:srgbClr val="cc0099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900000" y="11592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cc0099"/>
                </a:solidFill>
                <a:latin typeface="Arial"/>
              </a:rPr>
              <a:t>DE   RO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630864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u="sng">
                <a:solidFill>
                  <a:srgbClr val="cc0099"/>
                </a:solidFill>
                <a:uFillTx/>
                <a:latin typeface="Arial"/>
              </a:rPr>
              <a:t>© Stefania Jarosze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4000">
    <p:blinds dir="vert"/>
    <p:sndAc>
      <p:stSnd>
        <p:snd r:embed="rId3" name="Ann%20Christy%20-%20De%20Roo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7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4525920" cy="510228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sp>
        <p:nvSpPr>
          <p:cNvPr id="86" name=""/>
          <p:cNvSpPr/>
          <p:nvPr/>
        </p:nvSpPr>
        <p:spPr>
          <a:xfrm rot="19902000">
            <a:off x="611280" y="1341360"/>
            <a:ext cx="244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En is de nacht</a:t>
            </a:r>
            <a:br>
              <a:rPr sz="18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Zo koud en eenzaam</a:t>
            </a:r>
            <a:br>
              <a:rPr sz="18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uurt het wachten</a:t>
            </a:r>
            <a:br>
              <a:rPr sz="18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Veel te lang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0018400">
            <a:off x="1128240" y="3151080"/>
            <a:ext cx="294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enk dan maar</a:t>
            </a:r>
            <a:br>
              <a:rPr sz="18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at geluk alleen is</a:t>
            </a:r>
            <a:br>
              <a:rPr sz="18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Voor wie er hevig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5580000"/>
            <a:ext cx="23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Naar verlan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78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88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30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nk dan maar</a:t>
            </a:r>
            <a:br>
              <a:rPr sz="24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at bittere w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55640" y="3141360"/>
            <a:ext cx="38890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Nog nooit </a:t>
            </a:r>
            <a:br>
              <a:rPr sz="2000"/>
            </a:b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Hebben verhinde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800"/>
            </a:br>
            <a:br>
              <a:rPr sz="18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12000" y="4437000"/>
            <a:ext cx="2916000" cy="2232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156360" y="189000"/>
            <a:ext cx="2736720" cy="2232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50920" y="4437000"/>
            <a:ext cx="2913120" cy="223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2808360" cy="2162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348000" y="170028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n dikke </a:t>
            </a:r>
            <a:br>
              <a:rPr sz="2800"/>
            </a:b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Lagen snee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19640" y="522936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Dat de roos </a:t>
            </a:r>
            <a:br>
              <a:rPr sz="2400"/>
            </a:b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Hen overleef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2400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6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400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5000"/>
                            </p:stCondLst>
                            <p:childTnLst>
                              <p:par>
                                <p:cTn id="346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500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4629240" cy="4525920"/>
          </a:xfrm>
          <a:prstGeom prst="rect">
            <a:avLst/>
          </a:prstGeom>
          <a:ln w="76320">
            <a:solidFill>
              <a:srgbClr val="ff3399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364000" y="2349360"/>
            <a:ext cx="338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Men zegt van liefde</a:t>
            </a:r>
            <a:br>
              <a:rPr sz="28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Dat ze zach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Als een lief</a:t>
            </a:r>
            <a:br>
              <a:rPr sz="28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En teder woor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3743280" cy="453708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003640" y="1916280"/>
            <a:ext cx="3827520" cy="453708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3995640" y="1916280"/>
            <a:ext cx="1008000" cy="4537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69228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</a:rPr>
              <a:t>En zo vaak</a:t>
            </a:r>
            <a:br>
              <a:rPr sz="2400"/>
            </a:b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</a:rPr>
              <a:t>Het geluk vermoor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69228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</a:rPr>
              <a:t>Men zegt van liefde</a:t>
            </a:r>
            <a:br>
              <a:rPr sz="2400"/>
            </a:b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</a:rPr>
              <a:t>Dat ze hard i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31640" y="333000"/>
            <a:ext cx="53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Men noemt haar</a:t>
            </a:r>
            <a:br>
              <a:rPr sz="3200"/>
            </a:b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Hunker en verlang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564000" y="2060640"/>
            <a:ext cx="4248000" cy="381636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364968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17760" y="3119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852640"/>
            <a:ext cx="1944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Men noe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h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Redder in noo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980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800"/>
                            </p:stCondLst>
                            <p:childTnLst>
                              <p:par>
                                <p:cTn id="10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146160"/>
            <a:ext cx="3538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 rot="20607000">
            <a:off x="755280" y="1125360"/>
            <a:ext cx="4964040" cy="4411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483000" y="324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95560" y="140976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Ik zeg dat liefde</a:t>
            </a:r>
            <a:br>
              <a:rPr sz="1800"/>
            </a:b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Als een bloem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6480" y="28335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59640" y="321300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Waarop de zon</a:t>
            </a:r>
            <a:br>
              <a:rPr sz="1800"/>
            </a:b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Haar stralen stroo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7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7921440" cy="518508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1042920" y="33336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Ze is het hart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Zo bang en breek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56000" y="549360"/>
            <a:ext cx="6033960" cy="5605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387180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86360" y="6099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349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Zo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wan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4149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En zo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bro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700"/>
                            </p:stCondLst>
                            <p:childTnLst>
                              <p:par>
                                <p:cTn id="1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3600360" cy="3816360"/>
          </a:xfrm>
          <a:prstGeom prst="rect">
            <a:avLst/>
          </a:prstGeom>
          <a:ln w="76320">
            <a:solidFill>
              <a:srgbClr val="449da4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6175440" y="1197000"/>
            <a:ext cx="27892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9999"/>
                </a:solidFill>
                <a:uFillTx/>
                <a:latin typeface="Arial"/>
              </a:rPr>
              <a:t>Ze is de droom</a:t>
            </a:r>
            <a:br>
              <a:rPr sz="2400"/>
            </a:br>
            <a:r>
              <a:rPr b="1" lang="nl-NL" sz="2400" spc="-1" strike="noStrike" u="sng">
                <a:solidFill>
                  <a:srgbClr val="009999"/>
                </a:solidFill>
                <a:uFillTx/>
                <a:latin typeface="Arial"/>
              </a:rPr>
              <a:t>Bang voor 't ontw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nl-NL" sz="2400" spc="-1" strike="noStrike" u="sng">
                <a:solidFill>
                  <a:srgbClr val="009999"/>
                </a:solidFill>
                <a:uFillTx/>
                <a:latin typeface="Arial"/>
              </a:rPr>
              <a:t>Omdat ze dan</a:t>
            </a:r>
            <a:br>
              <a:rPr sz="2400"/>
            </a:br>
            <a:r>
              <a:rPr b="1" i="1" lang="nl-NL" sz="2400" spc="-1" strike="noStrike" u="sng">
                <a:solidFill>
                  <a:srgbClr val="009999"/>
                </a:solidFill>
                <a:uFillTx/>
                <a:latin typeface="Arial"/>
              </a:rPr>
              <a:t>De waarheid hoort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476280"/>
            <a:ext cx="475164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449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6093000"/>
            <a:ext cx="4680000" cy="360360"/>
          </a:xfrm>
          <a:prstGeom prst="rect">
            <a:avLst/>
          </a:prstGeom>
          <a:solidFill>
            <a:srgbClr val="009999"/>
          </a:solidFill>
          <a:ln w="9360">
            <a:solidFill>
              <a:srgbClr val="449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476280"/>
            <a:ext cx="360360" cy="5977080"/>
          </a:xfrm>
          <a:prstGeom prst="rect">
            <a:avLst/>
          </a:prstGeom>
          <a:solidFill>
            <a:srgbClr val="009999"/>
          </a:solidFill>
          <a:ln w="9360">
            <a:solidFill>
              <a:srgbClr val="449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08720" y="476280"/>
            <a:ext cx="358560" cy="5977080"/>
          </a:xfrm>
          <a:prstGeom prst="rect">
            <a:avLst/>
          </a:prstGeom>
          <a:solidFill>
            <a:srgbClr val="009999"/>
          </a:solidFill>
          <a:ln w="9360">
            <a:solidFill>
              <a:srgbClr val="449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800"/>
                            </p:stCondLst>
                            <p:childTnLst>
                              <p:par>
                                <p:cTn id="18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800"/>
                            </p:stCondLst>
                            <p:childTnLst>
                              <p:par>
                                <p:cTn id="1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980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800"/>
                            </p:stCondLst>
                            <p:childTnLst>
                              <p:par>
                                <p:cTn id="20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796000" y="1197000"/>
            <a:ext cx="2808360" cy="504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Ze wacht op wie</a:t>
            </a: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Haar nu wil plukken</a:t>
            </a: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Op wie </a:t>
            </a: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Haar tranen steel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Zo bang </a:t>
            </a: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Om vroeg te sterven</a:t>
            </a: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oor ze werkelijk</a:t>
            </a: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Heeft gelee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4752720" cy="547236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1711440" y="2808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4500"/>
                            </p:stCondLst>
                            <p:childTnLst>
                              <p:par>
                                <p:cTn id="232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9:59:27Z</dcterms:created>
  <dc:creator>Steffie</dc:creator>
  <dc:description/>
  <dc:language>en-US</dc:language>
  <cp:lastModifiedBy>Smets</cp:lastModifiedBy>
  <dcterms:modified xsi:type="dcterms:W3CDTF">2008-09-03T19:59:07Z</dcterms:modified>
  <cp:revision>50</cp:revision>
  <dc:subject/>
  <dc:title>Dia 1</dc:title>
</cp:coreProperties>
</file>