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REM%20-%20Everybody%20Hurts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56CE-0B4E-4885-8A1A-8E38A8C0E2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01D-1C5B-46F3-A1B6-1FE839B3FC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En de meest gewaardeerde vrouw op het wer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kan misschien geen kinderen krij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5B57-41D4-4252-B2EA-8CCD07833E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 rijkste vrouw die je kent – ze heeft een auto, een huis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is misschien vreselijk eenza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FE3-446B-46C8-ABC5-C7754F840C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us , hou van jez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CC01-6C01-4D27-B2A8-59749574CC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6D6-0A74-4E79-A80B-DC383C3098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04D0-5D13-4019-8FC7-F22E6A668F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F5C8-B946-4989-897C-B3B01E2FAF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0169-1245-46AB-9099-0D458CE9FC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maar voor één perso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05DD-EF5E-405F-9A4A-6FFFCA3752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4B4-18CE-4FA4-843B-D411D51B84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2517-5222-4F19-B08B-02A27C2D9B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Er zal altijd iemand slimmer zij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645-AB06-4354-8481-7483713115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7677-2D8B-468F-A969-156D60D583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Hun huis zal groter zij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B5C3-DF62-42B3-8045-500CA40398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Ze zullen een grotere auto rij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CA7-71A9-45F9-AA8F-E5138F81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530-55AE-4670-BD4B-3D6735EE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A4B-C983-4337-85C8-09757830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FB5-5DEF-48A9-A73E-AD07F6FD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EBE-87B9-4406-9BAC-1C63387E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031-4A67-4642-AD67-A213A7F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1D0-9C1C-4BEF-9678-AB816BD1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EDF-D7A3-450B-9C67-E1BFACC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A32-3A91-4295-AD9D-D8D57A9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CFC-8B59-466F-BD65-BAAD901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2ED-73E2-4D93-921D-D03E2BD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CA2-500E-481B-BB39-EC89243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72F-A2B4-4BF2-9406-13D3934F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audio" Target="../media/REM%20-%20Everybody%20Hurt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d"/>
          <p:cNvPicPr/>
          <p:nvPr/>
        </p:nvPicPr>
        <p:blipFill>
          <a:blip r:embed="rId2"/>
          <a:stretch/>
        </p:blipFill>
        <p:spPr>
          <a:xfrm>
            <a:off x="2556000" y="63104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987640" y="6308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REM:  Everybody Hu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836640"/>
            <a:ext cx="56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r zal altijd iemand...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6000">
    <p:blinds dir="horz"/>
    <p:sndAc>
      <p:stSnd>
        <p:snd r:embed="rId5" name="REM%20-%20Everybody%20Hurt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74160" y="5084280"/>
            <a:ext cx="70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Arial"/>
              </a:rPr>
              <a:t>Het meest ideale paar dat je k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Arial"/>
              </a:rPr>
              <a:t>kan misschien geen kinderen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2000" y="1195200"/>
            <a:ext cx="84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De rijkste persoon die je kent – heeft een auto, een huis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maar is misschien vreselijk eenza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44840" y="2712240"/>
            <a:ext cx="408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Hou van je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761840" y="3174120"/>
            <a:ext cx="5463000" cy="17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Hou van je gezin, je fami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en gun iedereen gel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0280" y="2651760"/>
            <a:ext cx="8806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Zeg tegen jez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 “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Ik ben te gezegend om gestresst te zij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5280" y="2917440"/>
            <a:ext cx="8424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Arial"/>
              </a:rPr>
              <a:t>Take life the way it comes ;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5120" y="4718520"/>
            <a:ext cx="83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“ </a:t>
            </a: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Voor de wereld ben je misschien slechts één persoon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897120" y="2316960"/>
            <a:ext cx="7425720" cy="17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maar voor één per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ben je misschien juist de hele wer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76480" y="2653200"/>
            <a:ext cx="86007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Stuur dit door aan alle fantastische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die je k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26680" y="2896200"/>
            <a:ext cx="4853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Ik heb het net gedaa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900000" y="774360"/>
            <a:ext cx="73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d9"/>
                </a:solidFill>
                <a:latin typeface="Arial"/>
              </a:rPr>
              <a:t>slimmer zijn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d9"/>
                </a:solidFill>
                <a:latin typeface="Arial"/>
              </a:rPr>
              <a:t>Je zult zien hoeveel mensen fantastisch zij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8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jij bent er zeker één van 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et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artje hugs1"/>
          <p:cNvPicPr/>
          <p:nvPr/>
        </p:nvPicPr>
        <p:blipFill>
          <a:blip r:embed="rId2"/>
          <a:stretch/>
        </p:blipFill>
        <p:spPr>
          <a:xfrm>
            <a:off x="3132000" y="3213000"/>
            <a:ext cx="1511280" cy="106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artje hugs1"/>
          <p:cNvPicPr/>
          <p:nvPr/>
        </p:nvPicPr>
        <p:blipFill>
          <a:blip r:embed="rId3"/>
          <a:stretch/>
        </p:blipFill>
        <p:spPr>
          <a:xfrm>
            <a:off x="1116000" y="3933720"/>
            <a:ext cx="151128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loem5"/>
          <p:cNvPicPr/>
          <p:nvPr/>
        </p:nvPicPr>
        <p:blipFill>
          <a:blip r:embed="rId4"/>
          <a:stretch/>
        </p:blipFill>
        <p:spPr>
          <a:xfrm>
            <a:off x="7524720" y="4292640"/>
            <a:ext cx="1047960" cy="10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bloem5"/>
          <p:cNvPicPr/>
          <p:nvPr/>
        </p:nvPicPr>
        <p:blipFill>
          <a:blip r:embed="rId5"/>
          <a:stretch/>
        </p:blipFill>
        <p:spPr>
          <a:xfrm>
            <a:off x="6877080" y="465300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bloem5"/>
          <p:cNvPicPr/>
          <p:nvPr/>
        </p:nvPicPr>
        <p:blipFill>
          <a:blip r:embed="rId6"/>
          <a:stretch/>
        </p:blipFill>
        <p:spPr>
          <a:xfrm>
            <a:off x="8096400" y="4005360"/>
            <a:ext cx="1047600" cy="108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75600" y="1915920"/>
            <a:ext cx="533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d9"/>
                </a:solidFill>
                <a:latin typeface="Arial"/>
              </a:rPr>
              <a:t>Hun huis zal groter zij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26920" y="1638000"/>
            <a:ext cx="654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d9"/>
                </a:solidFill>
                <a:latin typeface="Arial"/>
              </a:rPr>
              <a:t>Ze zullen een grotere auto rij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77000" y="2420640"/>
            <a:ext cx="7979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Hun kinderen zullen het beter doen op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760320" y="1839600"/>
            <a:ext cx="691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Hun man zal meer klusjes in huis do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87280" y="11966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Kijk daarom niet naar anderen maar      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naar je eigen gel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919960" y="2704680"/>
            <a:ext cx="38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Denk er eens over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197360" y="2744640"/>
            <a:ext cx="67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De mooiste persoon van de wereld 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de hel in zijn hart heb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7:35:17Z</dcterms:created>
  <dc:creator>Geboes Suzy</dc:creator>
  <dc:description/>
  <dc:language>en-US</dc:language>
  <cp:lastModifiedBy>Smets</cp:lastModifiedBy>
  <dcterms:modified xsi:type="dcterms:W3CDTF">2008-09-06T07:03:14Z</dcterms:modified>
  <cp:revision>1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