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REM%20-%20Everybody%20Hurts.wav" ContentType="audio/x-wav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97D3-352B-4A59-B2F5-CA6D2F2208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4973-169D-47F5-A345-328C17B108D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En de meest gewaardeerde vrouw op het wer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kan misschien geen kinderen krij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849D-BA26-4DE5-9A98-86E22496EC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 rijkste vrouw die je kent – ze heeft een auto, een huis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is misschien vreselijk eenza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D28D-79D7-48DE-A117-06061A8A1F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us , hou van jez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977C-8EF5-4A5D-A23E-29F64CAC51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841C-4439-4EB2-9A87-50AC623101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0DA2-BEB4-416D-98EF-07F6BBEBC4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6473-F0B1-4799-BD73-75C173BE6A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6833-4791-4014-8A48-D71C8066EB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maar voor één perso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8655-7002-44EB-89E7-0CE85B79461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A6BD-E1B1-4B9B-AA31-E52AF2E63C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B281-E6F1-4385-88F1-A2DDF45AA8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Er zal altijd iemand slimmer zij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AF33-0380-4151-8456-51C3625240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042C-4EB6-4056-A1A3-B551C0B3FE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Hun huis zal groter zij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90E1-4ABB-4C58-955D-7172186461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Ze zullen een grotere auto rij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E12-BD6D-41B5-81E8-DC7559C2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8C1-9A7E-4CD5-8236-852E4773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9E5-0FA7-465F-9B82-FACA2BBE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44E-C0D3-4141-B3E8-13E42C43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D29-CFFA-4061-9E2B-6B1F5F0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2D2-40BA-462C-AC49-64F17596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74E-7421-4C38-A389-E09E21FD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267-230D-4826-8167-9F335040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536-0A10-4B5F-80E4-96C48F2A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B4F-1163-4A6E-8CA0-4CBD55D0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8E1-80B0-43CB-AA6C-63B4F97D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295-E00D-4138-BC53-1EBCF04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02D2-2CB2-41FD-9F19-2D6ACB39D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audio" Target="../media/REM%20-%20Everybody%20Hurt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d"/>
          <p:cNvPicPr/>
          <p:nvPr/>
        </p:nvPicPr>
        <p:blipFill>
          <a:blip r:embed="rId2"/>
          <a:stretch/>
        </p:blipFill>
        <p:spPr>
          <a:xfrm>
            <a:off x="2556000" y="63104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2987640" y="6308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Tahoma"/>
              </a:rPr>
              <a:t>REM:  Everybody Hu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836640"/>
            <a:ext cx="565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r zal altijd iemand...</a:t>
            </a:r>
            <a:endParaRPr b="0" lang="en-US" sz="1800" spc="1" strike="noStrike">
              <a:ln w="3816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6000">
    <p:blinds dir="horz"/>
    <p:sndAc>
      <p:stSnd>
        <p:snd r:embed="rId5" name="REM%20-%20Everybody%20Hurt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74160" y="5084280"/>
            <a:ext cx="70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Arial"/>
              </a:rPr>
              <a:t>Het meest ideale paar dat je k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Arial"/>
              </a:rPr>
              <a:t>kan misschien geen kinderen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12000" y="1195200"/>
            <a:ext cx="84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cc"/>
                </a:solidFill>
                <a:latin typeface="Arial"/>
              </a:rPr>
              <a:t>De rijkste persoon die je kent – heeft een auto, een huis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cc"/>
                </a:solidFill>
                <a:latin typeface="Arial"/>
              </a:rPr>
              <a:t>maar is misschien vreselijk eenza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44840" y="2712240"/>
            <a:ext cx="4083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Hou van je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761840" y="3174120"/>
            <a:ext cx="5463000" cy="170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Hou van je gezin, je famil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en gun iedereen gel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0280" y="2651760"/>
            <a:ext cx="88066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Zeg tegen jez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     “</a:t>
            </a: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Ik ben te gezegend om gestresst te zij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95280" y="2917440"/>
            <a:ext cx="8424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Arial"/>
              </a:rPr>
              <a:t>Take life the way it comes ;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65120" y="4718520"/>
            <a:ext cx="83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cc"/>
                </a:solidFill>
                <a:latin typeface="Arial"/>
              </a:rPr>
              <a:t>“ </a:t>
            </a:r>
            <a:r>
              <a:rPr b="1" lang="nl-BE" sz="2400" spc="-1" strike="noStrike">
                <a:solidFill>
                  <a:srgbClr val="ffffcc"/>
                </a:solidFill>
                <a:latin typeface="Arial"/>
              </a:rPr>
              <a:t>Voor de wereld ben je misschien slechts één persoon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897120" y="2316960"/>
            <a:ext cx="7425720" cy="170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maar voor één pers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ben je misschien juist de hele wer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76480" y="2653200"/>
            <a:ext cx="86007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Stuur dit door aan alle fantastische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die je k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226680" y="2896200"/>
            <a:ext cx="4853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cc"/>
                </a:solidFill>
                <a:latin typeface="Arial"/>
              </a:rPr>
              <a:t>Ik heb het net gedaan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900000" y="774360"/>
            <a:ext cx="73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d9"/>
                </a:solidFill>
                <a:latin typeface="Arial"/>
              </a:rPr>
              <a:t>slimmer zijn…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d9"/>
                </a:solidFill>
                <a:latin typeface="Arial"/>
              </a:rPr>
              <a:t>Je zult zien hoeveel mensen fantastisch zij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2781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jij bent er zeker één van 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et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artje hugs1"/>
          <p:cNvPicPr/>
          <p:nvPr/>
        </p:nvPicPr>
        <p:blipFill>
          <a:blip r:embed="rId2"/>
          <a:stretch/>
        </p:blipFill>
        <p:spPr>
          <a:xfrm>
            <a:off x="3132000" y="3213000"/>
            <a:ext cx="1511280" cy="106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artje hugs1"/>
          <p:cNvPicPr/>
          <p:nvPr/>
        </p:nvPicPr>
        <p:blipFill>
          <a:blip r:embed="rId3"/>
          <a:stretch/>
        </p:blipFill>
        <p:spPr>
          <a:xfrm>
            <a:off x="1116000" y="3933720"/>
            <a:ext cx="1511280" cy="106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loem5"/>
          <p:cNvPicPr/>
          <p:nvPr/>
        </p:nvPicPr>
        <p:blipFill>
          <a:blip r:embed="rId4"/>
          <a:stretch/>
        </p:blipFill>
        <p:spPr>
          <a:xfrm>
            <a:off x="7524720" y="4292640"/>
            <a:ext cx="1047960" cy="1085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bloem5"/>
          <p:cNvPicPr/>
          <p:nvPr/>
        </p:nvPicPr>
        <p:blipFill>
          <a:blip r:embed="rId5"/>
          <a:stretch/>
        </p:blipFill>
        <p:spPr>
          <a:xfrm>
            <a:off x="6877080" y="4653000"/>
            <a:ext cx="104760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bloem5"/>
          <p:cNvPicPr/>
          <p:nvPr/>
        </p:nvPicPr>
        <p:blipFill>
          <a:blip r:embed="rId6"/>
          <a:stretch/>
        </p:blipFill>
        <p:spPr>
          <a:xfrm>
            <a:off x="8096400" y="4005360"/>
            <a:ext cx="1047600" cy="108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975600" y="1915920"/>
            <a:ext cx="53319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d9"/>
                </a:solidFill>
                <a:latin typeface="Arial"/>
              </a:rPr>
              <a:t>Hun huis zal groter zij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26920" y="1638000"/>
            <a:ext cx="654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d9"/>
                </a:solidFill>
                <a:latin typeface="Arial"/>
              </a:rPr>
              <a:t>Ze zullen een grotere auto rij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77000" y="2420640"/>
            <a:ext cx="7979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Hun kinderen zullen het beter doen op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760320" y="1839600"/>
            <a:ext cx="691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Hun man zal meer klusjes in huis do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187280" y="119664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Kijk daarom niet naar anderen maar      </a:t>
            </a: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naar je eigen gel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919960" y="2704680"/>
            <a:ext cx="38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Denk er eens over 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197360" y="2744640"/>
            <a:ext cx="675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De mooiste persoon van de wereld 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d9"/>
                </a:solidFill>
                <a:latin typeface="Arial"/>
              </a:rPr>
              <a:t>de hel in zijn hart heb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7:35:17Z</dcterms:created>
  <dc:creator>Geboes Suzy</dc:creator>
  <dc:description/>
  <dc:language>en-US</dc:language>
  <cp:lastModifiedBy>Smets</cp:lastModifiedBy>
  <dcterms:modified xsi:type="dcterms:W3CDTF">2008-09-06T07:03:14Z</dcterms:modified>
  <cp:revision>11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