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7A78-DDF6-403D-B9B8-A9A6AADF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7640-1309-4B7A-ADEB-6BA14E7A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28DC-9048-4100-B87A-70A90878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C47C-12C6-457F-AAD1-74E7D1D4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5014-82F4-4305-BE62-C77F95BF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EEFE-ADA9-4E1B-90E6-2DC85D48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82F1-5E15-42A0-888C-20B788F5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6335-17BF-4EBD-9449-3F318DCD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8245-2977-4D58-9294-C83C9504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580A-B287-436A-B632-8448D749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DEC2-B7D4-4322-B697-B4367511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129D-6116-4CED-926E-9D2AF5FE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36B2-A566-472F-9DCD-6C3EE2888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2362320"/>
            <a:ext cx="7543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ERANCANGAN STRATEGIK: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ONSEP DAN PELAKSANAAN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609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KURSUS KHAS JURULATIH DAKWA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GURU PENDIDIKAN ISLAM, FASA 2/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4572000"/>
            <a:ext cx="5867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TEL GRAND CONTINENT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CORDE INN, KLIA SEP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 OGOS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1905120"/>
            <a:ext cx="8534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.  MUDAH DIINGA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  MUDAH UNTUK DITERJEMAHK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.  BERTUJUAN UNTUK MENINGKATKAN KUALI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.  PERNYATAAN JANGKA PANJANG ORGANIS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.  FOKUS KEPADA PELANGG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.  FLEKSIB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1430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IRI-CIRI PERNYATAAN MI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447920" y="304920"/>
            <a:ext cx="64008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TOH PERNYATAAN MISI</a:t>
            </a:r>
            <a:endParaRPr b="0" lang="en-US" sz="2800" spc="1" strike="noStrike">
              <a:ln w="9360">
                <a:solidFill>
                  <a:srgbClr val="ff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219320"/>
            <a:ext cx="815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KEMENTERIAN PENDIDIK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TO DEVELOP A WORLD CLASS OF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EDUCATION SYSTEM WHICH WILL REAL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FULL POTENTIAL OF THE INDIVIDUAL AND FULF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THE ASPIRATION OF THE MALAYSIAN NA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20040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JAPIM (CONTO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MENERAJUI PENGURUSAN DASAR PENDIDIK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ISLAM, BAHASA ARAB DAN PENDEKATAN DAKW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BERHIKMAH SELARI DENGAN ASPIRASI FALSAFA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PENDIDIKAN KEBANGSAA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90720" y="304920"/>
            <a:ext cx="990360" cy="914400"/>
          </a:xfrm>
          <a:custGeom>
            <a:avLst/>
            <a:gdLst>
              <a:gd name="textAreaLeft" fmla="*/ 226080 w 990360"/>
              <a:gd name="textAreaRight" fmla="*/ 764280 w 99036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362320" y="609480"/>
            <a:ext cx="49528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NALISIS S.W.O.T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743200"/>
            <a:ext cx="2895480" cy="1447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I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 A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S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0280000">
            <a:off x="2590560" y="243792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213200">
            <a:off x="2590560" y="403848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1295280"/>
            <a:ext cx="5257800" cy="2286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EKITARAN DALAM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‘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RENGTHS &amp; WEAKNESSE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A YANG TELAH DIBUAT DENGAN BAIK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AKAH KEKUATAN ORGANISAS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AKAH KELEMAHAN ORGANISAS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DANG APA YANG PERLU PEMBAIKA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3962520"/>
            <a:ext cx="5257800" cy="2590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EKITARAN LUAR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PORTUNITIES &amp; THREA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YEDARI BEBERAPA PERUBAH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 LUAR ORGANISASI YANG BOLE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GANCAM ATAU MEMBERI PELUA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PADA KEMAJUAN ORGANISA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1371600"/>
            <a:ext cx="403884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ENGTH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lmen yang ting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hak pengurusan yang bersemang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putusan peperiksaan yang cemerl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nitia Pend. Islam yang ku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kongan ibubapa yang ba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angat guru-guru P.I. yang ting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kongan JAKIM/MTIN/Kerajaan Neg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962520"/>
            <a:ext cx="4038840" cy="28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joriti pelajar Melay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luang meningkatkan kemahiran gu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luang meningkatkan dana den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nganjurkan beberapa aktivi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mbinaan bangunan ba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rgabung dengan sekolah jiran bole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rkongsi kemudah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ru P.I berpengalaman menggubal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eriksa k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3962520"/>
            <a:ext cx="4038480" cy="28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RE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hilangan identiti, kekuatan dan reputa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hilangan guru-guru P.I. berpengalam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rana bersara aw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os sekolah jiran akan lebih terser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mungkinan kekurangan bantu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ripada pihak JPN/P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at pelajar terhadap P.I. kelihat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nd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1371600"/>
            <a:ext cx="40384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AK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utasi terjejas kerana beberapa insi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mai guru P.I. yang hampir bers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kurangan peruntukan kewan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kurangan ruang bilik khas/sur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kurangan kemudahan aktiviti ibad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28600"/>
            <a:ext cx="8305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SEDUR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‘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RAIGHTFORWARD AS POSSIBL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PATKAN SEBERAPA BANYAK MAKLUMAT S.W.O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228600"/>
            <a:ext cx="990360" cy="914400"/>
          </a:xfrm>
          <a:custGeom>
            <a:avLst/>
            <a:gdLst>
              <a:gd name="textAreaLeft" fmla="*/ 226080 w 990360"/>
              <a:gd name="textAreaRight" fmla="*/ 764280 w 99036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428840" y="533520"/>
            <a:ext cx="7334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ENGENALPASTI 'KEY RESULT AREAS'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2438280"/>
            <a:ext cx="2209680" cy="12956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.W.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20984400">
            <a:off x="317520" y="3122640"/>
            <a:ext cx="685800" cy="1219320"/>
          </a:xfrm>
          <a:custGeom>
            <a:avLst/>
            <a:gdLst>
              <a:gd name="textAreaLeft" fmla="*/ 91800 w 685800"/>
              <a:gd name="textAreaRight" fmla="*/ 594000 w 685800"/>
              <a:gd name="textAreaTop" fmla="*/ 213120 h 1219320"/>
              <a:gd name="textAreaBottom" fmla="*/ 8841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3886200"/>
            <a:ext cx="7696080" cy="274320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BERAPA K.R.A DIKENALPAS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WAN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MBANGUNAN ST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YERTAAN SUKAR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PERLUAN 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RJASAMA MASYARAK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AT PEL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14300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BAGAI ISU-ISU STRATEGIK YANG PERLU DIAMB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NDAKAN UNTUK MEMBOLEHKAN ORGANISAS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GHADAPI TEKANAN DALAMAN DAN LU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228600"/>
            <a:ext cx="990360" cy="914400"/>
          </a:xfrm>
          <a:custGeom>
            <a:avLst/>
            <a:gdLst>
              <a:gd name="textAreaLeft" fmla="*/ 226080 w 990360"/>
              <a:gd name="textAreaRight" fmla="*/ 764280 w 99036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676520" y="228600"/>
            <a:ext cx="6829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ENENTUKAN MATLAMAT/KEPUTUSAN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BERASASKAN K.R.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60020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LEPAS MENGENALPASTI K.R.A, JAWAP SOA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PAKAH MATLAMAT YANG MAHU DICAPAI OLE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RAGANISA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TOH:  JIKA K.R.A ADALAH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ENINGKATK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ENYERTAAN SUKARELA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 APAKAH KEPUTUS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YANG DIINGINKAN?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ENINGKATAN PESERTA SUKARE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510552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TLAMAT MENENTUKAN HALATUJU ORGANISAS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TUK  MENCAPAI KEPUTUSAN YANG DIINGI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TLAMAT JANGKA PANJANG DIMANA ORGANISAS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KAN BERUSAHA UNTUK MENCAPAINY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5105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58672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228600"/>
            <a:ext cx="990720" cy="914400"/>
          </a:xfrm>
          <a:custGeom>
            <a:avLst/>
            <a:gdLst>
              <a:gd name="textAreaLeft" fmla="*/ 226080 w 990720"/>
              <a:gd name="textAreaRight" fmla="*/ 764640 w 990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00200" y="457200"/>
            <a:ext cx="7238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EMBINA PELAN TINDAKAN / OPERASI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SES TERPENTING DALAM PERANCANG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RATEGIK  = PELAN TINDAKAN YANG KHUS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TIAP MATLAMAT SEBAGAI K.R.A. MESTI DIS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NTANG APA, BAGAIMANA, SIAPA DAN BI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O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NINGKATKAN PENYERTAAN SUKARELA = 1 H. 3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TIAP MATLAMAT DALAM PELAN TINDAK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GANDUNGI TARIKH TAMAT DAN ORA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YANG DIPERTANGGUNGJAWABK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EMAJUAN SESUATU TINDAKAN PERLU DINIL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RBANDING DENGAN JANGKA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920" y="838080"/>
            <a:ext cx="85341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TRATEGI MELAKSANAKAN PELAN TINDAKAN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600200"/>
            <a:ext cx="83059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AHAGIKAN PELAN PEMBANGUNAN ORGANISAS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EPADA BEBERAPA BAHAGIAN DAN BENTU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SUKAN KERJA UNTUK SETIAP BAHAGI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TIAP PASUKAN PERLU MELAPORK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KEMBANGAN KEPADA ORGANIS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133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812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228600"/>
            <a:ext cx="990720" cy="914400"/>
          </a:xfrm>
          <a:custGeom>
            <a:avLst/>
            <a:gdLst>
              <a:gd name="textAreaLeft" fmla="*/ 226080 w 990720"/>
              <a:gd name="textAreaRight" fmla="*/ 764640 w 990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676520" y="457200"/>
            <a:ext cx="7238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ELAKSANAKAN PELAN TINDAKAN / OPERASI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2133720"/>
            <a:ext cx="228600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2133720"/>
            <a:ext cx="213336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ILA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2133720"/>
            <a:ext cx="236232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ANG YA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TANGGU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W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2133720"/>
            <a:ext cx="182880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IK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H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2971800"/>
            <a:ext cx="2286000" cy="18288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ningkatk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fahaman pelaj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hadap sejarah Isl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ningkatk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fahaman pelaj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tang Had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2971800"/>
            <a:ext cx="2133360" cy="18288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jian Percuba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2971800"/>
            <a:ext cx="2362320" cy="18288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ru P.I Ting.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lajar Ting.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atuan P.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2971800"/>
            <a:ext cx="1828800" cy="18288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4479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TOH:  PELAN TINDAKAN DI PERINGKAT SEKOL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81280" y="51055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ATAU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8600" y="838080"/>
            <a:ext cx="2286000" cy="5335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67480" y="838080"/>
            <a:ext cx="14479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838080"/>
            <a:ext cx="289548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LAN TINDAK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838080"/>
            <a:ext cx="213372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371600"/>
            <a:ext cx="2286000" cy="50292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ingkatkan taha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fesionalisme gu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.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43800" y="1371600"/>
            <a:ext cx="1371600" cy="5029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1371600"/>
            <a:ext cx="2895480" cy="5029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ursus untuk guru P.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lam kemahir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mbahan seperti keboleh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, bahasa kedua, buat research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 Mengadakan ‘public speak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rse’ kepada guru P.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ngadakan kursus dakw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ara berhikmah deng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mahami isu pelbagai buday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mastikan semua guru P.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nghadiri kursus is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n keperluan globalisasi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la tuju &amp; dasar nega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1371600"/>
            <a:ext cx="2133720" cy="5029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ekurang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emahiran khas pa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uru P.I seper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lbagai kaed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ngajara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ajian tindaka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hasa kedu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0120" y="1752480"/>
            <a:ext cx="152280" cy="3505320"/>
          </a:xfrm>
          <a:custGeom>
            <a:avLst/>
            <a:gdLst>
              <a:gd name="textAreaLeft" fmla="*/ 0 w 152280"/>
              <a:gd name="textAreaRight" fmla="*/ 55080 w 15228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72400" y="304812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etua Panit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mua gur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2819520"/>
            <a:ext cx="85341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A TIGA JENIS KUMPULAN GURU P.I.  IAIT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YEBABKAN KEMEROSOTAN BERLA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LIHAT SESUATU KEMEROSOTAN BERLA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AIRAN KENAPA KEMEROSOTAN TELAH BERLA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00200" y="1143000"/>
            <a:ext cx="5867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ENAPA PERLU PERANCANGAN </a:t>
            </a:r>
            <a:endParaRPr b="0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848720" y="6400800"/>
            <a:ext cx="102852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NORTAIB/EPRD</a:t>
            </a:r>
            <a:endParaRPr b="0" i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1337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SU:  KEMEROSOTAN PENCAPAIAN  SUBJEK AG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SLAM DALAM PEPERIKS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95280" y="68580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ANCANGAN PROGRAM DAKW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28600" y="1600200"/>
            <a:ext cx="8613360" cy="4267080"/>
            <a:chOff x="228600" y="1600200"/>
            <a:chExt cx="8613360" cy="4267080"/>
          </a:xfrm>
        </p:grpSpPr>
        <p:grpSp>
          <p:nvGrpSpPr>
            <p:cNvPr id="165" name=""/>
            <p:cNvGrpSpPr/>
            <p:nvPr/>
          </p:nvGrpSpPr>
          <p:grpSpPr>
            <a:xfrm>
              <a:off x="233280" y="1602720"/>
              <a:ext cx="8602920" cy="4260960"/>
              <a:chOff x="233280" y="1602720"/>
              <a:chExt cx="8602920" cy="426096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233280" y="1602720"/>
                <a:ext cx="2934720" cy="365760"/>
                <a:chOff x="233280" y="1602720"/>
                <a:chExt cx="2934720" cy="36576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02040" y="1602720"/>
                  <a:ext cx="279684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Bulan tahun 200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33280" y="1602720"/>
                  <a:ext cx="293472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168360" y="1602720"/>
                <a:ext cx="1133280" cy="365760"/>
                <a:chOff x="3168360" y="1602720"/>
                <a:chExt cx="1133280" cy="3657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237120" y="1602720"/>
                  <a:ext cx="9954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Januar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168360" y="1602720"/>
                  <a:ext cx="11332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302000" y="1602720"/>
                <a:ext cx="1511280" cy="365760"/>
                <a:chOff x="4302000" y="1602720"/>
                <a:chExt cx="1511280" cy="3657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370760" y="1602720"/>
                  <a:ext cx="13734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Februar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302000" y="1602720"/>
                  <a:ext cx="15112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5813640" y="1602720"/>
                <a:ext cx="1511280" cy="365760"/>
                <a:chOff x="5813640" y="1602720"/>
                <a:chExt cx="1511280" cy="36576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882400" y="1602720"/>
                  <a:ext cx="13734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Ma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813640" y="1602720"/>
                  <a:ext cx="15112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325280" y="1602720"/>
                <a:ext cx="1510920" cy="365760"/>
                <a:chOff x="7325280" y="1602720"/>
                <a:chExt cx="1510920" cy="365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393680" y="1602720"/>
                  <a:ext cx="1373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Apri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325280" y="1602720"/>
                  <a:ext cx="151092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233280" y="1968480"/>
                <a:ext cx="2934720" cy="365760"/>
                <a:chOff x="233280" y="1968480"/>
                <a:chExt cx="2934720" cy="3657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02040" y="1968480"/>
                  <a:ext cx="279684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Aktiviti/Mingg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33280" y="1968480"/>
                  <a:ext cx="293472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3168360" y="1968480"/>
                <a:ext cx="377640" cy="365760"/>
                <a:chOff x="3168360" y="1968480"/>
                <a:chExt cx="377640" cy="36576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3237120" y="1968480"/>
                  <a:ext cx="239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168360" y="1968480"/>
                  <a:ext cx="37764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546360" y="1968480"/>
                <a:ext cx="377280" cy="365760"/>
                <a:chOff x="3546360" y="1968480"/>
                <a:chExt cx="377280" cy="3657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614760" y="1968480"/>
                  <a:ext cx="2401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546360" y="1968480"/>
                  <a:ext cx="3772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3924000" y="1968480"/>
                <a:ext cx="377640" cy="365760"/>
                <a:chOff x="3924000" y="1968480"/>
                <a:chExt cx="377640" cy="36576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3992760" y="1968480"/>
                  <a:ext cx="239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924000" y="1968480"/>
                  <a:ext cx="37764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4302000" y="1968480"/>
                <a:ext cx="377640" cy="365760"/>
                <a:chOff x="4302000" y="1968480"/>
                <a:chExt cx="377640" cy="3657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370760" y="1968480"/>
                  <a:ext cx="239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302000" y="1968480"/>
                  <a:ext cx="37764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4680000" y="1968480"/>
                <a:ext cx="377280" cy="365760"/>
                <a:chOff x="4680000" y="1968480"/>
                <a:chExt cx="377280" cy="36576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4748400" y="1968480"/>
                  <a:ext cx="2401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680000" y="1968480"/>
                  <a:ext cx="3772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5057640" y="1968480"/>
                <a:ext cx="377640" cy="365760"/>
                <a:chOff x="5057640" y="1968480"/>
                <a:chExt cx="377640" cy="3657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126400" y="1968480"/>
                  <a:ext cx="2401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057640" y="1968480"/>
                  <a:ext cx="37764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5435640" y="1968480"/>
                <a:ext cx="377640" cy="365760"/>
                <a:chOff x="5435640" y="1968480"/>
                <a:chExt cx="377640" cy="3657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5504400" y="1968480"/>
                  <a:ext cx="239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435640" y="1968480"/>
                  <a:ext cx="37764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5813640" y="1968480"/>
                <a:ext cx="377640" cy="365760"/>
                <a:chOff x="5813640" y="1968480"/>
                <a:chExt cx="377640" cy="3657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882400" y="1968480"/>
                  <a:ext cx="239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813640" y="1968480"/>
                  <a:ext cx="37764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6191640" y="1968480"/>
                <a:ext cx="377280" cy="365760"/>
                <a:chOff x="6191640" y="1968480"/>
                <a:chExt cx="377280" cy="3657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260040" y="1968480"/>
                  <a:ext cx="2401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191640" y="1968480"/>
                  <a:ext cx="3772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569280" y="1968480"/>
                <a:ext cx="377640" cy="365760"/>
                <a:chOff x="6569280" y="1968480"/>
                <a:chExt cx="377640" cy="36576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638040" y="1968480"/>
                  <a:ext cx="239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569280" y="1968480"/>
                  <a:ext cx="37764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6947280" y="1968480"/>
                <a:ext cx="377640" cy="365760"/>
                <a:chOff x="6947280" y="1968480"/>
                <a:chExt cx="377640" cy="3657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016040" y="1968480"/>
                  <a:ext cx="239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947280" y="1968480"/>
                  <a:ext cx="37764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7325280" y="1968480"/>
                <a:ext cx="377280" cy="365760"/>
                <a:chOff x="7325280" y="1968480"/>
                <a:chExt cx="377280" cy="36576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7393680" y="1968480"/>
                  <a:ext cx="2401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325280" y="1968480"/>
                  <a:ext cx="3772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7702920" y="1968480"/>
                <a:ext cx="377640" cy="365760"/>
                <a:chOff x="7702920" y="1968480"/>
                <a:chExt cx="377640" cy="3657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7771680" y="1968480"/>
                  <a:ext cx="239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702920" y="1968480"/>
                  <a:ext cx="37764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8080920" y="1968480"/>
                <a:ext cx="377640" cy="365760"/>
                <a:chOff x="8080920" y="1968480"/>
                <a:chExt cx="377640" cy="3657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8149680" y="1968480"/>
                  <a:ext cx="239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8080920" y="1968480"/>
                  <a:ext cx="37764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8458920" y="1968480"/>
                <a:ext cx="377280" cy="365760"/>
                <a:chOff x="8458920" y="1968480"/>
                <a:chExt cx="377280" cy="3657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8527320" y="1968480"/>
                  <a:ext cx="2401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458920" y="1968480"/>
                  <a:ext cx="3772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233280" y="2334600"/>
                <a:ext cx="2934720" cy="383760"/>
                <a:chOff x="233280" y="2334600"/>
                <a:chExt cx="2934720" cy="38376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02040" y="2334600"/>
                  <a:ext cx="279684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1.  Sesi brainstorming antara JU &amp; guru P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33280" y="2334600"/>
                  <a:ext cx="29347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3168360" y="2334600"/>
                <a:ext cx="377640" cy="383760"/>
                <a:chOff x="3168360" y="2334600"/>
                <a:chExt cx="377640" cy="38376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3168360" y="2334600"/>
                  <a:ext cx="37764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4" name=""/>
                <p:cNvGrpSpPr/>
                <p:nvPr/>
              </p:nvGrpSpPr>
              <p:grpSpPr>
                <a:xfrm>
                  <a:off x="3168360" y="2334600"/>
                  <a:ext cx="377280" cy="383760"/>
                  <a:chOff x="3168360" y="2334600"/>
                  <a:chExt cx="377280" cy="38376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3237120" y="2334600"/>
                    <a:ext cx="23976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3168360" y="2334600"/>
                    <a:ext cx="37728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7" name=""/>
              <p:cNvGrpSpPr/>
              <p:nvPr/>
            </p:nvGrpSpPr>
            <p:grpSpPr>
              <a:xfrm>
                <a:off x="3546360" y="2334600"/>
                <a:ext cx="377280" cy="383760"/>
                <a:chOff x="3546360" y="2334600"/>
                <a:chExt cx="377280" cy="3837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3546360" y="2334600"/>
                  <a:ext cx="37728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" name=""/>
                <p:cNvGrpSpPr/>
                <p:nvPr/>
              </p:nvGrpSpPr>
              <p:grpSpPr>
                <a:xfrm>
                  <a:off x="3546360" y="2334600"/>
                  <a:ext cx="376920" cy="383760"/>
                  <a:chOff x="3546360" y="2334600"/>
                  <a:chExt cx="376920" cy="38376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3614760" y="2334600"/>
                    <a:ext cx="24012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3546360" y="2334600"/>
                    <a:ext cx="37692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" name=""/>
              <p:cNvGrpSpPr/>
              <p:nvPr/>
            </p:nvGrpSpPr>
            <p:grpSpPr>
              <a:xfrm>
                <a:off x="3924000" y="2334600"/>
                <a:ext cx="377640" cy="383760"/>
                <a:chOff x="3924000" y="2334600"/>
                <a:chExt cx="377640" cy="383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992760" y="233460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924000" y="23346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302000" y="2334600"/>
                <a:ext cx="377640" cy="383760"/>
                <a:chOff x="4302000" y="2334600"/>
                <a:chExt cx="377640" cy="383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370760" y="233460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302000" y="23346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4680000" y="2334600"/>
                <a:ext cx="377280" cy="383760"/>
                <a:chOff x="4680000" y="2334600"/>
                <a:chExt cx="377280" cy="383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4748400" y="233460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680000" y="233460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5057640" y="2334600"/>
                <a:ext cx="377640" cy="383760"/>
                <a:chOff x="5057640" y="2334600"/>
                <a:chExt cx="377640" cy="3837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5126400" y="233460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057640" y="23346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5435640" y="2334600"/>
                <a:ext cx="377640" cy="383760"/>
                <a:chOff x="5435640" y="2334600"/>
                <a:chExt cx="377640" cy="3837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5504400" y="233460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435640" y="23346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5813640" y="2334600"/>
                <a:ext cx="377640" cy="383760"/>
                <a:chOff x="5813640" y="2334600"/>
                <a:chExt cx="377640" cy="3837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882400" y="233460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813640" y="23346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6191640" y="2334600"/>
                <a:ext cx="377280" cy="383760"/>
                <a:chOff x="6191640" y="2334600"/>
                <a:chExt cx="377280" cy="3837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260040" y="233460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191640" y="233460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569280" y="2334600"/>
                <a:ext cx="377640" cy="383760"/>
                <a:chOff x="6569280" y="2334600"/>
                <a:chExt cx="377640" cy="38376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638040" y="233460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569280" y="23346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6947280" y="2334600"/>
                <a:ext cx="377640" cy="383760"/>
                <a:chOff x="6947280" y="2334600"/>
                <a:chExt cx="377640" cy="3837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7016040" y="233460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947280" y="23346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7325280" y="2334600"/>
                <a:ext cx="377280" cy="383760"/>
                <a:chOff x="7325280" y="2334600"/>
                <a:chExt cx="377280" cy="3837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7393680" y="233460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325280" y="233460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7702920" y="2334600"/>
                <a:ext cx="377640" cy="383760"/>
                <a:chOff x="7702920" y="2334600"/>
                <a:chExt cx="377640" cy="3837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7771680" y="233460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702920" y="23346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8080920" y="2334600"/>
                <a:ext cx="377640" cy="383760"/>
                <a:chOff x="8080920" y="2334600"/>
                <a:chExt cx="377640" cy="3837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8149680" y="233460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080920" y="23346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8458920" y="2334600"/>
                <a:ext cx="377280" cy="383760"/>
                <a:chOff x="8458920" y="2334600"/>
                <a:chExt cx="377280" cy="38376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8527320" y="233460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458920" y="233460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233280" y="2718360"/>
                <a:ext cx="2934720" cy="383760"/>
                <a:chOff x="233280" y="2718360"/>
                <a:chExt cx="2934720" cy="3837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302040" y="2718360"/>
                  <a:ext cx="279684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2.  Mengkonseptual kajian/proje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33280" y="2718360"/>
                  <a:ext cx="29347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3168360" y="2718360"/>
                <a:ext cx="377640" cy="383760"/>
                <a:chOff x="3168360" y="2718360"/>
                <a:chExt cx="377640" cy="3837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3237120" y="27183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168360" y="27183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3546360" y="2718360"/>
                <a:ext cx="377280" cy="383760"/>
                <a:chOff x="3546360" y="2718360"/>
                <a:chExt cx="377280" cy="3837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3614760" y="271836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546360" y="271836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924000" y="2718360"/>
                <a:ext cx="377640" cy="383760"/>
                <a:chOff x="3924000" y="2718360"/>
                <a:chExt cx="377640" cy="3837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924000" y="2718360"/>
                  <a:ext cx="37764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" name=""/>
                <p:cNvGrpSpPr/>
                <p:nvPr/>
              </p:nvGrpSpPr>
              <p:grpSpPr>
                <a:xfrm>
                  <a:off x="3924000" y="2718360"/>
                  <a:ext cx="377280" cy="383760"/>
                  <a:chOff x="3924000" y="2718360"/>
                  <a:chExt cx="377280" cy="38376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3992760" y="2718360"/>
                    <a:ext cx="23976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3924000" y="2718360"/>
                    <a:ext cx="37728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5" name=""/>
              <p:cNvGrpSpPr/>
              <p:nvPr/>
            </p:nvGrpSpPr>
            <p:grpSpPr>
              <a:xfrm>
                <a:off x="4302000" y="2718360"/>
                <a:ext cx="377640" cy="383760"/>
                <a:chOff x="4302000" y="2718360"/>
                <a:chExt cx="377640" cy="38376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370760" y="27183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302000" y="27183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680000" y="2718360"/>
                <a:ext cx="377280" cy="383760"/>
                <a:chOff x="4680000" y="2718360"/>
                <a:chExt cx="377280" cy="38376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748400" y="271836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680000" y="271836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057640" y="2718360"/>
                <a:ext cx="377640" cy="383760"/>
                <a:chOff x="5057640" y="2718360"/>
                <a:chExt cx="377640" cy="38376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126400" y="271836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057640" y="27183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5435640" y="2718360"/>
                <a:ext cx="377640" cy="383760"/>
                <a:chOff x="5435640" y="2718360"/>
                <a:chExt cx="377640" cy="3837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5504400" y="27183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435640" y="27183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5813640" y="2718360"/>
                <a:ext cx="377640" cy="383760"/>
                <a:chOff x="5813640" y="2718360"/>
                <a:chExt cx="377640" cy="38376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882400" y="27183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813640" y="27183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6191640" y="2718360"/>
                <a:ext cx="377280" cy="383760"/>
                <a:chOff x="6191640" y="2718360"/>
                <a:chExt cx="377280" cy="38376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6260040" y="271836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191640" y="271836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6569280" y="2718360"/>
                <a:ext cx="377640" cy="383760"/>
                <a:chOff x="6569280" y="2718360"/>
                <a:chExt cx="377640" cy="38376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638040" y="27183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569280" y="27183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6947280" y="2718360"/>
                <a:ext cx="377640" cy="383760"/>
                <a:chOff x="6947280" y="2718360"/>
                <a:chExt cx="377640" cy="38376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7016040" y="27183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947280" y="27183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7325280" y="2718360"/>
                <a:ext cx="377280" cy="383760"/>
                <a:chOff x="7325280" y="2718360"/>
                <a:chExt cx="377280" cy="38376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7393680" y="271836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325280" y="271836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7702920" y="2718360"/>
                <a:ext cx="377640" cy="383760"/>
                <a:chOff x="7702920" y="2718360"/>
                <a:chExt cx="377640" cy="3837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7771680" y="27183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702920" y="27183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8080920" y="2718360"/>
                <a:ext cx="377640" cy="383760"/>
                <a:chOff x="8080920" y="2718360"/>
                <a:chExt cx="377640" cy="38376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8149680" y="27183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8080920" y="27183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8458920" y="2718360"/>
                <a:ext cx="377280" cy="383760"/>
                <a:chOff x="8458920" y="2718360"/>
                <a:chExt cx="377280" cy="38376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8527320" y="271836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458920" y="271836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233280" y="3102480"/>
                <a:ext cx="2934720" cy="383760"/>
                <a:chOff x="233280" y="3102480"/>
                <a:chExt cx="2934720" cy="3837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302040" y="3102480"/>
                  <a:ext cx="279684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3.  Mengumpulkan bahan-bahan berkait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33280" y="3102480"/>
                  <a:ext cx="29347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3168360" y="3102480"/>
                <a:ext cx="377640" cy="383760"/>
                <a:chOff x="3168360" y="3102480"/>
                <a:chExt cx="377640" cy="38376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3237120" y="310248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168360" y="310248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3546360" y="3102480"/>
                <a:ext cx="377280" cy="383760"/>
                <a:chOff x="3546360" y="3102480"/>
                <a:chExt cx="377280" cy="38376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3614760" y="310248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546360" y="310248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3924000" y="3102480"/>
                <a:ext cx="377640" cy="383760"/>
                <a:chOff x="3924000" y="3102480"/>
                <a:chExt cx="377640" cy="38376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3992760" y="310248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924000" y="310248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4302000" y="3102480"/>
                <a:ext cx="377640" cy="383760"/>
                <a:chOff x="4302000" y="3102480"/>
                <a:chExt cx="377640" cy="3837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4302000" y="3102480"/>
                  <a:ext cx="37764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5" name=""/>
                <p:cNvGrpSpPr/>
                <p:nvPr/>
              </p:nvGrpSpPr>
              <p:grpSpPr>
                <a:xfrm>
                  <a:off x="4302000" y="3102480"/>
                  <a:ext cx="377280" cy="383760"/>
                  <a:chOff x="4302000" y="3102480"/>
                  <a:chExt cx="377280" cy="38376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4370760" y="3102480"/>
                    <a:ext cx="23976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4302000" y="3102480"/>
                    <a:ext cx="37728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8" name=""/>
              <p:cNvGrpSpPr/>
              <p:nvPr/>
            </p:nvGrpSpPr>
            <p:grpSpPr>
              <a:xfrm>
                <a:off x="4680000" y="3102480"/>
                <a:ext cx="377280" cy="383760"/>
                <a:chOff x="4680000" y="3102480"/>
                <a:chExt cx="377280" cy="3837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4680000" y="3102480"/>
                  <a:ext cx="37728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0" name=""/>
                <p:cNvGrpSpPr/>
                <p:nvPr/>
              </p:nvGrpSpPr>
              <p:grpSpPr>
                <a:xfrm>
                  <a:off x="4680000" y="3102480"/>
                  <a:ext cx="376920" cy="383760"/>
                  <a:chOff x="4680000" y="3102480"/>
                  <a:chExt cx="376920" cy="3837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4748400" y="3102480"/>
                    <a:ext cx="24012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4680000" y="3102480"/>
                    <a:ext cx="37692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3" name=""/>
              <p:cNvGrpSpPr/>
              <p:nvPr/>
            </p:nvGrpSpPr>
            <p:grpSpPr>
              <a:xfrm>
                <a:off x="5057640" y="3102480"/>
                <a:ext cx="377640" cy="383760"/>
                <a:chOff x="5057640" y="3102480"/>
                <a:chExt cx="377640" cy="3837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5057640" y="3102480"/>
                  <a:ext cx="37764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5057640" y="3102480"/>
                  <a:ext cx="377280" cy="383760"/>
                  <a:chOff x="5057640" y="3102480"/>
                  <a:chExt cx="377280" cy="38376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5126400" y="3102480"/>
                    <a:ext cx="24012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5057640" y="3102480"/>
                    <a:ext cx="37728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8" name=""/>
              <p:cNvGrpSpPr/>
              <p:nvPr/>
            </p:nvGrpSpPr>
            <p:grpSpPr>
              <a:xfrm>
                <a:off x="5435640" y="3102480"/>
                <a:ext cx="377640" cy="383760"/>
                <a:chOff x="5435640" y="3102480"/>
                <a:chExt cx="377640" cy="3837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5504400" y="310248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435640" y="310248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5813640" y="3102480"/>
                <a:ext cx="377640" cy="383760"/>
                <a:chOff x="5813640" y="3102480"/>
                <a:chExt cx="377640" cy="38376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5882400" y="310248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813640" y="310248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6191640" y="3102480"/>
                <a:ext cx="377280" cy="383760"/>
                <a:chOff x="6191640" y="3102480"/>
                <a:chExt cx="377280" cy="38376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6260040" y="310248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191640" y="310248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6569280" y="3102480"/>
                <a:ext cx="377640" cy="383760"/>
                <a:chOff x="6569280" y="3102480"/>
                <a:chExt cx="377640" cy="38376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6638040" y="310248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569280" y="310248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6947280" y="3102480"/>
                <a:ext cx="377640" cy="383760"/>
                <a:chOff x="6947280" y="3102480"/>
                <a:chExt cx="377640" cy="3837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7016040" y="310248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947280" y="310248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7325280" y="3102480"/>
                <a:ext cx="377280" cy="383760"/>
                <a:chOff x="7325280" y="3102480"/>
                <a:chExt cx="377280" cy="38376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7393680" y="310248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325280" y="310248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7702920" y="3102480"/>
                <a:ext cx="377640" cy="383760"/>
                <a:chOff x="7702920" y="3102480"/>
                <a:chExt cx="377640" cy="38376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7771680" y="310248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702920" y="310248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8080920" y="3102480"/>
                <a:ext cx="377640" cy="383760"/>
                <a:chOff x="8080920" y="3102480"/>
                <a:chExt cx="377640" cy="38376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8149680" y="310248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8080920" y="310248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8458920" y="3102480"/>
                <a:ext cx="377280" cy="383760"/>
                <a:chOff x="8458920" y="3102480"/>
                <a:chExt cx="377280" cy="38376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8527320" y="310248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458920" y="310248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233280" y="3486600"/>
                <a:ext cx="2934720" cy="457200"/>
                <a:chOff x="233280" y="3486600"/>
                <a:chExt cx="2934720" cy="45720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302040" y="3486600"/>
                  <a:ext cx="279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71360" indent="-171360">
                    <a:buClr>
                      <a:srgbClr val="ffff00"/>
                    </a:buClr>
                    <a:buFont typeface="Times New Roman"/>
                    <a:buAutoNum type="arabicPeriod" startAt="4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Mesyuarat penyelarasan dan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71360" indent="-17136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persediaan  progr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33280" y="3486600"/>
                  <a:ext cx="293472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3168360" y="3486600"/>
                <a:ext cx="377640" cy="457200"/>
                <a:chOff x="3168360" y="3486600"/>
                <a:chExt cx="377640" cy="45720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3237120" y="3486600"/>
                  <a:ext cx="239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3168360" y="3486600"/>
                  <a:ext cx="377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3546360" y="3486600"/>
                <a:ext cx="377280" cy="457200"/>
                <a:chOff x="3546360" y="3486600"/>
                <a:chExt cx="377280" cy="45720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3614760" y="3486600"/>
                  <a:ext cx="2401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546360" y="3486600"/>
                  <a:ext cx="3772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3924000" y="3486600"/>
                <a:ext cx="377640" cy="457200"/>
                <a:chOff x="3924000" y="3486600"/>
                <a:chExt cx="377640" cy="45720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3992760" y="3486600"/>
                  <a:ext cx="239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924000" y="3486600"/>
                  <a:ext cx="377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4302000" y="3486600"/>
                <a:ext cx="377640" cy="457200"/>
                <a:chOff x="4302000" y="3486600"/>
                <a:chExt cx="377640" cy="45720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4370760" y="3486600"/>
                  <a:ext cx="239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302000" y="3486600"/>
                  <a:ext cx="377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680000" y="3486600"/>
                <a:ext cx="377280" cy="457200"/>
                <a:chOff x="4680000" y="3486600"/>
                <a:chExt cx="377280" cy="4572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748400" y="3486600"/>
                  <a:ext cx="2401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680000" y="3486600"/>
                  <a:ext cx="3772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5057640" y="3486600"/>
                <a:ext cx="377640" cy="457200"/>
                <a:chOff x="5057640" y="3486600"/>
                <a:chExt cx="377640" cy="45720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5057640" y="3486600"/>
                  <a:ext cx="377640" cy="4572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5" name=""/>
                <p:cNvGrpSpPr/>
                <p:nvPr/>
              </p:nvGrpSpPr>
              <p:grpSpPr>
                <a:xfrm>
                  <a:off x="5057640" y="3486600"/>
                  <a:ext cx="377280" cy="457200"/>
                  <a:chOff x="5057640" y="3486600"/>
                  <a:chExt cx="377280" cy="4572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5126400" y="3486600"/>
                    <a:ext cx="240120" cy="45720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5057640" y="3486600"/>
                    <a:ext cx="37728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8" name=""/>
              <p:cNvGrpSpPr/>
              <p:nvPr/>
            </p:nvGrpSpPr>
            <p:grpSpPr>
              <a:xfrm>
                <a:off x="5435640" y="3486600"/>
                <a:ext cx="377640" cy="457200"/>
                <a:chOff x="5435640" y="3486600"/>
                <a:chExt cx="377640" cy="4572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5504400" y="3486600"/>
                  <a:ext cx="239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435640" y="3486600"/>
                  <a:ext cx="377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5813640" y="3486600"/>
                <a:ext cx="377640" cy="457200"/>
                <a:chOff x="5813640" y="3486600"/>
                <a:chExt cx="377640" cy="45720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5882400" y="3486600"/>
                  <a:ext cx="239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813640" y="3486600"/>
                  <a:ext cx="377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6191640" y="3486600"/>
                <a:ext cx="377280" cy="457200"/>
                <a:chOff x="6191640" y="3486600"/>
                <a:chExt cx="377280" cy="45720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6260040" y="3486600"/>
                  <a:ext cx="2401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191640" y="3486600"/>
                  <a:ext cx="3772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6569280" y="3486600"/>
                <a:ext cx="377640" cy="457200"/>
                <a:chOff x="6569280" y="3486600"/>
                <a:chExt cx="377640" cy="45720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6638040" y="3486600"/>
                  <a:ext cx="239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569280" y="3486600"/>
                  <a:ext cx="377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6947280" y="3486600"/>
                <a:ext cx="377640" cy="457200"/>
                <a:chOff x="6947280" y="3486600"/>
                <a:chExt cx="377640" cy="45720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7016040" y="3486600"/>
                  <a:ext cx="239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947280" y="3486600"/>
                  <a:ext cx="377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7325280" y="3486600"/>
                <a:ext cx="377280" cy="457200"/>
                <a:chOff x="7325280" y="3486600"/>
                <a:chExt cx="377280" cy="45720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7393680" y="3486600"/>
                  <a:ext cx="2401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325280" y="3486600"/>
                  <a:ext cx="3772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702920" y="3486600"/>
                <a:ext cx="377640" cy="457200"/>
                <a:chOff x="7702920" y="3486600"/>
                <a:chExt cx="377640" cy="45720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771680" y="3486600"/>
                  <a:ext cx="239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702920" y="3486600"/>
                  <a:ext cx="377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8080920" y="3486600"/>
                <a:ext cx="377640" cy="457200"/>
                <a:chOff x="8080920" y="3486600"/>
                <a:chExt cx="377640" cy="45720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8149680" y="3486600"/>
                  <a:ext cx="239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8080920" y="3486600"/>
                  <a:ext cx="377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8458920" y="3486600"/>
                <a:ext cx="377280" cy="457200"/>
                <a:chOff x="8458920" y="3486600"/>
                <a:chExt cx="377280" cy="4572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8527320" y="3486600"/>
                  <a:ext cx="2401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8458920" y="3486600"/>
                  <a:ext cx="3772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233280" y="3943800"/>
                <a:ext cx="2934720" cy="383760"/>
                <a:chOff x="233280" y="3943800"/>
                <a:chExt cx="2934720" cy="38376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302040" y="3943800"/>
                  <a:ext cx="279684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5.  Menjalankan program/semin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33280" y="3943800"/>
                  <a:ext cx="29347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3168360" y="3943800"/>
                <a:ext cx="377640" cy="383760"/>
                <a:chOff x="3168360" y="3943800"/>
                <a:chExt cx="377640" cy="38376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3237120" y="394380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168360" y="39438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3546360" y="3943800"/>
                <a:ext cx="377280" cy="383760"/>
                <a:chOff x="3546360" y="3943800"/>
                <a:chExt cx="377280" cy="38376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3614760" y="394380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546360" y="394380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3924000" y="3943800"/>
                <a:ext cx="377640" cy="383760"/>
                <a:chOff x="3924000" y="3943800"/>
                <a:chExt cx="377640" cy="38376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3992760" y="394380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924000" y="39438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302000" y="3943800"/>
                <a:ext cx="377640" cy="383760"/>
                <a:chOff x="4302000" y="3943800"/>
                <a:chExt cx="377640" cy="38376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370760" y="394380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302000" y="39438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4680000" y="3943800"/>
                <a:ext cx="377280" cy="383760"/>
                <a:chOff x="4680000" y="3943800"/>
                <a:chExt cx="377280" cy="38376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4748400" y="394380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4680000" y="394380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5057640" y="3943800"/>
                <a:ext cx="377640" cy="383760"/>
                <a:chOff x="5057640" y="3943800"/>
                <a:chExt cx="377640" cy="38376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5057640" y="3943800"/>
                  <a:ext cx="37764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5" name=""/>
                <p:cNvGrpSpPr/>
                <p:nvPr/>
              </p:nvGrpSpPr>
              <p:grpSpPr>
                <a:xfrm>
                  <a:off x="5057640" y="3943800"/>
                  <a:ext cx="377280" cy="383760"/>
                  <a:chOff x="5057640" y="3943800"/>
                  <a:chExt cx="377280" cy="38376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>
                    <a:off x="5126400" y="3943800"/>
                    <a:ext cx="24012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057640" y="3943800"/>
                    <a:ext cx="37728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5435640" y="3943800"/>
                <a:ext cx="377640" cy="383760"/>
                <a:chOff x="5435640" y="3943800"/>
                <a:chExt cx="377640" cy="3837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5435640" y="3943800"/>
                  <a:ext cx="37764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0" name=""/>
                <p:cNvGrpSpPr/>
                <p:nvPr/>
              </p:nvGrpSpPr>
              <p:grpSpPr>
                <a:xfrm>
                  <a:off x="5435640" y="3943800"/>
                  <a:ext cx="377280" cy="383760"/>
                  <a:chOff x="5435640" y="3943800"/>
                  <a:chExt cx="377280" cy="38376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5504400" y="3943800"/>
                    <a:ext cx="23976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5435640" y="3943800"/>
                    <a:ext cx="37728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3" name=""/>
              <p:cNvGrpSpPr/>
              <p:nvPr/>
            </p:nvGrpSpPr>
            <p:grpSpPr>
              <a:xfrm>
                <a:off x="5813640" y="3943800"/>
                <a:ext cx="377640" cy="383760"/>
                <a:chOff x="5813640" y="3943800"/>
                <a:chExt cx="377640" cy="38376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5813640" y="3943800"/>
                  <a:ext cx="37764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5" name=""/>
                <p:cNvGrpSpPr/>
                <p:nvPr/>
              </p:nvGrpSpPr>
              <p:grpSpPr>
                <a:xfrm>
                  <a:off x="5813640" y="3943800"/>
                  <a:ext cx="377280" cy="383760"/>
                  <a:chOff x="5813640" y="3943800"/>
                  <a:chExt cx="377280" cy="38376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>
                    <a:off x="5882400" y="3943800"/>
                    <a:ext cx="23976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813640" y="3943800"/>
                    <a:ext cx="37728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8" name=""/>
              <p:cNvGrpSpPr/>
              <p:nvPr/>
            </p:nvGrpSpPr>
            <p:grpSpPr>
              <a:xfrm>
                <a:off x="6191640" y="3943800"/>
                <a:ext cx="377280" cy="383760"/>
                <a:chOff x="6191640" y="3943800"/>
                <a:chExt cx="377280" cy="38376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6191640" y="3943800"/>
                  <a:ext cx="37728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0" name=""/>
                <p:cNvGrpSpPr/>
                <p:nvPr/>
              </p:nvGrpSpPr>
              <p:grpSpPr>
                <a:xfrm>
                  <a:off x="6191640" y="3943800"/>
                  <a:ext cx="376920" cy="383760"/>
                  <a:chOff x="6191640" y="3943800"/>
                  <a:chExt cx="376920" cy="38376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6260040" y="3943800"/>
                    <a:ext cx="24012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6191640" y="3943800"/>
                    <a:ext cx="37692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3" name=""/>
              <p:cNvGrpSpPr/>
              <p:nvPr/>
            </p:nvGrpSpPr>
            <p:grpSpPr>
              <a:xfrm>
                <a:off x="6569280" y="3943800"/>
                <a:ext cx="377640" cy="383760"/>
                <a:chOff x="6569280" y="3943800"/>
                <a:chExt cx="377640" cy="3837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38040" y="394380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569280" y="39438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6947280" y="3943800"/>
                <a:ext cx="377640" cy="383760"/>
                <a:chOff x="6947280" y="3943800"/>
                <a:chExt cx="377640" cy="3837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7016040" y="394380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947280" y="39438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7325280" y="3943800"/>
                <a:ext cx="377280" cy="383760"/>
                <a:chOff x="7325280" y="3943800"/>
                <a:chExt cx="377280" cy="3837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7393680" y="394380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325280" y="394380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7702920" y="3943800"/>
                <a:ext cx="377640" cy="383760"/>
                <a:chOff x="7702920" y="3943800"/>
                <a:chExt cx="377640" cy="3837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7771680" y="394380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702920" y="39438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8080920" y="3943800"/>
                <a:ext cx="377640" cy="383760"/>
                <a:chOff x="8080920" y="3943800"/>
                <a:chExt cx="377640" cy="3837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8149680" y="394380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8080920" y="39438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8458920" y="3943800"/>
                <a:ext cx="377280" cy="383760"/>
                <a:chOff x="8458920" y="3943800"/>
                <a:chExt cx="377280" cy="3837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8527320" y="394380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8458920" y="394380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233280" y="4327920"/>
                <a:ext cx="2934720" cy="383760"/>
                <a:chOff x="233280" y="4327920"/>
                <a:chExt cx="2934720" cy="3837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302040" y="4327920"/>
                  <a:ext cx="279684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71360" indent="-17136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6.  Analisis dan penulisan penilaian progr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33280" y="4327920"/>
                  <a:ext cx="29347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168360" y="4327920"/>
                <a:ext cx="377640" cy="383760"/>
                <a:chOff x="3168360" y="4327920"/>
                <a:chExt cx="377640" cy="3837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237120" y="4327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168360" y="4327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3546360" y="4327920"/>
                <a:ext cx="377280" cy="383760"/>
                <a:chOff x="3546360" y="4327920"/>
                <a:chExt cx="377280" cy="3837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3614760" y="432792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546360" y="432792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3924000" y="4327920"/>
                <a:ext cx="377640" cy="383760"/>
                <a:chOff x="3924000" y="4327920"/>
                <a:chExt cx="377640" cy="3837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3992760" y="4327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924000" y="4327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4302000" y="4327920"/>
                <a:ext cx="377640" cy="383760"/>
                <a:chOff x="4302000" y="4327920"/>
                <a:chExt cx="377640" cy="3837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4370760" y="4327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4302000" y="4327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4680000" y="4327920"/>
                <a:ext cx="377280" cy="383760"/>
                <a:chOff x="4680000" y="4327920"/>
                <a:chExt cx="377280" cy="3837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4748400" y="432792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4680000" y="432792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5057640" y="4327920"/>
                <a:ext cx="377640" cy="383760"/>
                <a:chOff x="5057640" y="4327920"/>
                <a:chExt cx="377640" cy="3837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5126400" y="432792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057640" y="4327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5435640" y="4327920"/>
                <a:ext cx="377640" cy="383760"/>
                <a:chOff x="5435640" y="4327920"/>
                <a:chExt cx="377640" cy="3837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5504400" y="4327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5435640" y="4327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5813640" y="4327920"/>
                <a:ext cx="377640" cy="383760"/>
                <a:chOff x="5813640" y="4327920"/>
                <a:chExt cx="377640" cy="3837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5882400" y="4327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813640" y="4327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6191640" y="4327920"/>
                <a:ext cx="377280" cy="383760"/>
                <a:chOff x="6191640" y="4327920"/>
                <a:chExt cx="377280" cy="3837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6191640" y="4327920"/>
                  <a:ext cx="37728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0" name=""/>
                <p:cNvGrpSpPr/>
                <p:nvPr/>
              </p:nvGrpSpPr>
              <p:grpSpPr>
                <a:xfrm>
                  <a:off x="6191640" y="4327920"/>
                  <a:ext cx="376920" cy="383760"/>
                  <a:chOff x="6191640" y="4327920"/>
                  <a:chExt cx="376920" cy="38376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>
                    <a:off x="6260040" y="4327920"/>
                    <a:ext cx="24012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6191640" y="4327920"/>
                    <a:ext cx="37692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3" name=""/>
              <p:cNvGrpSpPr/>
              <p:nvPr/>
            </p:nvGrpSpPr>
            <p:grpSpPr>
              <a:xfrm>
                <a:off x="6569280" y="4327920"/>
                <a:ext cx="377640" cy="383760"/>
                <a:chOff x="6569280" y="4327920"/>
                <a:chExt cx="377640" cy="38376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6569280" y="4327920"/>
                  <a:ext cx="37764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5" name=""/>
                <p:cNvGrpSpPr/>
                <p:nvPr/>
              </p:nvGrpSpPr>
              <p:grpSpPr>
                <a:xfrm>
                  <a:off x="6569280" y="4327920"/>
                  <a:ext cx="377280" cy="383760"/>
                  <a:chOff x="6569280" y="4327920"/>
                  <a:chExt cx="377280" cy="38376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>
                    <a:off x="6638040" y="4327920"/>
                    <a:ext cx="23976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6569280" y="4327920"/>
                    <a:ext cx="37728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8" name=""/>
              <p:cNvGrpSpPr/>
              <p:nvPr/>
            </p:nvGrpSpPr>
            <p:grpSpPr>
              <a:xfrm>
                <a:off x="6947280" y="4327920"/>
                <a:ext cx="377640" cy="383760"/>
                <a:chOff x="6947280" y="4327920"/>
                <a:chExt cx="377640" cy="38376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6947280" y="4327920"/>
                  <a:ext cx="37764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0" name=""/>
                <p:cNvGrpSpPr/>
                <p:nvPr/>
              </p:nvGrpSpPr>
              <p:grpSpPr>
                <a:xfrm>
                  <a:off x="6947280" y="4327920"/>
                  <a:ext cx="377280" cy="383760"/>
                  <a:chOff x="6947280" y="4327920"/>
                  <a:chExt cx="377280" cy="38376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>
                    <a:off x="7016040" y="4327920"/>
                    <a:ext cx="23976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6947280" y="4327920"/>
                    <a:ext cx="37728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3" name=""/>
              <p:cNvGrpSpPr/>
              <p:nvPr/>
            </p:nvGrpSpPr>
            <p:grpSpPr>
              <a:xfrm>
                <a:off x="7325280" y="4327920"/>
                <a:ext cx="377280" cy="383760"/>
                <a:chOff x="7325280" y="4327920"/>
                <a:chExt cx="377280" cy="3837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7393680" y="432792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325280" y="432792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7702920" y="4327920"/>
                <a:ext cx="377640" cy="383760"/>
                <a:chOff x="7702920" y="4327920"/>
                <a:chExt cx="377640" cy="3837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7771680" y="4327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7702920" y="4327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8080920" y="4327920"/>
                <a:ext cx="377640" cy="383760"/>
                <a:chOff x="8080920" y="4327920"/>
                <a:chExt cx="377640" cy="3837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8149680" y="4327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8080920" y="4327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8458920" y="4327920"/>
                <a:ext cx="377280" cy="383760"/>
                <a:chOff x="8458920" y="4327920"/>
                <a:chExt cx="377280" cy="3837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8527320" y="432792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8458920" y="432792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233280" y="4712040"/>
                <a:ext cx="2934720" cy="383760"/>
                <a:chOff x="233280" y="4712040"/>
                <a:chExt cx="2934720" cy="3837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302040" y="4712040"/>
                  <a:ext cx="279684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7.  Pemurniaan lapor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33280" y="4712040"/>
                  <a:ext cx="29347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168360" y="4712040"/>
                <a:ext cx="377640" cy="383760"/>
                <a:chOff x="3168360" y="4712040"/>
                <a:chExt cx="377640" cy="3837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237120" y="471204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168360" y="471204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3546360" y="4712040"/>
                <a:ext cx="377280" cy="383760"/>
                <a:chOff x="3546360" y="4712040"/>
                <a:chExt cx="377280" cy="3837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3614760" y="471204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546360" y="471204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3924000" y="4712040"/>
                <a:ext cx="377640" cy="383760"/>
                <a:chOff x="3924000" y="4712040"/>
                <a:chExt cx="377640" cy="3837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3992760" y="471204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924000" y="471204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4302000" y="4712040"/>
                <a:ext cx="377640" cy="383760"/>
                <a:chOff x="4302000" y="4712040"/>
                <a:chExt cx="377640" cy="3837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4370760" y="471204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302000" y="471204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4680000" y="4712040"/>
                <a:ext cx="377280" cy="383760"/>
                <a:chOff x="4680000" y="4712040"/>
                <a:chExt cx="377280" cy="3837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4748400" y="471204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4680000" y="471204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5057640" y="4712040"/>
                <a:ext cx="377640" cy="383760"/>
                <a:chOff x="5057640" y="4712040"/>
                <a:chExt cx="377640" cy="3837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5126400" y="471204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5057640" y="471204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5435640" y="4712040"/>
                <a:ext cx="377640" cy="383760"/>
                <a:chOff x="5435640" y="4712040"/>
                <a:chExt cx="377640" cy="3837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5504400" y="471204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435640" y="471204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5813640" y="4712040"/>
                <a:ext cx="377640" cy="383760"/>
                <a:chOff x="5813640" y="4712040"/>
                <a:chExt cx="377640" cy="3837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5882400" y="471204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813640" y="471204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6191640" y="4712040"/>
                <a:ext cx="377280" cy="383760"/>
                <a:chOff x="6191640" y="4712040"/>
                <a:chExt cx="377280" cy="3837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6260040" y="471204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6191640" y="471204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6569280" y="4712040"/>
                <a:ext cx="377640" cy="383760"/>
                <a:chOff x="6569280" y="4712040"/>
                <a:chExt cx="377640" cy="3837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6638040" y="471204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569280" y="471204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947280" y="4712040"/>
                <a:ext cx="377640" cy="383760"/>
                <a:chOff x="6947280" y="4712040"/>
                <a:chExt cx="377640" cy="3837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016040" y="471204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947280" y="471204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325280" y="4712040"/>
                <a:ext cx="377280" cy="383760"/>
                <a:chOff x="7325280" y="4712040"/>
                <a:chExt cx="377280" cy="3837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325280" y="4712040"/>
                  <a:ext cx="37728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3" name=""/>
                <p:cNvGrpSpPr/>
                <p:nvPr/>
              </p:nvGrpSpPr>
              <p:grpSpPr>
                <a:xfrm>
                  <a:off x="7325280" y="4712040"/>
                  <a:ext cx="376920" cy="383760"/>
                  <a:chOff x="7325280" y="4712040"/>
                  <a:chExt cx="376920" cy="383760"/>
                </a:xfrm>
              </p:grpSpPr>
              <p:sp>
                <p:nvSpPr>
                  <p:cNvPr id="584" name=""/>
                  <p:cNvSpPr/>
                  <p:nvPr/>
                </p:nvSpPr>
                <p:spPr>
                  <a:xfrm>
                    <a:off x="7393680" y="4712040"/>
                    <a:ext cx="24012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7325280" y="4712040"/>
                    <a:ext cx="37692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6" name=""/>
              <p:cNvGrpSpPr/>
              <p:nvPr/>
            </p:nvGrpSpPr>
            <p:grpSpPr>
              <a:xfrm>
                <a:off x="7702920" y="4712040"/>
                <a:ext cx="377640" cy="383760"/>
                <a:chOff x="7702920" y="4712040"/>
                <a:chExt cx="377640" cy="38376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7702920" y="4712040"/>
                  <a:ext cx="37764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8" name=""/>
                <p:cNvGrpSpPr/>
                <p:nvPr/>
              </p:nvGrpSpPr>
              <p:grpSpPr>
                <a:xfrm>
                  <a:off x="7702920" y="4712040"/>
                  <a:ext cx="377280" cy="383760"/>
                  <a:chOff x="7702920" y="4712040"/>
                  <a:chExt cx="377280" cy="38376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>
                    <a:off x="7771680" y="4712040"/>
                    <a:ext cx="23976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7702920" y="4712040"/>
                    <a:ext cx="37728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1" name=""/>
              <p:cNvGrpSpPr/>
              <p:nvPr/>
            </p:nvGrpSpPr>
            <p:grpSpPr>
              <a:xfrm>
                <a:off x="8080920" y="4712040"/>
                <a:ext cx="377640" cy="383760"/>
                <a:chOff x="8080920" y="4712040"/>
                <a:chExt cx="377640" cy="38376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8149680" y="471204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8080920" y="471204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8458920" y="4712040"/>
                <a:ext cx="377280" cy="383760"/>
                <a:chOff x="8458920" y="4712040"/>
                <a:chExt cx="377280" cy="38376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8527320" y="471204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8458920" y="471204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233280" y="5096160"/>
                <a:ext cx="2934720" cy="383760"/>
                <a:chOff x="233280" y="5096160"/>
                <a:chExt cx="2934720" cy="38376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302040" y="5096160"/>
                  <a:ext cx="279684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457200" indent="-4572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8.  Pembentangan dalam mesyuarat J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</a:rPr>
                    <a:t>     </a:t>
                  </a: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</a:rPr>
                    <a:t>peringkat daerah/neger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33280" y="5096160"/>
                  <a:ext cx="29347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3168360" y="5096160"/>
                <a:ext cx="377640" cy="383760"/>
                <a:chOff x="3168360" y="5096160"/>
                <a:chExt cx="377640" cy="38376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3237120" y="50961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168360" y="50961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3546360" y="5096160"/>
                <a:ext cx="377280" cy="383760"/>
                <a:chOff x="3546360" y="5096160"/>
                <a:chExt cx="377280" cy="38376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3614760" y="509616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3546360" y="509616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3924000" y="5096160"/>
                <a:ext cx="377640" cy="383760"/>
                <a:chOff x="3924000" y="5096160"/>
                <a:chExt cx="377640" cy="38376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3992760" y="50961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924000" y="50961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4302000" y="5096160"/>
                <a:ext cx="377640" cy="383760"/>
                <a:chOff x="4302000" y="5096160"/>
                <a:chExt cx="377640" cy="38376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4370760" y="50961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302000" y="50961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4680000" y="5096160"/>
                <a:ext cx="377280" cy="383760"/>
                <a:chOff x="4680000" y="5096160"/>
                <a:chExt cx="377280" cy="38376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4748400" y="509616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680000" y="509616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5057640" y="5096160"/>
                <a:ext cx="377640" cy="383760"/>
                <a:chOff x="5057640" y="5096160"/>
                <a:chExt cx="377640" cy="3837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5126400" y="509616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5057640" y="50961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5435640" y="5096160"/>
                <a:ext cx="377640" cy="383760"/>
                <a:chOff x="5435640" y="5096160"/>
                <a:chExt cx="377640" cy="38376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5504400" y="50961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435640" y="50961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5813640" y="5096160"/>
                <a:ext cx="377640" cy="383760"/>
                <a:chOff x="5813640" y="5096160"/>
                <a:chExt cx="377640" cy="3837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5882400" y="50961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813640" y="50961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6191640" y="5096160"/>
                <a:ext cx="377280" cy="383760"/>
                <a:chOff x="6191640" y="5096160"/>
                <a:chExt cx="377280" cy="38376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6260040" y="509616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191640" y="509616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6569280" y="5096160"/>
                <a:ext cx="377640" cy="383760"/>
                <a:chOff x="6569280" y="5096160"/>
                <a:chExt cx="377640" cy="3837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6638040" y="50961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6569280" y="50961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6947280" y="5096160"/>
                <a:ext cx="377640" cy="383760"/>
                <a:chOff x="6947280" y="5096160"/>
                <a:chExt cx="377640" cy="38376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7016040" y="50961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6947280" y="50961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7325280" y="5096160"/>
                <a:ext cx="377280" cy="383760"/>
                <a:chOff x="7325280" y="5096160"/>
                <a:chExt cx="377280" cy="3837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7393680" y="509616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7325280" y="509616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7702920" y="5096160"/>
                <a:ext cx="377640" cy="383760"/>
                <a:chOff x="7702920" y="5096160"/>
                <a:chExt cx="377640" cy="38376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7771680" y="50961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7702920" y="50961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8080920" y="5096160"/>
                <a:ext cx="377640" cy="383760"/>
                <a:chOff x="8080920" y="5096160"/>
                <a:chExt cx="377640" cy="38376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8080920" y="5096160"/>
                  <a:ext cx="37764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1" name=""/>
                <p:cNvGrpSpPr/>
                <p:nvPr/>
              </p:nvGrpSpPr>
              <p:grpSpPr>
                <a:xfrm>
                  <a:off x="8080920" y="5096160"/>
                  <a:ext cx="377280" cy="383760"/>
                  <a:chOff x="8080920" y="5096160"/>
                  <a:chExt cx="377280" cy="383760"/>
                </a:xfrm>
              </p:grpSpPr>
              <p:sp>
                <p:nvSpPr>
                  <p:cNvPr id="642" name=""/>
                  <p:cNvSpPr/>
                  <p:nvPr/>
                </p:nvSpPr>
                <p:spPr>
                  <a:xfrm>
                    <a:off x="8149680" y="5096160"/>
                    <a:ext cx="23976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8080920" y="5096160"/>
                    <a:ext cx="37728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44" name=""/>
              <p:cNvGrpSpPr/>
              <p:nvPr/>
            </p:nvGrpSpPr>
            <p:grpSpPr>
              <a:xfrm>
                <a:off x="8458920" y="5096160"/>
                <a:ext cx="377280" cy="383760"/>
                <a:chOff x="8458920" y="5096160"/>
                <a:chExt cx="377280" cy="3837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8527320" y="509616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8458920" y="509616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233280" y="5479920"/>
                <a:ext cx="2934720" cy="383760"/>
                <a:chOff x="233280" y="5479920"/>
                <a:chExt cx="2934720" cy="3837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02040" y="5479920"/>
                  <a:ext cx="279684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228600" indent="-2286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9.  Pembentangan dalam seminar kebangsa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228600" indent="-2286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233280" y="5479920"/>
                  <a:ext cx="29347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3168360" y="5479920"/>
                <a:ext cx="377640" cy="383760"/>
                <a:chOff x="3168360" y="5479920"/>
                <a:chExt cx="377640" cy="3837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3237120" y="5479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3168360" y="5479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3546360" y="5479920"/>
                <a:ext cx="377280" cy="383760"/>
                <a:chOff x="3546360" y="5479920"/>
                <a:chExt cx="377280" cy="3837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3614760" y="547992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546360" y="547992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3924000" y="5479920"/>
                <a:ext cx="377640" cy="383760"/>
                <a:chOff x="3924000" y="5479920"/>
                <a:chExt cx="377640" cy="38376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3992760" y="5479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3924000" y="5479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4302000" y="5479920"/>
                <a:ext cx="377640" cy="383760"/>
                <a:chOff x="4302000" y="5479920"/>
                <a:chExt cx="377640" cy="38376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4370760" y="5479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302000" y="5479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4680000" y="5479920"/>
                <a:ext cx="377280" cy="383760"/>
                <a:chOff x="4680000" y="5479920"/>
                <a:chExt cx="377280" cy="38376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4748400" y="547992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680000" y="547992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5057640" y="5479920"/>
                <a:ext cx="377640" cy="383760"/>
                <a:chOff x="5057640" y="5479920"/>
                <a:chExt cx="377640" cy="38376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5126400" y="547992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057640" y="5479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5435640" y="5479920"/>
                <a:ext cx="377640" cy="383760"/>
                <a:chOff x="5435640" y="5479920"/>
                <a:chExt cx="377640" cy="38376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5504400" y="5479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435640" y="5479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5813640" y="5479920"/>
                <a:ext cx="377640" cy="383760"/>
                <a:chOff x="5813640" y="5479920"/>
                <a:chExt cx="377640" cy="38376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5882400" y="5479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813640" y="5479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6191640" y="5479920"/>
                <a:ext cx="377280" cy="383760"/>
                <a:chOff x="6191640" y="5479920"/>
                <a:chExt cx="377280" cy="38376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6260040" y="547992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191640" y="547992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6569280" y="5479920"/>
                <a:ext cx="377640" cy="383760"/>
                <a:chOff x="6569280" y="5479920"/>
                <a:chExt cx="377640" cy="38376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6638040" y="5479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569280" y="5479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6947280" y="5479920"/>
                <a:ext cx="377640" cy="383760"/>
                <a:chOff x="6947280" y="5479920"/>
                <a:chExt cx="377640" cy="38376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7016040" y="5479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947280" y="5479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7325280" y="5479920"/>
                <a:ext cx="377280" cy="383760"/>
                <a:chOff x="7325280" y="5479920"/>
                <a:chExt cx="377280" cy="38376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7393680" y="547992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7325280" y="547992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7702920" y="5479920"/>
                <a:ext cx="377640" cy="383760"/>
                <a:chOff x="7702920" y="5479920"/>
                <a:chExt cx="377640" cy="38376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7771680" y="5479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7702920" y="5479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8080920" y="5479920"/>
                <a:ext cx="377640" cy="383760"/>
                <a:chOff x="8080920" y="5479920"/>
                <a:chExt cx="377640" cy="38376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8149680" y="5479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8080920" y="5479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8458920" y="5479920"/>
                <a:ext cx="377280" cy="383760"/>
                <a:chOff x="8458920" y="5479920"/>
                <a:chExt cx="377280" cy="38376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8458920" y="5479920"/>
                  <a:ext cx="37728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8458920" y="5479920"/>
                  <a:ext cx="376920" cy="383760"/>
                  <a:chOff x="8458920" y="5479920"/>
                  <a:chExt cx="376920" cy="38376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8527320" y="5479920"/>
                    <a:ext cx="24012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8458920" y="5479920"/>
                    <a:ext cx="37692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97" name=""/>
            <p:cNvSpPr/>
            <p:nvPr/>
          </p:nvSpPr>
          <p:spPr>
            <a:xfrm>
              <a:off x="228600" y="1600200"/>
              <a:ext cx="8613360" cy="4267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533520" y="304920"/>
            <a:ext cx="990360" cy="914400"/>
          </a:xfrm>
          <a:custGeom>
            <a:avLst/>
            <a:gdLst>
              <a:gd name="textAreaLeft" fmla="*/ 226080 w 990360"/>
              <a:gd name="textAreaRight" fmla="*/ 764280 w 99036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1752480" y="533520"/>
            <a:ext cx="7162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ENILAIAN KE ATAS PELAN TINDAKAN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0" name=""/>
          <p:cNvSpPr/>
          <p:nvPr/>
        </p:nvSpPr>
        <p:spPr>
          <a:xfrm>
            <a:off x="533520" y="1219320"/>
            <a:ext cx="83055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MIMPIN ORGANISASI PERLU ADA KAEDAH UN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ILAI SESUATU HAS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INGKAT AWAL PERANCANGAN STRATEGI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RAKHIR.  PERINGKAT AKHIR ADALA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TERJEMAHKAN PELAN KEPADA TINDAK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N MENENTUKAN TINDAKAN SETERUSNY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RDASARKAN PENILAIAN KE ATAS HAS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1600200"/>
            <a:ext cx="609480" cy="457200"/>
          </a:xfrm>
          <a:custGeom>
            <a:avLst/>
            <a:gdLst>
              <a:gd name="textAreaLeft" fmla="*/ 9504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2666880"/>
            <a:ext cx="609480" cy="457200"/>
          </a:xfrm>
          <a:custGeom>
            <a:avLst/>
            <a:gdLst>
              <a:gd name="textAreaLeft" fmla="*/ 9504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" y="5105520"/>
            <a:ext cx="2209680" cy="99036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ILA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5410080"/>
            <a:ext cx="609480" cy="381240"/>
          </a:xfrm>
          <a:custGeom>
            <a:avLst/>
            <a:gdLst>
              <a:gd name="textAreaLeft" fmla="*/ 7596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200400" y="4495680"/>
            <a:ext cx="5638680" cy="213372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PUTUSAN KE ATAS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LEH DITERUS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LU SEDIKIT UBAHSU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LU DIROMB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LEH DITAMATK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1600200" y="990720"/>
            <a:ext cx="556272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66ff33"/>
                  </a:solidFill>
                  <a:miter/>
                </a:ln>
                <a:solidFill>
                  <a:srgbClr val="9900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FLEKSI</a:t>
            </a:r>
            <a:endParaRPr b="0" lang="en-US" sz="2400" spc="1" strike="noStrike">
              <a:ln w="12600">
                <a:solidFill>
                  <a:srgbClr val="66ff33"/>
                </a:solidFill>
                <a:miter/>
              </a:ln>
              <a:solidFill>
                <a:srgbClr val="9900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7" name=""/>
          <p:cNvSpPr/>
          <p:nvPr/>
        </p:nvSpPr>
        <p:spPr>
          <a:xfrm>
            <a:off x="990720" y="2209680"/>
            <a:ext cx="7924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DAHKAH ANDA MEMAHAMI DAN BOLE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ERANGKAN SEMULA BEBERAPA H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NTANG PERANCANGAN STRATEGIK SEPER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ONSEP,  LANGKAH SERTA PROSES BERKAIT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NERANGAN BERIKUT INI DIHARAP DAP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AMBAHKAN LAGI KEFAHAMAN TENTA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ANCANGAN STRATEGIK DAN BOLE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LAKSANAKAN DALAM ORGANISASI AN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28600" y="236232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04920" y="419112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609480" y="228600"/>
            <a:ext cx="82296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TRATEGI UNTUK KEJAYA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IBATKAN RAMAI STAF DALAM MENENTU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UJUAN DAN MATLA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BAIKI KOMUNIKASI DAN BINA KER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RPASUKAN DI KALANGAN STA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ENALPASTI APA YANG TERPENTING UNTU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RGANISASI : JELASKAN TUJUANNY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LAN TINDAKAN MESTI BOLEH DIUK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JUDKAN RASA BERSAMA DALAM PR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MBUAT KEPUTUS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533520" y="457200"/>
            <a:ext cx="83055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ILA PERANCANGAN STRATEGIK GAG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RGANISASI TIADA KAWALAN KE ATAS BUDG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DAK SERTA SEPANJANG PROSES DAN TID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OLEH MEMBUAT KEPUTUS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ANCANGAN HANYA SEBAGAI ILUSI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AJIAN SEMULA SESEBUAH ORGANIS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ILA HANYA SEBAGAI PROSES MENGUMPU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KLUMAT YANG BERPANJANG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RLALU RIGID DAN TIDAK MENGAMBILK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UBAHAN DALAMAN DAN LUAR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 txBox="1"/>
          <p:nvPr/>
        </p:nvSpPr>
        <p:spPr>
          <a:xfrm>
            <a:off x="1523880" y="2209680"/>
            <a:ext cx="63248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EKIAN TERIMA KASIH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3" name=""/>
          <p:cNvSpPr/>
          <p:nvPr/>
        </p:nvSpPr>
        <p:spPr>
          <a:xfrm>
            <a:off x="228600" y="5410080"/>
            <a:ext cx="4800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ohamad Nor Bin Mohamad Taib ( Dr. NorTai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BPPDP/Julai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E-mail: nortaib@hotmail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 rot="21295800">
            <a:off x="0" y="456840"/>
            <a:ext cx="50292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ERANCANGAN STRATEGI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1295280"/>
            <a:ext cx="693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ATU PROSES YANG BERSTRUKTUR UNTUK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9051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JELASKAN DAN/ATAU MEMASTIKAN MATLA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RGANIS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GENALPASTI BIDANG KRITIKAL BERASASK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SEKITARAN DALAMAN DAN LUAR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MBENTUK SET HASIL/KEPUTUSAN YANG DIINGI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LIBATKAN STAF YANG BERTANGGUNG JAWA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LAKSANAKAN SESUATU TUGAS YANG AK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MBAWA KEPADA PROSES MEMBUAT KEPUTUS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GINTERGRASIKAN PELAN ORGANISASI DEN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ANCANGAN DAN BUDGET ORGANISASI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05740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8195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581280"/>
            <a:ext cx="533520" cy="381240"/>
          </a:xfrm>
          <a:prstGeom prst="rightArrow">
            <a:avLst>
              <a:gd name="adj1" fmla="val 50000"/>
              <a:gd name="adj2" fmla="val 3498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9625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02920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9436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ORGANISASI = PANITIA PENDIDIKAN ISLA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ERSATUAN GURU P.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22860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DEL HUBUNGAN PERANCANGAN STRATEGI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NGAN ORGANISASI JURULATIH UT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1066680"/>
            <a:ext cx="297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ADAN BERKU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1905120"/>
            <a:ext cx="27432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RANCANG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STRATEG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3352680"/>
            <a:ext cx="20574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NDA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5867280"/>
            <a:ext cx="20574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ILA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4572000"/>
            <a:ext cx="2057400" cy="7621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K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T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447920"/>
            <a:ext cx="198144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CAN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URIKUL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362320"/>
            <a:ext cx="198144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ANJAW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352680"/>
            <a:ext cx="198144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LA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1447920"/>
            <a:ext cx="198144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ILAIA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IH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2438280"/>
            <a:ext cx="198144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KHIDMAT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RU P.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3429000"/>
            <a:ext cx="198144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UNGA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1523880"/>
            <a:ext cx="0" cy="381240"/>
          </a:xfrm>
          <a:prstGeom prst="line">
            <a:avLst/>
          </a:prstGeom>
          <a:ln w="3816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2819520"/>
            <a:ext cx="0" cy="533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5334120"/>
            <a:ext cx="0" cy="533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3962520"/>
            <a:ext cx="0" cy="533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1828800"/>
            <a:ext cx="761760" cy="380880"/>
          </a:xfrm>
          <a:prstGeom prst="line">
            <a:avLst/>
          </a:prstGeom>
          <a:ln w="3816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610360" y="2367000"/>
            <a:ext cx="799200" cy="295200"/>
          </a:xfrm>
          <a:prstGeom prst="line">
            <a:avLst/>
          </a:prstGeom>
          <a:ln w="3816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595240" y="2817360"/>
            <a:ext cx="888120" cy="795240"/>
          </a:xfrm>
          <a:prstGeom prst="line">
            <a:avLst/>
          </a:prstGeom>
          <a:ln w="3816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073560" y="1914480"/>
            <a:ext cx="731160" cy="437400"/>
          </a:xfrm>
          <a:prstGeom prst="line">
            <a:avLst/>
          </a:prstGeom>
          <a:ln w="3816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68160" y="2583360"/>
            <a:ext cx="741240" cy="256320"/>
          </a:xfrm>
          <a:prstGeom prst="line">
            <a:avLst/>
          </a:prstGeom>
          <a:ln w="3816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2819520"/>
            <a:ext cx="685800" cy="761760"/>
          </a:xfrm>
          <a:prstGeom prst="line">
            <a:avLst/>
          </a:prstGeom>
          <a:ln w="3816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61800" y="723960"/>
            <a:ext cx="84013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PERANCANGAN BESTARI (SMART PLANNING)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3505320"/>
            <a:ext cx="2210040" cy="9903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.M.A.R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4495680"/>
            <a:ext cx="2210040" cy="990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4495680"/>
            <a:ext cx="2210040" cy="990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2666880"/>
            <a:ext cx="220968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1905120"/>
            <a:ext cx="2209680" cy="990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72200" y="2590920"/>
            <a:ext cx="2362320" cy="990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2971800"/>
            <a:ext cx="380880" cy="533520"/>
          </a:xfrm>
          <a:prstGeom prst="upArrow">
            <a:avLst>
              <a:gd name="adj1" fmla="val 50000"/>
              <a:gd name="adj2" fmla="val 35019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3672800">
            <a:off x="2895480" y="403848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7848800">
            <a:off x="2819520" y="3276000"/>
            <a:ext cx="381240" cy="533520"/>
          </a:xfrm>
          <a:prstGeom prst="upArrow">
            <a:avLst>
              <a:gd name="adj1" fmla="val 50000"/>
              <a:gd name="adj2" fmla="val 3498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7719600">
            <a:off x="5638320" y="40381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3601800">
            <a:off x="5715000" y="3124080"/>
            <a:ext cx="380880" cy="533520"/>
          </a:xfrm>
          <a:prstGeom prst="upArrow">
            <a:avLst>
              <a:gd name="adj1" fmla="val 50000"/>
              <a:gd name="adj2" fmla="val 35019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762120" y="380880"/>
            <a:ext cx="78483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ccff66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ERANCANGAN STRATEGIK DI SEKOLAH:</a:t>
            </a:r>
            <a:endParaRPr b="0" i="1" lang="en-US" sz="2000" spc="1" strike="noStrike">
              <a:ln w="9360">
                <a:solidFill>
                  <a:srgbClr val="ccff66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MELIBATK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JANGKA MASA YANG PANJA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SA DEPAN SEKOLA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END MASA DEPAN KEADAAN DI LUAR SEKOLA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MBER SEMASA DAN SUMBER MASA DEP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KEBAIK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GETAHUI FAKTOR-FAKTOR PEN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KLUMAT DAN REAKSI DARI KUMPULAN BES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GETAHUI PERANCANGAN KESELURUH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RGANIS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GETAHUI PELUANG DAN KEKANG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GENALPASTI DENGAN MUDAH KEPUT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RATEGIK DAN KEPUTUSAN L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GETAHUI KRITIKAN MEMBINA ORANG L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533520"/>
            <a:ext cx="80773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66ff33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8 LANGKAH DALAM PROSES PERANCANGAN STRATEGIK</a:t>
            </a:r>
            <a:endParaRPr b="0" lang="en-US" sz="2000" spc="1" strike="noStrike">
              <a:ln w="9360">
                <a:solidFill>
                  <a:srgbClr val="66ff33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762120"/>
            <a:ext cx="8381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A-PERANCANGAN:  KENAPA MERANCA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IAPA AKAN MERANCA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MBENTUK PERNYATAAN MI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ALISIS S.W.O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GENALPASTI ‘KEY RESULT AREAS’ (K.R.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MBENTUK MATLAMAT/KEPUTUSAN YA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INGINI DALAM LINGKUNGAN K.R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MBENTUK PELAN TINDAK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LAKSANAKAN PELAN TINDAK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ILAI HASIL DARIPADA PELAN TINDAK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981080" y="838080"/>
            <a:ext cx="571500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ROSES PRA-PERANCANGAN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7524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.   DAPATKAN SOKONGAN KAKITANGAN PE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NTANG NILAI PERANCANGAN STRATEG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   DAPATKAN SOKONGAN SEMUA KAKITANG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.  MEMBINA KOMITMEN SUMBER:  KEWANGAN D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.  MEMBINA JADUAL DAN JANGKA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57200"/>
            <a:ext cx="1143000" cy="990720"/>
          </a:xfrm>
          <a:custGeom>
            <a:avLst/>
            <a:gdLst>
              <a:gd name="textAreaLeft" fmla="*/ 261000 w 1143000"/>
              <a:gd name="textAreaRight" fmla="*/ 882000 w 114300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848720" y="6400800"/>
            <a:ext cx="102852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NORTAIB/EPRD</a:t>
            </a:r>
            <a:endParaRPr b="0" i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228600"/>
            <a:ext cx="1218960" cy="1143000"/>
          </a:xfrm>
          <a:custGeom>
            <a:avLst/>
            <a:gdLst>
              <a:gd name="textAreaLeft" fmla="*/ 278280 w 1218960"/>
              <a:gd name="textAreaRight" fmla="*/ 940680 w 1218960"/>
              <a:gd name="textAreaTop" fmla="*/ 261000 h 1143000"/>
              <a:gd name="textAreaBottom" fmla="*/ 88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133720" y="304920"/>
            <a:ext cx="6429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EMBENTUK PERNYATAAN MISI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(MISSION STATEMENT)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5238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TIAP ORGANISASI PERLU MENJAWAB SOA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IAPA KI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PA YANG KITA BUAT DAN UNTUK SI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ENAPA DAN BAGAIMANA IA DILAKUK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3200400"/>
            <a:ext cx="8610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ALAN-SOALAN YANG BOLEH MELIBATKAN RAM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AF DALAM PERBINCANGAN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IAPA KI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PAKAH KEPERLUAN ASAS YANG PERL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RGANISASI PENUH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PAKAH YANG PERLU DIBUAT UNTUK MEMENUH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UNTUTAN ATAU MENYELESAIKAN MASALA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AGAIMANA KITA RESPON KEPADA PELANG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PAKAH FALSAFAH DAN NILAI UTAMA KI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PAKAH YANG MENYEBABKAN ORGANISASI ITU UNIK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600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004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9T21:26:54Z</dcterms:created>
  <dc:creator>DR. MOHD. NOR</dc:creator>
  <dc:description/>
  <dc:language>en-US</dc:language>
  <cp:lastModifiedBy>Windows XP</cp:lastModifiedBy>
  <cp:lastPrinted>2000-10-03T03:19:50Z</cp:lastPrinted>
  <dcterms:modified xsi:type="dcterms:W3CDTF">2003-08-13T05:42:26Z</dcterms:modified>
  <cp:revision>56</cp:revision>
  <dc:subject/>
  <dc:title>PowerPoint Presentation</dc:title>
</cp:coreProperties>
</file>