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44A-43BC-42AD-BFD3-D59A8576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3BC-E634-4F53-8DF4-3D2D71B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EBC-F275-446A-925B-1CEDAC47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54D-0539-4D58-AAAD-D5F83A57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2D4-7654-44F3-A464-DA957E3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B43-E5FA-47B2-94FE-8EFED45C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DDE-E44D-43E9-81D8-AF02B53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BDF-5E28-4B75-AD7F-FE5B4CB7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B29-675E-4BCA-AB77-01E4C212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2BC-262A-489C-81E1-A105414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8B4-C504-43AB-B370-58FAE0F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DFA-9EF3-43DA-9C3C-750C1C4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40BE-2A65-484E-9B62-A529B41F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36232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ERANCANGAN STRATEGIK: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ONSEP DAN PELAKSANAAN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KURSUS KHAS JURULATIH DAKWA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GURU PENDIDIKAN ISLAM, FASA 2/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572000"/>
            <a:ext cx="5867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TEL GRAND CONTINENT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ORDE INN, KLIA SEP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 OGOS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 MUDAH DIING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 MUDAH UNTUK DITERJEMAH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 BERTUJUAN UNTUK MENINGKATKAN KUAL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 PERNYATAAN JANGKA PANJANG 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 FOKUS KEPADA PELANG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 FLEKSI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RI-CIRI PERNYATAAN MI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47920" y="304920"/>
            <a:ext cx="6400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TOH PERNYATAAN MISI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KEMENTERIAN PENDIDI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O DEVELOP A WORLD CLASS OF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DUCATION SYSTEM WHICH WILL REAL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LL POTENTIAL OF THE INDIVIDUAL AND FUL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HE ASPIRATION OF THE MALAYSIAN N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2004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JAPIM (CONTO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NERAJUI PENGURUSAN DASAR PENDIDI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SLAM, BAHASA ARAB DAN PENDEKATAN DAKW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BERHIKMAH SELARI DENGAN ASPIRASI FALSAF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ENDIDIKAN KEBANGSA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30492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62320" y="609480"/>
            <a:ext cx="4952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ALISIS S.W.O.T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743200"/>
            <a:ext cx="2895480" cy="1447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 A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S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280000">
            <a:off x="2590560" y="243792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213200">
            <a:off x="2590560" y="40384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295280"/>
            <a:ext cx="5257800" cy="228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EKITARAN DALAM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ENGTHS &amp; WEAKNESS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 YANG TELAH DIBUAT DENGAN BAI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KAH KEKUATAN ORGANISA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KAH KELEMAHAN ORGANISA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DANG APA YANG PERLU PEMBAIK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3962520"/>
            <a:ext cx="5257800" cy="259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EKITARAN LUA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IES &amp; THREAT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YEDARI BEBERAPA PERUBA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LUAR ORGANISASI YANG BOLE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NCAM ATAU MEMBERI PELUA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ADA KEMAJUAN ORGANISA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371600"/>
            <a:ext cx="40388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lmen yang tin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hak pengurusan yang bersemang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putusan peperiksaan yang cemer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nitia Pend. Islam yang ku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kongan ibubapa yang ba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gat guru-guru P.I. yang tin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kongan JAKIM/MTIN/Kerajaan Neg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962520"/>
            <a:ext cx="40388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joriti pelajar Melay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uang meningkatkan kemahiran gu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uang meningkatkan dana de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ganjurkan beberapa aktiv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mbinaan bangunan ba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gabung dengan sekolah jiran bole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ongsi kemuda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ru P.I berpengalaman menggubal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eriksa k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962520"/>
            <a:ext cx="403848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hilangan identiti, kekuatan dan repu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hilangan guru-guru P.I. berpengala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ana bersara aw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os sekolah jiran akan lebih terser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mungkinan kekurangan bantu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ripada pihak JPN/P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at pelajar terhadap P.I. keliha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d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371600"/>
            <a:ext cx="40384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si terjejas kerana beberapa insi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ai guru P.I. yang hampir bers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kurangan peruntukan kew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kurangan ruang bilik khas/sur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kurangan kemudahan aktiviti ibad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2860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SEDUR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‘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IGHTFORWARD AS POSSIBL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PATKAN SEBERAPA BANYAK MAKLUMAT S.W.O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2860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28840" y="533520"/>
            <a:ext cx="7334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NGENALPASTI 'KEY RESULT AREAS'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438280"/>
            <a:ext cx="2209680" cy="12956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W.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984400">
            <a:off x="317520" y="3122640"/>
            <a:ext cx="685800" cy="1219320"/>
          </a:xfrm>
          <a:custGeom>
            <a:avLst/>
            <a:gdLst>
              <a:gd name="textAreaLeft" fmla="*/ 91800 w 685800"/>
              <a:gd name="textAreaRight" fmla="*/ 594000 w 6858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886200"/>
            <a:ext cx="7696080" cy="27432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BERAPA K.R.A DIKENALPA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W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MBANGUNAN ST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YERTAAN SUK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ERLUAN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JASAMA MASYARA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AT PEL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3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BAGAI ISU-ISU STRATEGIK YANG PERLU DIAMB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NDAKAN UNTUK MEMBOLEHKAN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HADAPI TEKANAN DALAMAN DAN LU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76520" y="228600"/>
            <a:ext cx="68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NENTUKAN MATLAMAT/KEPUTUSA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ERASASKAN K.R.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PAS MENGENALPASTI K.R.A, JAWAP SOA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MATLAMAT YANG MAHU DICAPAI OLE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AGANIS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OH:  JIKA K.R.A ADALA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NINGKAT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NYERTAAN SUKAREL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APAKAH KEPUTUS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G DIINGINKAN?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NINGKATAN PESERTA SUKAR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51055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LAMAT MENENTUKAN HALATUJU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TUK  MENCAPAI KEPUTUSAN YANG DIINGI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LAMAT JANGKA PANJANG DIMANA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KAN BERUSAHA UNTUK MENCAPAINY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105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8672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8600"/>
            <a:ext cx="990720" cy="914400"/>
          </a:xfrm>
          <a:custGeom>
            <a:avLst/>
            <a:gdLst>
              <a:gd name="textAreaLeft" fmla="*/ 226080 w 990720"/>
              <a:gd name="textAreaRight" fmla="*/ 764640 w 99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00200" y="457200"/>
            <a:ext cx="7238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MBINA PELAN TINDAKAN / OPERASI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SES TERPENTING DALAM PERANCANG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TEGIK  = PELAN TINDAKAN YANG KHU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MATLAMAT SEBAGAI K.R.A. MESTI DI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TANG APA, BAGAIMANA, SIAPA DAN B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NINGKATKAN PENYERTAAN SUKARELA = 1 H. 3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MATLAMAT DALAM PELAN TINDA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ANDUNGI TARIKH TAMAT DAN OR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G DIPERTANGGUNGJAWAB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MAJUAN SESUATU TINDAKAN PERLU DINIL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BANDING DENGAN JANGKA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838080"/>
            <a:ext cx="8534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TRATEGI MELAKSANAKAN PELAN TINDAKAN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60020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HAGIKAN PELAN PEMBANGUNAN ORGANIS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PADA BEBERAPA BAHAGIAN DAN BEN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SUKAN KERJA UNTUK SETIAP BAHAG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PASUKAN PERLU MELAPOR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KEMBANGAN KEPADA 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133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28600"/>
            <a:ext cx="990720" cy="914400"/>
          </a:xfrm>
          <a:custGeom>
            <a:avLst/>
            <a:gdLst>
              <a:gd name="textAreaLeft" fmla="*/ 226080 w 990720"/>
              <a:gd name="textAreaRight" fmla="*/ 764640 w 99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76520" y="457200"/>
            <a:ext cx="7238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LAKSANAKAN PELAN TINDAKAN / OPERASI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133720"/>
            <a:ext cx="2286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133720"/>
            <a:ext cx="213336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133720"/>
            <a:ext cx="236232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 YA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TANGG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W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133720"/>
            <a:ext cx="18288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IK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H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971800"/>
            <a:ext cx="228600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ingkatk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fahaman pelaj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hadap sejarah Isl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ingkatk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fahaman pelaj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tang Ha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2971800"/>
            <a:ext cx="213336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jian Percub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971800"/>
            <a:ext cx="236232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ru P.I Ting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ajar Ting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atuan P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971800"/>
            <a:ext cx="1828800" cy="1828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4479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OH:  PELAN TINDAKAN DI PERINGKAT SEKO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81280" y="5105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TA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838080"/>
            <a:ext cx="2286000" cy="53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8380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38080"/>
            <a:ext cx="28954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AN TINDA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838080"/>
            <a:ext cx="21337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71600"/>
            <a:ext cx="2286000" cy="5029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ingkatkan tah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esionalisme gu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1371600"/>
            <a:ext cx="1371600" cy="502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371600"/>
            <a:ext cx="2895480" cy="5029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ursus untuk guru P.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lam kemahir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mbahan seperti keboleh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, bahasa kedua, buat research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Mengadakan ‘public spea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se’ kepada guru P.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gadakan kursus dakw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ara berhikmah den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ahami isu pelbagai buday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astikan semua guru P.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ghadiri kursus i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n keperluan globalisas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a tuju &amp; dasar nega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1371600"/>
            <a:ext cx="2133720" cy="5029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kurang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mahiran khas p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ru P.I seper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lbagai kaed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gajar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jian tindak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hasa kedu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1752480"/>
            <a:ext cx="152280" cy="3505320"/>
          </a:xfrm>
          <a:custGeom>
            <a:avLst/>
            <a:gdLst>
              <a:gd name="textAreaLeft" fmla="*/ 0 w 152280"/>
              <a:gd name="textAreaRight" fmla="*/ 55080 w 1522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30481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tua Pani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ua gu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819520"/>
            <a:ext cx="8534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A TIGA JENIS KUMPULAN GURU P.I.  IAI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YEBABKAN KEMEROSOTAN BERLA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IHAT SESUATU KEMEROSOTAN BERLA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IRAN KENAPA KEMEROSOTAN TELAH BERLA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1143000"/>
            <a:ext cx="586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ENAPA PERLU PERANCANGAN 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848720" y="6400800"/>
            <a:ext cx="10285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RTAIB/EPRD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1337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SU:  KEMEROSOTAN PENCAPAIAN  SUBJEK AG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SLAM DALAM PEPERIKS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95280" y="6858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PROGRAM DAKW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8600" y="1600200"/>
            <a:ext cx="8613360" cy="4267080"/>
            <a:chOff x="228600" y="1600200"/>
            <a:chExt cx="8613360" cy="4267080"/>
          </a:xfrm>
        </p:grpSpPr>
        <p:grpSp>
          <p:nvGrpSpPr>
            <p:cNvPr id="165" name=""/>
            <p:cNvGrpSpPr/>
            <p:nvPr/>
          </p:nvGrpSpPr>
          <p:grpSpPr>
            <a:xfrm>
              <a:off x="233280" y="1602720"/>
              <a:ext cx="8602920" cy="4260960"/>
              <a:chOff x="233280" y="1602720"/>
              <a:chExt cx="8602920" cy="426096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33280" y="1602720"/>
                <a:ext cx="2934720" cy="365760"/>
                <a:chOff x="233280" y="1602720"/>
                <a:chExt cx="2934720" cy="365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2040" y="1602720"/>
                  <a:ext cx="27968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Bulan tahun 20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3280" y="1602720"/>
                  <a:ext cx="293472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168360" y="1602720"/>
                <a:ext cx="1133280" cy="365760"/>
                <a:chOff x="3168360" y="1602720"/>
                <a:chExt cx="1133280" cy="365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237120" y="1602720"/>
                  <a:ext cx="995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Januar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68360" y="1602720"/>
                  <a:ext cx="1133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02000" y="1602720"/>
                <a:ext cx="1511280" cy="365760"/>
                <a:chOff x="4302000" y="1602720"/>
                <a:chExt cx="1511280" cy="3657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370760" y="1602720"/>
                  <a:ext cx="1373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Februar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02000" y="1602720"/>
                  <a:ext cx="1511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813640" y="1602720"/>
                <a:ext cx="1511280" cy="365760"/>
                <a:chOff x="5813640" y="1602720"/>
                <a:chExt cx="1511280" cy="3657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882400" y="1602720"/>
                  <a:ext cx="137340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Ma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13640" y="1602720"/>
                  <a:ext cx="1511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325280" y="1602720"/>
                <a:ext cx="1510920" cy="365760"/>
                <a:chOff x="7325280" y="1602720"/>
                <a:chExt cx="1510920" cy="365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393680" y="1602720"/>
                  <a:ext cx="1373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Apri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5280" y="1602720"/>
                  <a:ext cx="151092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33280" y="1968480"/>
                <a:ext cx="2934720" cy="365760"/>
                <a:chOff x="233280" y="1968480"/>
                <a:chExt cx="2934720" cy="365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2040" y="1968480"/>
                  <a:ext cx="27968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Aktiviti/Mingg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33280" y="1968480"/>
                  <a:ext cx="293472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168360" y="1968480"/>
                <a:ext cx="377640" cy="365760"/>
                <a:chOff x="3168360" y="1968480"/>
                <a:chExt cx="377640" cy="3657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23712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16836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46360" y="1968480"/>
                <a:ext cx="377280" cy="365760"/>
                <a:chOff x="3546360" y="1968480"/>
                <a:chExt cx="377280" cy="365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1476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4636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924000" y="1968480"/>
                <a:ext cx="377640" cy="365760"/>
                <a:chOff x="3924000" y="1968480"/>
                <a:chExt cx="377640" cy="365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99276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2400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302000" y="1968480"/>
                <a:ext cx="377640" cy="365760"/>
                <a:chOff x="4302000" y="1968480"/>
                <a:chExt cx="377640" cy="3657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37076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30200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80000" y="1968480"/>
                <a:ext cx="377280" cy="365760"/>
                <a:chOff x="4680000" y="1968480"/>
                <a:chExt cx="377280" cy="365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74840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8000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057640" y="1968480"/>
                <a:ext cx="377640" cy="365760"/>
                <a:chOff x="5057640" y="1968480"/>
                <a:chExt cx="377640" cy="3657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640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5764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435640" y="1968480"/>
                <a:ext cx="377640" cy="365760"/>
                <a:chOff x="5435640" y="1968480"/>
                <a:chExt cx="377640" cy="3657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0440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43564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813640" y="1968480"/>
                <a:ext cx="377640" cy="365760"/>
                <a:chOff x="5813640" y="1968480"/>
                <a:chExt cx="377640" cy="365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88240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81364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91640" y="1968480"/>
                <a:ext cx="377280" cy="365760"/>
                <a:chOff x="6191640" y="1968480"/>
                <a:chExt cx="377280" cy="365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26004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9164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569280" y="1968480"/>
                <a:ext cx="377640" cy="365760"/>
                <a:chOff x="6569280" y="1968480"/>
                <a:chExt cx="377640" cy="365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63804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56928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947280" y="1968480"/>
                <a:ext cx="377640" cy="365760"/>
                <a:chOff x="6947280" y="1968480"/>
                <a:chExt cx="377640" cy="365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01604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94728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325280" y="1968480"/>
                <a:ext cx="377280" cy="365760"/>
                <a:chOff x="7325280" y="1968480"/>
                <a:chExt cx="377280" cy="3657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39368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2528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02920" y="1968480"/>
                <a:ext cx="377640" cy="365760"/>
                <a:chOff x="7702920" y="1968480"/>
                <a:chExt cx="377640" cy="365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77168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0292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080920" y="1968480"/>
                <a:ext cx="377640" cy="365760"/>
                <a:chOff x="8080920" y="1968480"/>
                <a:chExt cx="377640" cy="3657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149680" y="1968480"/>
                  <a:ext cx="239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80920" y="1968480"/>
                  <a:ext cx="37764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8458920" y="1968480"/>
                <a:ext cx="377280" cy="365760"/>
                <a:chOff x="8458920" y="1968480"/>
                <a:chExt cx="377280" cy="365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8527320" y="1968480"/>
                  <a:ext cx="2401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458920" y="1968480"/>
                  <a:ext cx="377280" cy="36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33280" y="2334600"/>
                <a:ext cx="2934720" cy="383760"/>
                <a:chOff x="233280" y="2334600"/>
                <a:chExt cx="2934720" cy="3837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02040" y="233460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1.  Sesi brainstorming antara JU &amp; guru P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33280" y="233460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168360" y="2334600"/>
                <a:ext cx="377640" cy="383760"/>
                <a:chOff x="3168360" y="2334600"/>
                <a:chExt cx="377640" cy="3837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168360" y="23346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3168360" y="2334600"/>
                  <a:ext cx="377280" cy="383760"/>
                  <a:chOff x="3168360" y="2334600"/>
                  <a:chExt cx="377280" cy="3837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3237120" y="233460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168360" y="23346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3546360" y="2334600"/>
                <a:ext cx="377280" cy="383760"/>
                <a:chOff x="3546360" y="2334600"/>
                <a:chExt cx="377280" cy="383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546360" y="233460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3546360" y="2334600"/>
                  <a:ext cx="376920" cy="383760"/>
                  <a:chOff x="3546360" y="2334600"/>
                  <a:chExt cx="376920" cy="3837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14760" y="233460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46360" y="233460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3924000" y="2334600"/>
                <a:ext cx="377640" cy="383760"/>
                <a:chOff x="3924000" y="2334600"/>
                <a:chExt cx="377640" cy="383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99276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2400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302000" y="2334600"/>
                <a:ext cx="377640" cy="383760"/>
                <a:chOff x="4302000" y="2334600"/>
                <a:chExt cx="377640" cy="383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37076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30200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680000" y="2334600"/>
                <a:ext cx="377280" cy="383760"/>
                <a:chOff x="4680000" y="2334600"/>
                <a:chExt cx="377280" cy="383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74840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00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057640" y="2334600"/>
                <a:ext cx="377640" cy="383760"/>
                <a:chOff x="5057640" y="2334600"/>
                <a:chExt cx="377640" cy="383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12640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05764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435640" y="2334600"/>
                <a:ext cx="377640" cy="383760"/>
                <a:chOff x="5435640" y="2334600"/>
                <a:chExt cx="377640" cy="383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50440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43564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13640" y="2334600"/>
                <a:ext cx="377640" cy="383760"/>
                <a:chOff x="5813640" y="2334600"/>
                <a:chExt cx="377640" cy="3837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8240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1364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191640" y="2334600"/>
                <a:ext cx="377280" cy="383760"/>
                <a:chOff x="6191640" y="2334600"/>
                <a:chExt cx="377280" cy="383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26004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9164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569280" y="2334600"/>
                <a:ext cx="377640" cy="383760"/>
                <a:chOff x="6569280" y="2334600"/>
                <a:chExt cx="377640" cy="383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63804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56928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947280" y="2334600"/>
                <a:ext cx="377640" cy="383760"/>
                <a:chOff x="6947280" y="2334600"/>
                <a:chExt cx="377640" cy="3837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01604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4728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325280" y="2334600"/>
                <a:ext cx="377280" cy="383760"/>
                <a:chOff x="7325280" y="2334600"/>
                <a:chExt cx="377280" cy="3837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39368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2528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702920" y="2334600"/>
                <a:ext cx="377640" cy="383760"/>
                <a:chOff x="7702920" y="2334600"/>
                <a:chExt cx="377640" cy="383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77168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70292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8080920" y="2334600"/>
                <a:ext cx="377640" cy="383760"/>
                <a:chOff x="8080920" y="2334600"/>
                <a:chExt cx="377640" cy="383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8149680" y="23346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080920" y="23346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458920" y="2334600"/>
                <a:ext cx="377280" cy="383760"/>
                <a:chOff x="8458920" y="2334600"/>
                <a:chExt cx="377280" cy="3837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527320" y="23346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458920" y="23346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33280" y="2718360"/>
                <a:ext cx="2934720" cy="383760"/>
                <a:chOff x="233280" y="2718360"/>
                <a:chExt cx="2934720" cy="383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02040" y="271836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2.  Mengkonseptual kajian/proje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3280" y="271836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168360" y="2718360"/>
                <a:ext cx="377640" cy="383760"/>
                <a:chOff x="3168360" y="2718360"/>
                <a:chExt cx="377640" cy="3837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23712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6836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546360" y="2718360"/>
                <a:ext cx="377280" cy="383760"/>
                <a:chOff x="3546360" y="2718360"/>
                <a:chExt cx="377280" cy="3837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61476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54636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924000" y="2718360"/>
                <a:ext cx="377640" cy="383760"/>
                <a:chOff x="3924000" y="2718360"/>
                <a:chExt cx="377640" cy="383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24000" y="271836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924000" y="2718360"/>
                  <a:ext cx="377280" cy="383760"/>
                  <a:chOff x="3924000" y="2718360"/>
                  <a:chExt cx="377280" cy="3837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3992760" y="271836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924000" y="271836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4302000" y="2718360"/>
                <a:ext cx="377640" cy="383760"/>
                <a:chOff x="4302000" y="2718360"/>
                <a:chExt cx="377640" cy="3837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7076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30200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680000" y="2718360"/>
                <a:ext cx="377280" cy="383760"/>
                <a:chOff x="4680000" y="2718360"/>
                <a:chExt cx="377280" cy="383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74840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68000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057640" y="2718360"/>
                <a:ext cx="377640" cy="383760"/>
                <a:chOff x="5057640" y="2718360"/>
                <a:chExt cx="377640" cy="383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12640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5764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435640" y="2718360"/>
                <a:ext cx="377640" cy="383760"/>
                <a:chOff x="5435640" y="2718360"/>
                <a:chExt cx="377640" cy="383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50440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3564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813640" y="2718360"/>
                <a:ext cx="377640" cy="383760"/>
                <a:chOff x="5813640" y="2718360"/>
                <a:chExt cx="377640" cy="383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88240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81364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191640" y="2718360"/>
                <a:ext cx="377280" cy="383760"/>
                <a:chOff x="6191640" y="2718360"/>
                <a:chExt cx="377280" cy="3837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26004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19164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569280" y="2718360"/>
                <a:ext cx="377640" cy="383760"/>
                <a:chOff x="6569280" y="2718360"/>
                <a:chExt cx="377640" cy="383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63804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6928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947280" y="2718360"/>
                <a:ext cx="377640" cy="383760"/>
                <a:chOff x="6947280" y="2718360"/>
                <a:chExt cx="377640" cy="3837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01604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94728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325280" y="2718360"/>
                <a:ext cx="377280" cy="383760"/>
                <a:chOff x="7325280" y="2718360"/>
                <a:chExt cx="377280" cy="3837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39368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32528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702920" y="2718360"/>
                <a:ext cx="377640" cy="383760"/>
                <a:chOff x="7702920" y="2718360"/>
                <a:chExt cx="377640" cy="3837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77168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70292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080920" y="2718360"/>
                <a:ext cx="377640" cy="383760"/>
                <a:chOff x="8080920" y="2718360"/>
                <a:chExt cx="377640" cy="3837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8149680" y="27183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080920" y="27183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8458920" y="2718360"/>
                <a:ext cx="377280" cy="383760"/>
                <a:chOff x="8458920" y="2718360"/>
                <a:chExt cx="377280" cy="383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8527320" y="27183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458920" y="27183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33280" y="3102480"/>
                <a:ext cx="2934720" cy="383760"/>
                <a:chOff x="233280" y="3102480"/>
                <a:chExt cx="2934720" cy="3837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02040" y="310248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3.  Mengumpulkan bahan-bahan berkait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3280" y="310248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168360" y="3102480"/>
                <a:ext cx="377640" cy="383760"/>
                <a:chOff x="3168360" y="3102480"/>
                <a:chExt cx="377640" cy="3837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23712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16836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546360" y="3102480"/>
                <a:ext cx="377280" cy="383760"/>
                <a:chOff x="3546360" y="3102480"/>
                <a:chExt cx="377280" cy="3837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1476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54636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924000" y="3102480"/>
                <a:ext cx="377640" cy="383760"/>
                <a:chOff x="3924000" y="3102480"/>
                <a:chExt cx="377640" cy="383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9276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92400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302000" y="3102480"/>
                <a:ext cx="377640" cy="383760"/>
                <a:chOff x="4302000" y="3102480"/>
                <a:chExt cx="377640" cy="3837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302000" y="310248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4302000" y="3102480"/>
                  <a:ext cx="377280" cy="383760"/>
                  <a:chOff x="4302000" y="3102480"/>
                  <a:chExt cx="377280" cy="3837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4370760" y="310248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302000" y="310248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4680000" y="3102480"/>
                <a:ext cx="377280" cy="383760"/>
                <a:chOff x="4680000" y="3102480"/>
                <a:chExt cx="377280" cy="383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680000" y="310248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4680000" y="3102480"/>
                  <a:ext cx="376920" cy="383760"/>
                  <a:chOff x="4680000" y="3102480"/>
                  <a:chExt cx="376920" cy="3837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4748400" y="310248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680000" y="310248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5057640" y="3102480"/>
                <a:ext cx="377640" cy="383760"/>
                <a:chOff x="5057640" y="3102480"/>
                <a:chExt cx="377640" cy="383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057640" y="310248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057640" y="3102480"/>
                  <a:ext cx="377280" cy="383760"/>
                  <a:chOff x="5057640" y="3102480"/>
                  <a:chExt cx="377280" cy="3837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5126400" y="310248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5057640" y="310248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5435640" y="3102480"/>
                <a:ext cx="377640" cy="383760"/>
                <a:chOff x="5435640" y="3102480"/>
                <a:chExt cx="377640" cy="383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50440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43564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813640" y="3102480"/>
                <a:ext cx="377640" cy="383760"/>
                <a:chOff x="5813640" y="3102480"/>
                <a:chExt cx="377640" cy="3837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88240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81364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191640" y="3102480"/>
                <a:ext cx="377280" cy="383760"/>
                <a:chOff x="6191640" y="3102480"/>
                <a:chExt cx="377280" cy="383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26004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19164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569280" y="3102480"/>
                <a:ext cx="377640" cy="383760"/>
                <a:chOff x="6569280" y="3102480"/>
                <a:chExt cx="377640" cy="3837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663804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56928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947280" y="3102480"/>
                <a:ext cx="377640" cy="383760"/>
                <a:chOff x="6947280" y="3102480"/>
                <a:chExt cx="377640" cy="383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01604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94728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325280" y="3102480"/>
                <a:ext cx="377280" cy="383760"/>
                <a:chOff x="7325280" y="3102480"/>
                <a:chExt cx="377280" cy="383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39368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32528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702920" y="3102480"/>
                <a:ext cx="377640" cy="383760"/>
                <a:chOff x="7702920" y="3102480"/>
                <a:chExt cx="377640" cy="383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77168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70292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080920" y="3102480"/>
                <a:ext cx="377640" cy="383760"/>
                <a:chOff x="8080920" y="3102480"/>
                <a:chExt cx="377640" cy="3837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149680" y="310248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080920" y="310248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8458920" y="3102480"/>
                <a:ext cx="377280" cy="383760"/>
                <a:chOff x="8458920" y="3102480"/>
                <a:chExt cx="377280" cy="3837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527320" y="310248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458920" y="310248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233280" y="3486600"/>
                <a:ext cx="2934720" cy="457200"/>
                <a:chOff x="233280" y="3486600"/>
                <a:chExt cx="2934720" cy="457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02040" y="3486600"/>
                  <a:ext cx="279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1360" indent="-171360">
                    <a:buClr>
                      <a:srgbClr val="ffff00"/>
                    </a:buClr>
                    <a:buFont typeface="Times New Roman"/>
                    <a:buAutoNum type="arabicPeriod" startAt="4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Mesyuarat penyelarasan dan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71360" indent="-17136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persediaan 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33280" y="3486600"/>
                  <a:ext cx="293472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168360" y="3486600"/>
                <a:ext cx="377640" cy="457200"/>
                <a:chOff x="3168360" y="3486600"/>
                <a:chExt cx="377640" cy="4572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323712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16836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546360" y="3486600"/>
                <a:ext cx="377280" cy="457200"/>
                <a:chOff x="3546360" y="3486600"/>
                <a:chExt cx="377280" cy="457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1476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54636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24000" y="3486600"/>
                <a:ext cx="377640" cy="457200"/>
                <a:chOff x="3924000" y="3486600"/>
                <a:chExt cx="377640" cy="4572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99276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2400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302000" y="3486600"/>
                <a:ext cx="377640" cy="457200"/>
                <a:chOff x="4302000" y="3486600"/>
                <a:chExt cx="377640" cy="4572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37076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0200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680000" y="3486600"/>
                <a:ext cx="377280" cy="457200"/>
                <a:chOff x="4680000" y="3486600"/>
                <a:chExt cx="377280" cy="45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74840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68000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057640" y="3486600"/>
                <a:ext cx="377640" cy="457200"/>
                <a:chOff x="5057640" y="3486600"/>
                <a:chExt cx="377640" cy="457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57640" y="3486600"/>
                  <a:ext cx="377640" cy="4572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5057640" y="3486600"/>
                  <a:ext cx="377280" cy="457200"/>
                  <a:chOff x="5057640" y="3486600"/>
                  <a:chExt cx="377280" cy="457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5126400" y="3486600"/>
                    <a:ext cx="240120" cy="4572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057640" y="3486600"/>
                    <a:ext cx="3772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5435640" y="3486600"/>
                <a:ext cx="377640" cy="457200"/>
                <a:chOff x="5435640" y="3486600"/>
                <a:chExt cx="377640" cy="457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50440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564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813640" y="3486600"/>
                <a:ext cx="377640" cy="457200"/>
                <a:chOff x="5813640" y="3486600"/>
                <a:chExt cx="377640" cy="457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88240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1364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191640" y="3486600"/>
                <a:ext cx="377280" cy="457200"/>
                <a:chOff x="6191640" y="3486600"/>
                <a:chExt cx="377280" cy="4572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26004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19164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569280" y="3486600"/>
                <a:ext cx="377640" cy="457200"/>
                <a:chOff x="6569280" y="3486600"/>
                <a:chExt cx="377640" cy="4572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63804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6928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947280" y="3486600"/>
                <a:ext cx="377640" cy="457200"/>
                <a:chOff x="6947280" y="3486600"/>
                <a:chExt cx="377640" cy="4572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701604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4728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25280" y="3486600"/>
                <a:ext cx="377280" cy="457200"/>
                <a:chOff x="7325280" y="3486600"/>
                <a:chExt cx="377280" cy="4572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39368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2528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702920" y="3486600"/>
                <a:ext cx="377640" cy="457200"/>
                <a:chOff x="7702920" y="3486600"/>
                <a:chExt cx="377640" cy="4572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77168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70292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8080920" y="3486600"/>
                <a:ext cx="377640" cy="457200"/>
                <a:chOff x="8080920" y="3486600"/>
                <a:chExt cx="377640" cy="4572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8149680" y="3486600"/>
                  <a:ext cx="239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80920" y="3486600"/>
                  <a:ext cx="377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8458920" y="3486600"/>
                <a:ext cx="377280" cy="457200"/>
                <a:chOff x="8458920" y="3486600"/>
                <a:chExt cx="377280" cy="457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527320" y="3486600"/>
                  <a:ext cx="240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458920" y="3486600"/>
                  <a:ext cx="377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33280" y="3943800"/>
                <a:ext cx="2934720" cy="383760"/>
                <a:chOff x="233280" y="3943800"/>
                <a:chExt cx="2934720" cy="3837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02040" y="394380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5.  Menjalankan program/semin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3280" y="394380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168360" y="3943800"/>
                <a:ext cx="377640" cy="383760"/>
                <a:chOff x="3168360" y="3943800"/>
                <a:chExt cx="377640" cy="383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23712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16836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546360" y="3943800"/>
                <a:ext cx="377280" cy="383760"/>
                <a:chOff x="3546360" y="3943800"/>
                <a:chExt cx="377280" cy="3837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61476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4636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924000" y="3943800"/>
                <a:ext cx="377640" cy="383760"/>
                <a:chOff x="3924000" y="3943800"/>
                <a:chExt cx="377640" cy="383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99276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92400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02000" y="3943800"/>
                <a:ext cx="377640" cy="383760"/>
                <a:chOff x="4302000" y="3943800"/>
                <a:chExt cx="377640" cy="3837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7076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0200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4680000" y="3943800"/>
                <a:ext cx="377280" cy="383760"/>
                <a:chOff x="4680000" y="3943800"/>
                <a:chExt cx="377280" cy="383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74840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68000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5057640" y="3943800"/>
                <a:ext cx="377640" cy="383760"/>
                <a:chOff x="5057640" y="3943800"/>
                <a:chExt cx="377640" cy="383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5057640" y="39438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5057640" y="3943800"/>
                  <a:ext cx="377280" cy="383760"/>
                  <a:chOff x="5057640" y="3943800"/>
                  <a:chExt cx="377280" cy="3837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5126400" y="394380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057640" y="39438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5435640" y="3943800"/>
                <a:ext cx="377640" cy="383760"/>
                <a:chOff x="5435640" y="3943800"/>
                <a:chExt cx="377640" cy="3837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435640" y="39438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5435640" y="3943800"/>
                  <a:ext cx="377280" cy="383760"/>
                  <a:chOff x="5435640" y="3943800"/>
                  <a:chExt cx="377280" cy="3837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5504400" y="394380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435640" y="39438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5813640" y="3943800"/>
                <a:ext cx="377640" cy="383760"/>
                <a:chOff x="5813640" y="3943800"/>
                <a:chExt cx="377640" cy="3837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813640" y="394380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813640" y="3943800"/>
                  <a:ext cx="377280" cy="383760"/>
                  <a:chOff x="5813640" y="3943800"/>
                  <a:chExt cx="377280" cy="3837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5882400" y="394380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813640" y="394380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6191640" y="3943800"/>
                <a:ext cx="377280" cy="383760"/>
                <a:chOff x="6191640" y="3943800"/>
                <a:chExt cx="377280" cy="383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191640" y="394380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6191640" y="3943800"/>
                  <a:ext cx="376920" cy="383760"/>
                  <a:chOff x="6191640" y="3943800"/>
                  <a:chExt cx="376920" cy="3837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6260040" y="394380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191640" y="394380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3" name=""/>
              <p:cNvGrpSpPr/>
              <p:nvPr/>
            </p:nvGrpSpPr>
            <p:grpSpPr>
              <a:xfrm>
                <a:off x="6569280" y="3943800"/>
                <a:ext cx="377640" cy="383760"/>
                <a:chOff x="6569280" y="3943800"/>
                <a:chExt cx="377640" cy="383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3804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56928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947280" y="3943800"/>
                <a:ext cx="377640" cy="383760"/>
                <a:chOff x="6947280" y="3943800"/>
                <a:chExt cx="377640" cy="383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01604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4728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325280" y="3943800"/>
                <a:ext cx="377280" cy="383760"/>
                <a:chOff x="7325280" y="3943800"/>
                <a:chExt cx="377280" cy="383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39368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32528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702920" y="3943800"/>
                <a:ext cx="377640" cy="383760"/>
                <a:chOff x="7702920" y="3943800"/>
                <a:chExt cx="377640" cy="383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77168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0292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080920" y="3943800"/>
                <a:ext cx="377640" cy="383760"/>
                <a:chOff x="8080920" y="3943800"/>
                <a:chExt cx="377640" cy="383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149680" y="394380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080920" y="394380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8458920" y="3943800"/>
                <a:ext cx="377280" cy="383760"/>
                <a:chOff x="8458920" y="3943800"/>
                <a:chExt cx="377280" cy="383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527320" y="394380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458920" y="394380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33280" y="4327920"/>
                <a:ext cx="2934720" cy="383760"/>
                <a:chOff x="233280" y="4327920"/>
                <a:chExt cx="2934720" cy="383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02040" y="432792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1360" indent="-17136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6.  Analisis dan penulisan penilaian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33280" y="432792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168360" y="4327920"/>
                <a:ext cx="377640" cy="383760"/>
                <a:chOff x="3168360" y="4327920"/>
                <a:chExt cx="377640" cy="383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23712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16836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546360" y="4327920"/>
                <a:ext cx="377280" cy="383760"/>
                <a:chOff x="3546360" y="4327920"/>
                <a:chExt cx="377280" cy="383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61476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54636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3924000" y="4327920"/>
                <a:ext cx="377640" cy="383760"/>
                <a:chOff x="3924000" y="4327920"/>
                <a:chExt cx="377640" cy="383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99276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92400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302000" y="4327920"/>
                <a:ext cx="377640" cy="383760"/>
                <a:chOff x="4302000" y="4327920"/>
                <a:chExt cx="377640" cy="383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37076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30200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680000" y="4327920"/>
                <a:ext cx="377280" cy="383760"/>
                <a:chOff x="4680000" y="4327920"/>
                <a:chExt cx="377280" cy="383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74840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68000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057640" y="4327920"/>
                <a:ext cx="377640" cy="383760"/>
                <a:chOff x="5057640" y="4327920"/>
                <a:chExt cx="377640" cy="383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12640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05764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5435640" y="4327920"/>
                <a:ext cx="377640" cy="383760"/>
                <a:chOff x="5435640" y="4327920"/>
                <a:chExt cx="377640" cy="3837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50440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43564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813640" y="4327920"/>
                <a:ext cx="377640" cy="383760"/>
                <a:chOff x="5813640" y="4327920"/>
                <a:chExt cx="377640" cy="383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88240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81364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191640" y="4327920"/>
                <a:ext cx="377280" cy="383760"/>
                <a:chOff x="6191640" y="4327920"/>
                <a:chExt cx="377280" cy="3837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191640" y="432792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6191640" y="4327920"/>
                  <a:ext cx="376920" cy="383760"/>
                  <a:chOff x="6191640" y="4327920"/>
                  <a:chExt cx="376920" cy="38376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6260040" y="432792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191640" y="432792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6569280" y="4327920"/>
                <a:ext cx="377640" cy="383760"/>
                <a:chOff x="6569280" y="4327920"/>
                <a:chExt cx="377640" cy="3837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569280" y="432792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6569280" y="4327920"/>
                  <a:ext cx="377280" cy="383760"/>
                  <a:chOff x="6569280" y="4327920"/>
                  <a:chExt cx="377280" cy="3837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6638040" y="432792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569280" y="432792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6947280" y="4327920"/>
                <a:ext cx="377640" cy="383760"/>
                <a:chOff x="6947280" y="4327920"/>
                <a:chExt cx="377640" cy="3837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947280" y="432792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6947280" y="4327920"/>
                  <a:ext cx="377280" cy="383760"/>
                  <a:chOff x="6947280" y="4327920"/>
                  <a:chExt cx="377280" cy="3837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016040" y="432792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947280" y="432792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7325280" y="4327920"/>
                <a:ext cx="377280" cy="383760"/>
                <a:chOff x="7325280" y="4327920"/>
                <a:chExt cx="377280" cy="383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39368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32528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702920" y="4327920"/>
                <a:ext cx="377640" cy="383760"/>
                <a:chOff x="7702920" y="4327920"/>
                <a:chExt cx="377640" cy="3837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777168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70292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8080920" y="4327920"/>
                <a:ext cx="377640" cy="383760"/>
                <a:chOff x="8080920" y="4327920"/>
                <a:chExt cx="377640" cy="3837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8149680" y="4327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80920" y="4327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8458920" y="4327920"/>
                <a:ext cx="377280" cy="383760"/>
                <a:chOff x="8458920" y="4327920"/>
                <a:chExt cx="377280" cy="3837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527320" y="4327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458920" y="4327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33280" y="4712040"/>
                <a:ext cx="2934720" cy="383760"/>
                <a:chOff x="233280" y="4712040"/>
                <a:chExt cx="2934720" cy="3837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02040" y="471204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7.  Pemurniaan lapor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33280" y="471204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168360" y="4712040"/>
                <a:ext cx="377640" cy="383760"/>
                <a:chOff x="3168360" y="4712040"/>
                <a:chExt cx="377640" cy="3837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23712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16836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3546360" y="4712040"/>
                <a:ext cx="377280" cy="383760"/>
                <a:chOff x="3546360" y="4712040"/>
                <a:chExt cx="377280" cy="3837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61476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54636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924000" y="4712040"/>
                <a:ext cx="377640" cy="383760"/>
                <a:chOff x="3924000" y="4712040"/>
                <a:chExt cx="377640" cy="3837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99276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92400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4302000" y="4712040"/>
                <a:ext cx="377640" cy="383760"/>
                <a:chOff x="4302000" y="4712040"/>
                <a:chExt cx="377640" cy="3837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37076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30200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4680000" y="4712040"/>
                <a:ext cx="377280" cy="383760"/>
                <a:chOff x="4680000" y="4712040"/>
                <a:chExt cx="377280" cy="3837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74840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68000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5057640" y="4712040"/>
                <a:ext cx="377640" cy="383760"/>
                <a:chOff x="5057640" y="4712040"/>
                <a:chExt cx="377640" cy="3837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512640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05764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435640" y="4712040"/>
                <a:ext cx="377640" cy="383760"/>
                <a:chOff x="5435640" y="4712040"/>
                <a:chExt cx="377640" cy="3837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50440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43564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5813640" y="4712040"/>
                <a:ext cx="377640" cy="383760"/>
                <a:chOff x="5813640" y="4712040"/>
                <a:chExt cx="377640" cy="3837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88240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81364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191640" y="4712040"/>
                <a:ext cx="377280" cy="383760"/>
                <a:chOff x="6191640" y="4712040"/>
                <a:chExt cx="377280" cy="3837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6004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19164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569280" y="4712040"/>
                <a:ext cx="377640" cy="383760"/>
                <a:chOff x="6569280" y="4712040"/>
                <a:chExt cx="377640" cy="3837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63804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56928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947280" y="4712040"/>
                <a:ext cx="377640" cy="383760"/>
                <a:chOff x="6947280" y="4712040"/>
                <a:chExt cx="377640" cy="3837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01604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94728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325280" y="4712040"/>
                <a:ext cx="377280" cy="383760"/>
                <a:chOff x="7325280" y="4712040"/>
                <a:chExt cx="377280" cy="3837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325280" y="471204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7325280" y="4712040"/>
                  <a:ext cx="376920" cy="383760"/>
                  <a:chOff x="7325280" y="4712040"/>
                  <a:chExt cx="376920" cy="3837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393680" y="471204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325280" y="471204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7702920" y="4712040"/>
                <a:ext cx="377640" cy="383760"/>
                <a:chOff x="7702920" y="4712040"/>
                <a:chExt cx="377640" cy="3837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7702920" y="471204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" name=""/>
                <p:cNvGrpSpPr/>
                <p:nvPr/>
              </p:nvGrpSpPr>
              <p:grpSpPr>
                <a:xfrm>
                  <a:off x="7702920" y="4712040"/>
                  <a:ext cx="377280" cy="383760"/>
                  <a:chOff x="7702920" y="4712040"/>
                  <a:chExt cx="377280" cy="3837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7771680" y="471204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702920" y="471204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1" name=""/>
              <p:cNvGrpSpPr/>
              <p:nvPr/>
            </p:nvGrpSpPr>
            <p:grpSpPr>
              <a:xfrm>
                <a:off x="8080920" y="4712040"/>
                <a:ext cx="377640" cy="383760"/>
                <a:chOff x="8080920" y="4712040"/>
                <a:chExt cx="377640" cy="3837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8149680" y="471204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080920" y="471204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8458920" y="4712040"/>
                <a:ext cx="377280" cy="383760"/>
                <a:chOff x="8458920" y="4712040"/>
                <a:chExt cx="377280" cy="3837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8527320" y="471204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458920" y="471204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233280" y="5096160"/>
                <a:ext cx="2934720" cy="383760"/>
                <a:chOff x="233280" y="5096160"/>
                <a:chExt cx="2934720" cy="3837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02040" y="509616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8.  Pembentangan dalam mesyuarat J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</a:rPr>
                    <a:t>peringkat daerah/neger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33280" y="509616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3168360" y="5096160"/>
                <a:ext cx="377640" cy="383760"/>
                <a:chOff x="3168360" y="5096160"/>
                <a:chExt cx="377640" cy="3837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23712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16836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3546360" y="5096160"/>
                <a:ext cx="377280" cy="383760"/>
                <a:chOff x="3546360" y="5096160"/>
                <a:chExt cx="377280" cy="3837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61476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54636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924000" y="5096160"/>
                <a:ext cx="377640" cy="383760"/>
                <a:chOff x="3924000" y="5096160"/>
                <a:chExt cx="377640" cy="3837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99276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92400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302000" y="5096160"/>
                <a:ext cx="377640" cy="383760"/>
                <a:chOff x="4302000" y="5096160"/>
                <a:chExt cx="377640" cy="3837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37076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30200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4680000" y="5096160"/>
                <a:ext cx="377280" cy="383760"/>
                <a:chOff x="4680000" y="5096160"/>
                <a:chExt cx="377280" cy="3837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474840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68000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5057640" y="5096160"/>
                <a:ext cx="377640" cy="383760"/>
                <a:chOff x="5057640" y="5096160"/>
                <a:chExt cx="377640" cy="383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512640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05764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5435640" y="5096160"/>
                <a:ext cx="377640" cy="383760"/>
                <a:chOff x="5435640" y="5096160"/>
                <a:chExt cx="377640" cy="3837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50440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43564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5813640" y="5096160"/>
                <a:ext cx="377640" cy="383760"/>
                <a:chOff x="5813640" y="5096160"/>
                <a:chExt cx="377640" cy="383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88240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81364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6191640" y="5096160"/>
                <a:ext cx="377280" cy="383760"/>
                <a:chOff x="6191640" y="5096160"/>
                <a:chExt cx="377280" cy="3837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26004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19164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6569280" y="5096160"/>
                <a:ext cx="377640" cy="383760"/>
                <a:chOff x="6569280" y="5096160"/>
                <a:chExt cx="377640" cy="383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663804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6928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6947280" y="5096160"/>
                <a:ext cx="377640" cy="383760"/>
                <a:chOff x="6947280" y="5096160"/>
                <a:chExt cx="377640" cy="3837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01604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94728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7325280" y="5096160"/>
                <a:ext cx="377280" cy="383760"/>
                <a:chOff x="7325280" y="5096160"/>
                <a:chExt cx="377280" cy="383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739368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32528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7702920" y="5096160"/>
                <a:ext cx="377640" cy="383760"/>
                <a:chOff x="7702920" y="5096160"/>
                <a:chExt cx="377640" cy="3837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7771680" y="509616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02920" y="509616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8080920" y="5096160"/>
                <a:ext cx="377640" cy="383760"/>
                <a:chOff x="8080920" y="5096160"/>
                <a:chExt cx="377640" cy="3837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8080920" y="5096160"/>
                  <a:ext cx="37764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1" name=""/>
                <p:cNvGrpSpPr/>
                <p:nvPr/>
              </p:nvGrpSpPr>
              <p:grpSpPr>
                <a:xfrm>
                  <a:off x="8080920" y="5096160"/>
                  <a:ext cx="377280" cy="383760"/>
                  <a:chOff x="8080920" y="5096160"/>
                  <a:chExt cx="377280" cy="383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8149680" y="5096160"/>
                    <a:ext cx="23976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8080920" y="5096160"/>
                    <a:ext cx="37728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4" name=""/>
              <p:cNvGrpSpPr/>
              <p:nvPr/>
            </p:nvGrpSpPr>
            <p:grpSpPr>
              <a:xfrm>
                <a:off x="8458920" y="5096160"/>
                <a:ext cx="377280" cy="383760"/>
                <a:chOff x="8458920" y="5096160"/>
                <a:chExt cx="377280" cy="3837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527320" y="509616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58920" y="509616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233280" y="5479920"/>
                <a:ext cx="2934720" cy="383760"/>
                <a:chOff x="233280" y="5479920"/>
                <a:chExt cx="2934720" cy="383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2040" y="5479920"/>
                  <a:ext cx="279684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8600" indent="-228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9.  Pembentangan dalam seminar kebangsa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228600" indent="-228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33280" y="5479920"/>
                  <a:ext cx="2934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3168360" y="5479920"/>
                <a:ext cx="377640" cy="383760"/>
                <a:chOff x="3168360" y="5479920"/>
                <a:chExt cx="377640" cy="3837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323712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16836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3546360" y="5479920"/>
                <a:ext cx="377280" cy="383760"/>
                <a:chOff x="3546360" y="5479920"/>
                <a:chExt cx="377280" cy="383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361476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54636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3924000" y="5479920"/>
                <a:ext cx="377640" cy="383760"/>
                <a:chOff x="3924000" y="5479920"/>
                <a:chExt cx="377640" cy="3837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99276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92400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4302000" y="5479920"/>
                <a:ext cx="377640" cy="383760"/>
                <a:chOff x="4302000" y="5479920"/>
                <a:chExt cx="377640" cy="383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37076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30200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680000" y="5479920"/>
                <a:ext cx="377280" cy="383760"/>
                <a:chOff x="4680000" y="5479920"/>
                <a:chExt cx="377280" cy="3837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74840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8000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057640" y="5479920"/>
                <a:ext cx="377640" cy="383760"/>
                <a:chOff x="5057640" y="5479920"/>
                <a:chExt cx="377640" cy="3837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12640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05764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435640" y="5479920"/>
                <a:ext cx="377640" cy="383760"/>
                <a:chOff x="5435640" y="5479920"/>
                <a:chExt cx="377640" cy="3837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550440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43564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813640" y="5479920"/>
                <a:ext cx="377640" cy="383760"/>
                <a:chOff x="5813640" y="5479920"/>
                <a:chExt cx="377640" cy="3837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88240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81364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6191640" y="5479920"/>
                <a:ext cx="377280" cy="383760"/>
                <a:chOff x="6191640" y="5479920"/>
                <a:chExt cx="377280" cy="3837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26004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19164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569280" y="5479920"/>
                <a:ext cx="377640" cy="383760"/>
                <a:chOff x="6569280" y="5479920"/>
                <a:chExt cx="377640" cy="3837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63804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6928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947280" y="5479920"/>
                <a:ext cx="377640" cy="383760"/>
                <a:chOff x="6947280" y="5479920"/>
                <a:chExt cx="377640" cy="3837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701604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94728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7325280" y="5479920"/>
                <a:ext cx="377280" cy="383760"/>
                <a:chOff x="7325280" y="5479920"/>
                <a:chExt cx="377280" cy="3837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393680" y="5479920"/>
                  <a:ext cx="2401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325280" y="5479920"/>
                  <a:ext cx="3772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7702920" y="5479920"/>
                <a:ext cx="377640" cy="383760"/>
                <a:chOff x="7702920" y="5479920"/>
                <a:chExt cx="377640" cy="3837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77168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70292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8080920" y="5479920"/>
                <a:ext cx="377640" cy="383760"/>
                <a:chOff x="8080920" y="5479920"/>
                <a:chExt cx="377640" cy="3837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8149680" y="5479920"/>
                  <a:ext cx="239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080920" y="5479920"/>
                  <a:ext cx="37764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8458920" y="5479920"/>
                <a:ext cx="377280" cy="383760"/>
                <a:chOff x="8458920" y="5479920"/>
                <a:chExt cx="377280" cy="3837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8458920" y="5479920"/>
                  <a:ext cx="377280" cy="3837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8458920" y="5479920"/>
                  <a:ext cx="376920" cy="383760"/>
                  <a:chOff x="8458920" y="5479920"/>
                  <a:chExt cx="376920" cy="3837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8527320" y="5479920"/>
                    <a:ext cx="240120" cy="383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458920" y="5479920"/>
                    <a:ext cx="376920" cy="383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97" name=""/>
            <p:cNvSpPr/>
            <p:nvPr/>
          </p:nvSpPr>
          <p:spPr>
            <a:xfrm>
              <a:off x="228600" y="1600200"/>
              <a:ext cx="861336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304920"/>
            <a:ext cx="990360" cy="914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752480" y="533520"/>
            <a:ext cx="7162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NILAIAN KE ATAS PELAN TINDAKAN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0" name=""/>
          <p:cNvSpPr/>
          <p:nvPr/>
        </p:nvSpPr>
        <p:spPr>
          <a:xfrm>
            <a:off x="533520" y="1219320"/>
            <a:ext cx="8305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MIMPIN ORGANISASI PERLU ADA KAEDAH UN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ILAI SESUATU H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NGKAT AWAL PERANCANGAN STRATEG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AKHIR.  PERINGKAT AKHIR ADALA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TERJEMAHKAN PELAN KEPADA TINDA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N MENENTUKAN TINDAKAN SETERUSNY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DASARKAN PENILAIAN KE ATAS H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6002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266688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2209680" cy="99036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5410080"/>
            <a:ext cx="609480" cy="381240"/>
          </a:xfrm>
          <a:custGeom>
            <a:avLst/>
            <a:gdLst>
              <a:gd name="textAreaLeft" fmla="*/ 7596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4495680"/>
            <a:ext cx="5638680" cy="2133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PUTUSAN KE ATAS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EH DITERUS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LU SEDIKIT UBAHSU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LU DIROM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EH DITAMATK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1600200" y="990720"/>
            <a:ext cx="556272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FLEKSI</a:t>
            </a:r>
            <a:endParaRPr b="0" lang="en-US" sz="2400" spc="1" strike="noStrike">
              <a:ln w="12600">
                <a:solidFill>
                  <a:srgbClr val="66ff33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"/>
          <p:cNvSpPr/>
          <p:nvPr/>
        </p:nvSpPr>
        <p:spPr>
          <a:xfrm>
            <a:off x="9907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AHKAH ANDA MEMAHAMI DAN BOLE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ERANGKAN SEMULA BEBERAPA H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TANG PERANCANGAN STRATEGIK SEPER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ONSEP,  LANGKAH SERTA PROSES BERKAITA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NERANGAN BERIKUT INI DIHARAP D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AMBAHKAN LAGI KEFAHAMAN TENT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STRATEGIK DAN BOLE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LAKSANAKAN DALAM ORGANISASI A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23623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41911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09480" y="22860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RATEGI UNTUK KEJAYA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BATKAN RAMAI STAF DALAM MENENTU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JUAN DAN MATLA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BAIKI KOMUNIKASI DAN BINA KER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RPASUKAN DI KALANGAN ST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NALPASTI APA YANG TERPENTING UN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 : JELASKAN TUJUANN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LAN TINDAKAN MESTI BOLEH DIUK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JUDKAN RASA BERSAMA DALAM PR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UAT KEPUTU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533520" y="457200"/>
            <a:ext cx="83055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LA PERANCANGAN STRATEGIK GAG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 TIADA KAWALAN KE ATAS BUDG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DAK SERTA SEPANJANG PROSES DAN TI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OLEH MEMBUAT KEPUTU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HANYA SEBAGAI ILUSI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JIAN SEMULA SESEBUAH 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LA HANYA SEBAGAI PROSES MENGUMP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LUMAT YANG BERPANJAN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RLALU RIGID DAN TIDAK MENGAMBILK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UBAHAN DALAMAN DAN LUA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1523880" y="2209680"/>
            <a:ext cx="63248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KIAN TERIMA KASIH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" y="541008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Mohamad Nor Bin Mohamad Taib ( Dr. NorTai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BPPDP/Julai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E-mail: nortaib@hot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1295800">
            <a:off x="0" y="456840"/>
            <a:ext cx="5029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ANCANGAN STRATEGI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295280"/>
            <a:ext cx="693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TU PROSES YANG BERSTRUKTUR UNTUK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JELASKAN DAN/ATAU MEMASTIKAN MATLA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NALPASTI BIDANG KRITIKAL BERASAS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SEKITARAN DALAMAN DAN LUA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SET HASIL/KEPUTUSAN YANG DIINGI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IBATKAN STAF YANG BERTANGGUNG JAW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AKSANAKAN SESUATU TUGAS YANG AK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AWA KEPADA PROSES MEMBUAT KEPUTU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INTERGRASIKAN PELAN ORGANISASI DE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ANCANGAN DAN BUDGET ORGANISAS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81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62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0292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43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RGANISASI = PANITIA PENDIDIKAN ISL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ERSATUAN GURU P.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EL HUBUNGAN PERANCANGAN STRATEG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NGAN ORGANISASI JURULATIH UT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0666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ADAN BERKU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1905120"/>
            <a:ext cx="2743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RANCANG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STRATEG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3352680"/>
            <a:ext cx="20574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NDA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20574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572000"/>
            <a:ext cx="20574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44792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C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RIK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36232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ANJA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144792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LAI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43828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KHIDMA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RU P.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429000"/>
            <a:ext cx="198144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UNGA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1523880"/>
            <a:ext cx="0" cy="38124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819520"/>
            <a:ext cx="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962520"/>
            <a:ext cx="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828800"/>
            <a:ext cx="761760" cy="38088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10360" y="2367000"/>
            <a:ext cx="799200" cy="2952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95240" y="2817360"/>
            <a:ext cx="888120" cy="79524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73560" y="1914480"/>
            <a:ext cx="731160" cy="4374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68160" y="2583360"/>
            <a:ext cx="741240" cy="25632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2819520"/>
            <a:ext cx="685800" cy="76176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61800" y="723960"/>
            <a:ext cx="8401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PERANCANGAN BESTARI (SMART PLANNING)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505320"/>
            <a:ext cx="2210040" cy="990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M.A.R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495680"/>
            <a:ext cx="221004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495680"/>
            <a:ext cx="221004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666880"/>
            <a:ext cx="22096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905120"/>
            <a:ext cx="2209680" cy="990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590920"/>
            <a:ext cx="236232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9718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3672800">
            <a:off x="2895480" y="403848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7848800">
            <a:off x="2819520" y="32760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7719600">
            <a:off x="5638320" y="4038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601800">
            <a:off x="5715000" y="312408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380880"/>
            <a:ext cx="78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ff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ERANCANGAN STRATEGIK DI SEKOLAH:</a:t>
            </a:r>
            <a:endParaRPr b="0" i="1" lang="en-US" sz="2000" spc="1" strike="noStrike">
              <a:ln w="9360">
                <a:solidFill>
                  <a:srgbClr val="ccff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ELIBAT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ANGKA MASA YANG PANJ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A DEPAN SEKOL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END MASA DEPAN KEADAAN DI LUAR SEKOL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BER SEMASA DAN SUMBER MASA DE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KEBAI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FAKTOR-FAKTOR PEN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LUMAT DAN REAKSI DARI KUMPULAN BE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PERANCANGAN KESELURU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PELUANG DAN KEKAN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NALPASTI DENGAN MUDAH KEPUT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TEGIK DAN KEPUTUSAN 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TAHUI KRITIKAN MEMBINA ORANG 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533520"/>
            <a:ext cx="8077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66ff33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8 LANGKAH DALAM PROSES PERANCANGAN STRATEGIK</a:t>
            </a:r>
            <a:endParaRPr b="0" lang="en-US" sz="2000" spc="1" strike="noStrike">
              <a:ln w="9360">
                <a:solidFill>
                  <a:srgbClr val="66ff33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762120"/>
            <a:ext cx="838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A-PERANCANGAN:  KENAPA MERANCA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APA AKAN MERANCA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PERNYATAAN MI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ISIS S.W.O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GENALPASTI ‘KEY RESULT AREAS’ (K.R.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MATLAMAT/KEPUTUSAN Y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INGINI DALAM LINGKUNGAN K.R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ENTUK PELAN TINDA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LAKSANAKAN PELAN TINDA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NILAI HASIL DARIPADA PELAN TINDAK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838080"/>
            <a:ext cx="5715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SES PRA-PERANCANGAN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  DAPATKAN SOKONGAN KAKITANGAN P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TANG NILAI PERANCANGAN STRATEG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  DAPATKAN SOKONGAN SEMUA KAKITAN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 MEMBINA KOMITMEN SUMBER:  KEWANGAN D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 MEMBINA JADUAL DAN JANGKA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1143000" cy="990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48720" y="6400800"/>
            <a:ext cx="10285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ORTAIB/EPRD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2f005e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228600"/>
            <a:ext cx="1218960" cy="1143000"/>
          </a:xfrm>
          <a:custGeom>
            <a:avLst/>
            <a:gdLst>
              <a:gd name="textAreaLeft" fmla="*/ 278280 w 1218960"/>
              <a:gd name="textAreaRight" fmla="*/ 940680 w 1218960"/>
              <a:gd name="textAreaTop" fmla="*/ 261000 h 1143000"/>
              <a:gd name="textAreaBottom" fmla="*/ 88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33720" y="304920"/>
            <a:ext cx="6429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MBENTUK PERNYATAAN MISI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(MISSION STATEMENT)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523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IAP ORGANISASI PERLU MENJAWAB SOA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APA K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 YANG KITA BUAT DAN UNTUK SI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NAPA DAN BAGAIMANA IA DILAKUK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20040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ALAN-SOALAN YANG BOLEH MELIBATKAN RAM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F DALAM PERBINCANGA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APA K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KEPERLUAN ASAS YANG PERL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GANISASI PENU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YANG PERLU DIBUAT UNTUK MEMENUH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NTUTAN ATAU MENYELESAIKAN MASALA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GAIMANA KITA RESPON KEPADA PELANG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FALSAFAH DAN NILAI UTAMA K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AKAH YANG MENYEBABKAN ORGANISASI ITU UNIK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00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00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21:26:54Z</dcterms:created>
  <dc:creator>DR. MOHD. NOR</dc:creator>
  <dc:description/>
  <dc:language>en-US</dc:language>
  <cp:lastModifiedBy>Windows XP</cp:lastModifiedBy>
  <cp:lastPrinted>2000-10-03T03:19:50Z</cp:lastPrinted>
  <dcterms:modified xsi:type="dcterms:W3CDTF">2003-08-13T05:42:26Z</dcterms:modified>
  <cp:revision>56</cp:revision>
  <dc:subject/>
  <dc:title>PowerPoint Presentation</dc:title>
</cp:coreProperties>
</file>